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9871075" cy="6735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0" y="0"/>
            <a:ext cx="9871200" cy="673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dt" idx="13"/>
          </p:nvPr>
        </p:nvSpPr>
        <p:spPr>
          <a:xfrm>
            <a:off x="558972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sldImg"/>
          </p:nvPr>
        </p:nvSpPr>
        <p:spPr>
          <a:xfrm>
            <a:off x="3254040" y="506160"/>
            <a:ext cx="3365640" cy="2523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body"/>
          </p:nvPr>
        </p:nvSpPr>
        <p:spPr>
          <a:xfrm>
            <a:off x="985320" y="3200400"/>
            <a:ext cx="789804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ftr" idx="14"/>
          </p:nvPr>
        </p:nvSpPr>
        <p:spPr>
          <a:xfrm>
            <a:off x="0" y="639720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 type="sldNum" idx="15"/>
          </p:nvPr>
        </p:nvSpPr>
        <p:spPr>
          <a:xfrm>
            <a:off x="5589720" y="639720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7BDC2-805F-4871-948A-5B560ABB700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5589720" y="6397560"/>
            <a:ext cx="42782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0F851-4DCD-42DC-A350-E9DEAEC130D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3254400" y="506520"/>
            <a:ext cx="3365640" cy="252396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985320" y="3200400"/>
            <a:ext cx="789804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7"/>
          <p:cNvSpPr/>
          <p:nvPr/>
        </p:nvSpPr>
        <p:spPr>
          <a:xfrm>
            <a:off x="5589720" y="6397560"/>
            <a:ext cx="42782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0DF3B-787E-4BB1-BE13-102C954F070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3254400" y="506520"/>
            <a:ext cx="3365640" cy="252396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85320" y="3200400"/>
            <a:ext cx="7898040" cy="30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5589720" y="6397560"/>
            <a:ext cx="42782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A543-FF92-4196-B3E2-58AA8BF3A67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70320" cy="252756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85320" y="3200400"/>
            <a:ext cx="789804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5589720" y="6397560"/>
            <a:ext cx="42782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DDEAC-57F8-4235-89C4-409C00C3331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3254400" y="506520"/>
            <a:ext cx="3367080" cy="252576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1316160" y="3200400"/>
            <a:ext cx="7237440" cy="30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buClr>
                <a:srgbClr val="2b2b81"/>
              </a:buClr>
              <a:buFont typeface="PragmaticaCT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2b2b81"/>
                </a:solidFill>
                <a:latin typeface="PragmaticaCTT"/>
              </a:rPr>
              <a:t>Развитие бюджета Красноярского края характеризуется постоянным ростом объема доходов и расходов бюджета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buClr>
                <a:srgbClr val="2b2b81"/>
              </a:buClr>
              <a:buFont typeface="PragmaticaCT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2b2b81"/>
                </a:solidFill>
                <a:latin typeface="PragmaticaCTT"/>
              </a:rPr>
              <a:t>Размер дефицита не превышает 15% объемов доходов  края без учета финансовой помощи  из федерального бюджета (ст. 92 Бюджетного кодекса РФ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buClr>
                <a:srgbClr val="2b2b81"/>
              </a:buClr>
              <a:buFont typeface="PragmaticaCT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2b2b81"/>
                </a:solidFill>
                <a:latin typeface="PragmaticaCTT"/>
              </a:rPr>
              <a:t>В 2003 г. дефицит бюджета Красноярского края сложился в сумме -3 480,4 млрд.рублей. (10,7% от доходов без финансовой помощи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buClr>
                <a:srgbClr val="2b2b81"/>
              </a:buClr>
              <a:buFont typeface="PragmaticaCT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2b2b81"/>
                </a:solidFill>
                <a:latin typeface="PragmaticaCTT"/>
              </a:rPr>
              <a:t>Покрытие дефицита бюджета 2003 г. осуществляется за счет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2b2b81"/>
                </a:solidFill>
                <a:latin typeface="Monotype Sorts"/>
                <a:ea typeface="Monotype Sorts"/>
              </a:rPr>
              <a:t></a:t>
            </a:r>
            <a:r>
              <a:rPr b="0" lang="ru-RU" sz="800" spc="-1" strike="noStrike">
                <a:solidFill>
                  <a:srgbClr val="2b2b81"/>
                </a:solidFill>
                <a:latin typeface="PragmaticaCTT"/>
              </a:rPr>
              <a:t> </a:t>
            </a:r>
            <a:r>
              <a:rPr b="0" lang="ru-RU" sz="800" spc="-1" strike="noStrike">
                <a:solidFill>
                  <a:srgbClr val="2b2b81"/>
                </a:solidFill>
                <a:latin typeface="PragmaticaCTT"/>
              </a:rPr>
              <a:t>банковских кредитов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2b2b81"/>
                </a:solidFill>
                <a:latin typeface="Monotype Sorts"/>
                <a:ea typeface="Monotype Sorts"/>
              </a:rPr>
              <a:t></a:t>
            </a:r>
            <a:r>
              <a:rPr b="0" lang="ru-RU" sz="800" spc="-1" strike="noStrike">
                <a:solidFill>
                  <a:srgbClr val="2b2b81"/>
                </a:solidFill>
                <a:latin typeface="PragmaticaCTT"/>
              </a:rPr>
              <a:t> </a:t>
            </a:r>
            <a:r>
              <a:rPr b="0" lang="ru-RU" sz="800" spc="-1" strike="noStrike">
                <a:solidFill>
                  <a:srgbClr val="2b2b81"/>
                </a:solidFill>
                <a:latin typeface="PragmaticaCTT"/>
              </a:rPr>
              <a:t>выпуска облигаций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2b2b81"/>
                </a:solidFill>
                <a:latin typeface="Monotype Sorts"/>
                <a:ea typeface="Monotype Sorts"/>
              </a:rPr>
              <a:t></a:t>
            </a:r>
            <a:r>
              <a:rPr b="0" lang="ru-RU" sz="800" spc="-1" strike="noStrike">
                <a:solidFill>
                  <a:srgbClr val="2b2b81"/>
                </a:solidFill>
                <a:latin typeface="PragmaticaCTT"/>
              </a:rPr>
              <a:t> </a:t>
            </a:r>
            <a:r>
              <a:rPr b="0" lang="ru-RU" sz="800" spc="-1" strike="noStrike">
                <a:solidFill>
                  <a:srgbClr val="2b2b81"/>
                </a:solidFill>
                <a:latin typeface="PragmaticaCTT"/>
              </a:rPr>
              <a:t>продажи государственного и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2b2b81"/>
                </a:solidFill>
                <a:latin typeface="PragmaticaCTT"/>
              </a:rPr>
              <a:t>     </a:t>
            </a:r>
            <a:r>
              <a:rPr b="0" lang="ru-RU" sz="800" spc="-1" strike="noStrike">
                <a:solidFill>
                  <a:srgbClr val="2b2b81"/>
                </a:solidFill>
                <a:latin typeface="PragmaticaCTT"/>
              </a:rPr>
              <a:t>муниципального имуществ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7"/>
          <p:cNvSpPr/>
          <p:nvPr/>
        </p:nvSpPr>
        <p:spPr>
          <a:xfrm>
            <a:off x="5589720" y="6397560"/>
            <a:ext cx="42782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0E68D-97F9-41B1-8F0E-AC3FD017BF0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70320" cy="252756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985320" y="3200400"/>
            <a:ext cx="789804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7"/>
          <p:cNvSpPr/>
          <p:nvPr/>
        </p:nvSpPr>
        <p:spPr>
          <a:xfrm>
            <a:off x="5589720" y="6397560"/>
            <a:ext cx="42782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DE360-4984-4A59-A597-5C5BA50BB55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70320" cy="252756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85320" y="3200400"/>
            <a:ext cx="789804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7"/>
          <p:cNvSpPr/>
          <p:nvPr/>
        </p:nvSpPr>
        <p:spPr>
          <a:xfrm>
            <a:off x="5589720" y="6397560"/>
            <a:ext cx="42782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62F37-D40B-4F61-9F38-D57D4ABD0DB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3254400" y="506520"/>
            <a:ext cx="3367080" cy="252576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1316160" y="3200400"/>
            <a:ext cx="7237440" cy="30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buClr>
                <a:srgbClr val="2b2b81"/>
              </a:buClr>
              <a:buFont typeface="PragmaticaCT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2b2b81"/>
                </a:solidFill>
                <a:latin typeface="PragmaticaCTT"/>
              </a:rPr>
              <a:t>Развитие бюджета Красноярского края характеризуется постоянным ростом объема доходов и расходов бюджета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buClr>
                <a:srgbClr val="2b2b81"/>
              </a:buClr>
              <a:buFont typeface="PragmaticaCT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2b2b81"/>
                </a:solidFill>
                <a:latin typeface="PragmaticaCTT"/>
              </a:rPr>
              <a:t>Размер дефицита не превышает 15% объемов доходов  края без учета финансовой помощи  из федерального бюджета (ст. 92 Бюджетного кодекса РФ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buClr>
                <a:srgbClr val="2b2b81"/>
              </a:buClr>
              <a:buFont typeface="PragmaticaCT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2b2b81"/>
                </a:solidFill>
                <a:latin typeface="PragmaticaCTT"/>
              </a:rPr>
              <a:t>В 2003 г. дефицит бюджета Красноярского края сложился в сумме -3 480,4 млрд.рублей. (10,7% от доходов без финансовой помощи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buClr>
                <a:srgbClr val="2b2b81"/>
              </a:buClr>
              <a:buFont typeface="PragmaticaCT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2b2b81"/>
                </a:solidFill>
                <a:latin typeface="PragmaticaCTT"/>
              </a:rPr>
              <a:t>Покрытие дефицита бюджета 2003 г. осуществляется за счет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2b2b81"/>
                </a:solidFill>
                <a:latin typeface="Monotype Sorts"/>
                <a:ea typeface="Monotype Sorts"/>
              </a:rPr>
              <a:t></a:t>
            </a:r>
            <a:r>
              <a:rPr b="0" lang="ru-RU" sz="800" spc="-1" strike="noStrike">
                <a:solidFill>
                  <a:srgbClr val="2b2b81"/>
                </a:solidFill>
                <a:latin typeface="PragmaticaCTT"/>
              </a:rPr>
              <a:t> </a:t>
            </a:r>
            <a:r>
              <a:rPr b="0" lang="ru-RU" sz="800" spc="-1" strike="noStrike">
                <a:solidFill>
                  <a:srgbClr val="2b2b81"/>
                </a:solidFill>
                <a:latin typeface="PragmaticaCTT"/>
              </a:rPr>
              <a:t>банковских кредитов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2b2b81"/>
                </a:solidFill>
                <a:latin typeface="Monotype Sorts"/>
                <a:ea typeface="Monotype Sorts"/>
              </a:rPr>
              <a:t></a:t>
            </a:r>
            <a:r>
              <a:rPr b="0" lang="ru-RU" sz="800" spc="-1" strike="noStrike">
                <a:solidFill>
                  <a:srgbClr val="2b2b81"/>
                </a:solidFill>
                <a:latin typeface="PragmaticaCTT"/>
              </a:rPr>
              <a:t> </a:t>
            </a:r>
            <a:r>
              <a:rPr b="0" lang="ru-RU" sz="800" spc="-1" strike="noStrike">
                <a:solidFill>
                  <a:srgbClr val="2b2b81"/>
                </a:solidFill>
                <a:latin typeface="PragmaticaCTT"/>
              </a:rPr>
              <a:t>выпуска облигаций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2b2b81"/>
                </a:solidFill>
                <a:latin typeface="Monotype Sorts"/>
                <a:ea typeface="Monotype Sorts"/>
              </a:rPr>
              <a:t></a:t>
            </a:r>
            <a:r>
              <a:rPr b="0" lang="ru-RU" sz="800" spc="-1" strike="noStrike">
                <a:solidFill>
                  <a:srgbClr val="2b2b81"/>
                </a:solidFill>
                <a:latin typeface="PragmaticaCTT"/>
              </a:rPr>
              <a:t> </a:t>
            </a:r>
            <a:r>
              <a:rPr b="0" lang="ru-RU" sz="800" spc="-1" strike="noStrike">
                <a:solidFill>
                  <a:srgbClr val="2b2b81"/>
                </a:solidFill>
                <a:latin typeface="PragmaticaCTT"/>
              </a:rPr>
              <a:t>продажи государственного и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2b2b81"/>
                </a:solidFill>
                <a:latin typeface="PragmaticaCTT"/>
              </a:rPr>
              <a:t>     </a:t>
            </a:r>
            <a:r>
              <a:rPr b="0" lang="ru-RU" sz="800" spc="-1" strike="noStrike">
                <a:solidFill>
                  <a:srgbClr val="2b2b81"/>
                </a:solidFill>
                <a:latin typeface="PragmaticaCTT"/>
              </a:rPr>
              <a:t>муниципального имуществ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7"/>
          <p:cNvSpPr/>
          <p:nvPr/>
        </p:nvSpPr>
        <p:spPr>
          <a:xfrm>
            <a:off x="5589720" y="6397560"/>
            <a:ext cx="42782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47507-D5B5-48F8-B711-BA6C85384DB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3254400" y="506520"/>
            <a:ext cx="3367080" cy="252576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1316160" y="3200400"/>
            <a:ext cx="7237440" cy="30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buClr>
                <a:srgbClr val="2b2b81"/>
              </a:buClr>
              <a:buFont typeface="PragmaticaCT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2b2b81"/>
                </a:solidFill>
                <a:latin typeface="PragmaticaCTT"/>
              </a:rPr>
              <a:t>Развитие бюджета Красноярского края характеризуется постоянным ростом объема доходов и расходов бюджета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buClr>
                <a:srgbClr val="2b2b81"/>
              </a:buClr>
              <a:buFont typeface="PragmaticaCT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2b2b81"/>
                </a:solidFill>
                <a:latin typeface="PragmaticaCTT"/>
              </a:rPr>
              <a:t>Размер дефицита не превышает 15% объемов доходов  края без учета финансовой помощи  из федерального бюджета (ст. 92 Бюджетного кодекса РФ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buClr>
                <a:srgbClr val="2b2b81"/>
              </a:buClr>
              <a:buFont typeface="PragmaticaCT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2b2b81"/>
                </a:solidFill>
                <a:latin typeface="PragmaticaCTT"/>
              </a:rPr>
              <a:t>В 2003 г. дефицит бюджета Красноярского края сложился в сумме -3 480,4 млрд.рублей. (10,7% от доходов без финансовой помощи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buClr>
                <a:srgbClr val="2b2b81"/>
              </a:buClr>
              <a:buFont typeface="PragmaticaCT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2b2b81"/>
                </a:solidFill>
                <a:latin typeface="PragmaticaCTT"/>
              </a:rPr>
              <a:t>Покрытие дефицита бюджета 2003 г. осуществляется за счет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2b2b81"/>
                </a:solidFill>
                <a:latin typeface="Monotype Sorts"/>
                <a:ea typeface="Monotype Sorts"/>
              </a:rPr>
              <a:t></a:t>
            </a:r>
            <a:r>
              <a:rPr b="0" lang="ru-RU" sz="800" spc="-1" strike="noStrike">
                <a:solidFill>
                  <a:srgbClr val="2b2b81"/>
                </a:solidFill>
                <a:latin typeface="PragmaticaCTT"/>
              </a:rPr>
              <a:t> </a:t>
            </a:r>
            <a:r>
              <a:rPr b="0" lang="ru-RU" sz="800" spc="-1" strike="noStrike">
                <a:solidFill>
                  <a:srgbClr val="2b2b81"/>
                </a:solidFill>
                <a:latin typeface="PragmaticaCTT"/>
              </a:rPr>
              <a:t>банковских кредитов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2b2b81"/>
                </a:solidFill>
                <a:latin typeface="Monotype Sorts"/>
                <a:ea typeface="Monotype Sorts"/>
              </a:rPr>
              <a:t></a:t>
            </a:r>
            <a:r>
              <a:rPr b="0" lang="ru-RU" sz="800" spc="-1" strike="noStrike">
                <a:solidFill>
                  <a:srgbClr val="2b2b81"/>
                </a:solidFill>
                <a:latin typeface="PragmaticaCTT"/>
              </a:rPr>
              <a:t> </a:t>
            </a:r>
            <a:r>
              <a:rPr b="0" lang="ru-RU" sz="800" spc="-1" strike="noStrike">
                <a:solidFill>
                  <a:srgbClr val="2b2b81"/>
                </a:solidFill>
                <a:latin typeface="PragmaticaCTT"/>
              </a:rPr>
              <a:t>выпуска облигаций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2b2b81"/>
                </a:solidFill>
                <a:latin typeface="Monotype Sorts"/>
                <a:ea typeface="Monotype Sorts"/>
              </a:rPr>
              <a:t></a:t>
            </a:r>
            <a:r>
              <a:rPr b="0" lang="ru-RU" sz="800" spc="-1" strike="noStrike">
                <a:solidFill>
                  <a:srgbClr val="2b2b81"/>
                </a:solidFill>
                <a:latin typeface="PragmaticaCTT"/>
              </a:rPr>
              <a:t> </a:t>
            </a:r>
            <a:r>
              <a:rPr b="0" lang="ru-RU" sz="800" spc="-1" strike="noStrike">
                <a:solidFill>
                  <a:srgbClr val="2b2b81"/>
                </a:solidFill>
                <a:latin typeface="PragmaticaCTT"/>
              </a:rPr>
              <a:t>продажи государственного и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2b2b81"/>
                </a:solidFill>
                <a:latin typeface="PragmaticaCTT"/>
              </a:rPr>
              <a:t>     </a:t>
            </a:r>
            <a:r>
              <a:rPr b="0" lang="ru-RU" sz="800" spc="-1" strike="noStrike">
                <a:solidFill>
                  <a:srgbClr val="2b2b81"/>
                </a:solidFill>
                <a:latin typeface="PragmaticaCTT"/>
              </a:rPr>
              <a:t>муниципального имуществ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8C05-5C76-4FB9-AED4-BAAE22FFE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50920" y="375696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FC4A-FEF7-43B2-88FB-9B2A43AA9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928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32A4-D826-4B69-ACAC-B25E99240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7304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5092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7304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480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D9F7-DB17-40C5-864E-162888E8D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50920" y="1160640"/>
            <a:ext cx="8642160" cy="49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864216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250920" y="277560"/>
            <a:ext cx="864216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50920" y="1160640"/>
            <a:ext cx="8642160" cy="49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2D40-C13A-48B1-A351-D96446547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928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50920" y="375696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928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17304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25092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17304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9480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250920" y="1160640"/>
            <a:ext cx="8642160" cy="49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864216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864216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4C26-565D-4D61-A2A9-832A77B56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250920" y="277560"/>
            <a:ext cx="864216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928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250920" y="375696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928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17304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9480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25092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17304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9480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100C0-B910-4EDB-A1A4-99663DBEA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250920" y="1160640"/>
            <a:ext cx="8642160" cy="49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E4A34-60A3-4109-A935-69581381F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864216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95C1B-65B1-4AA6-8B8C-25524FC4B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5558-665B-4EDD-AF82-2DD3CB9F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20F5F-D19C-4A4B-AA12-06D0D2E80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FE152-8520-44BC-93EF-5951BA25F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250920" y="277560"/>
            <a:ext cx="864216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D8EF8-27B5-4365-BB18-F4DF81CC3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B6DE1-7317-4053-A14E-A0448E4F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928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B3288-86C5-4E00-8771-428C4690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B8A70-C2A9-4F34-AB56-023B4A07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250920" y="375696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F5F0F-7C73-45AC-8161-A32B76C10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928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606AC-0CB9-47B4-9595-AE52114BA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17304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9480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25092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17304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9480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1145C-12EE-403A-BCEE-3321C3A57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5A5D4-5726-4D72-A504-0615F670C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C701-713F-4A49-AC8D-1A19A54D7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250920" y="1160640"/>
            <a:ext cx="8642160" cy="49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D7454-C950-4CFD-B9A0-90C6AEEFB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864216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13A9B-4992-4BD1-AE99-DC034B783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99B52-5DF1-4186-8976-7729388DA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0A6E8-5E43-4664-9BF4-C1D50DD37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250920" y="277560"/>
            <a:ext cx="864216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577B7-E575-4B5C-A54D-126AC0540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26D99-6245-4A13-9935-5380999F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928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73259-9072-4D71-83E7-5B951B66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F2BE7-D5E2-463E-B120-DF043D97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250920" y="375696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D8486-305C-448D-A0C4-860F833AC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928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9092F-F402-4CA7-B408-849E75B5F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50920" y="277560"/>
            <a:ext cx="864216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E9C0-8285-4CA4-A666-8B47F85BD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17304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9480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25092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17304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9480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A8261-3A4B-4881-BBD3-C94798136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5AF7F-8077-43AF-9421-11EB334AF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250920" y="1160640"/>
            <a:ext cx="8642160" cy="49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7BA89-455D-42CD-94CF-D6FA1A998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864216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574E7-F8FC-4719-B97E-6D28B67D3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5911A-877F-4663-98E0-E57D5FD7E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C9E04-DBD3-44E4-A218-AB52F3B76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250920" y="277560"/>
            <a:ext cx="864216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103A8-35C9-44A1-B7DE-8762E425F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FAE9E-7A2C-42ED-854C-D4190BDC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7928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2582E-AC3F-49D6-8A79-000DB0F6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18A01-F129-4002-9443-BDDF9E82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69A8-B74A-4F4D-A869-2DE3760B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250920" y="375696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6D79E-3C18-4F26-95E0-6B21EFBB1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7928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6830C-F94F-4E9E-9EB3-B0DC98B56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17304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25092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17304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09480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12CA3-4B54-4418-99DD-642397F56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928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530F-41C0-410F-8A9D-5CEBE460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107B-37AB-4456-9FA2-9B03EA98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000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BEC3-E660-48F0-8319-42053142168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000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2360" y="277560"/>
            <a:ext cx="863928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252360" y="1160640"/>
            <a:ext cx="8639280" cy="497016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9900"/>
              </a:buClr>
              <a:buSzPct val="150000"/>
              <a:buFont typeface="Wingdings" charset="2"/>
              <a:buChar char="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2600">
              <a:spcBef>
                <a:spcPts val="799"/>
              </a:spcBef>
              <a:buClr>
                <a:srgbClr val="ffff99"/>
              </a:buClr>
              <a:buSzPct val="120000"/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1560" indent="-2286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8840" indent="-2300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8840" indent="-2300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8840" indent="-2300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b8a6e"/>
            </a:gs>
            <a:gs pos="100000">
              <a:srgbClr val="48562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60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2e371c"/>
                </a:gs>
                <a:gs pos="100000">
                  <a:srgbClr val="48562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364121"/>
                </a:gs>
                <a:gs pos="100000">
                  <a:srgbClr val="48562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48562c"/>
                </a:gs>
                <a:gs pos="100000">
                  <a:srgbClr val="54643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45522b"/>
                </a:gs>
                <a:gs pos="100000">
                  <a:srgbClr val="54643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54643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546434"/>
                </a:gs>
                <a:gs pos="100000">
                  <a:srgbClr val="5969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2e371c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48562c"/>
                </a:gs>
                <a:gs pos="100000">
                  <a:srgbClr val="54643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30391d"/>
                </a:gs>
                <a:gs pos="100000">
                  <a:srgbClr val="48562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3b4624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546434"/>
                </a:gs>
                <a:gs pos="100000">
                  <a:srgbClr val="5e6d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272e18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2b331b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394423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546434"/>
                </a:gs>
                <a:gs pos="100000">
                  <a:srgbClr val="63724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485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30391d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323c1f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485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354021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47552c"/>
                </a:gs>
                <a:gs pos="100000">
                  <a:srgbClr val="54643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293119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47552c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394423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303a1e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6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97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3d4926"/>
                  </a:gs>
                  <a:gs pos="100000">
                    <a:srgbClr val="54643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546434"/>
                  </a:gs>
                  <a:gs pos="100000">
                    <a:srgbClr val="63724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250920" y="1160640"/>
            <a:ext cx="864216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5b3b1"/>
              </a:buClr>
              <a:buSzPct val="15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000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38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4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75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51F3F-D685-4FEC-BA5E-F49CB2ECE88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000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319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5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56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52360" y="277560"/>
            <a:ext cx="863928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252360" y="1160640"/>
            <a:ext cx="8639280" cy="497016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9900"/>
              </a:buClr>
              <a:buSzPct val="150000"/>
              <a:buFont typeface="Wingdings" charset="2"/>
              <a:buChar char="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2600">
              <a:spcBef>
                <a:spcPts val="799"/>
              </a:spcBef>
              <a:buClr>
                <a:srgbClr val="ffff99"/>
              </a:buClr>
              <a:buSzPct val="120000"/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1560" indent="-2286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8840" indent="-2300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8840" indent="-2300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8840" indent="-2300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C753A-6CC3-4CC9-A2DA-B5D82602DCC2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b8a6e"/>
            </a:gs>
            <a:gs pos="100000">
              <a:srgbClr val="48562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400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2e371c"/>
                </a:gs>
                <a:gs pos="100000">
                  <a:srgbClr val="48562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364121"/>
                </a:gs>
                <a:gs pos="100000">
                  <a:srgbClr val="48562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48562c"/>
                </a:gs>
                <a:gs pos="100000">
                  <a:srgbClr val="54643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45522b"/>
                </a:gs>
                <a:gs pos="100000">
                  <a:srgbClr val="54643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54643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546434"/>
                </a:gs>
                <a:gs pos="100000">
                  <a:srgbClr val="5969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2e371c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48562c"/>
                </a:gs>
                <a:gs pos="100000">
                  <a:srgbClr val="54643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30391d"/>
                </a:gs>
                <a:gs pos="100000">
                  <a:srgbClr val="48562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3b4624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546434"/>
                </a:gs>
                <a:gs pos="100000">
                  <a:srgbClr val="5e6d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272e18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2b331b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394423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546434"/>
                </a:gs>
                <a:gs pos="100000">
                  <a:srgbClr val="63724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485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30391d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323c1f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485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354021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47552c"/>
                </a:gs>
                <a:gs pos="100000">
                  <a:srgbClr val="54643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293119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47552c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394423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303a1e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6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437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3d4926"/>
                  </a:gs>
                  <a:gs pos="100000">
                    <a:srgbClr val="54643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546434"/>
                  </a:gs>
                  <a:gs pos="100000">
                    <a:srgbClr val="63724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250920" y="1160640"/>
            <a:ext cx="864216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5b3b1"/>
              </a:buClr>
              <a:buSzPct val="15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F0005-731E-4FBC-87E7-AF2CA677506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129440" cy="132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spcBef>
                <a:spcPts val="2001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юджет для граждан Краснотуранского района на 2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4 год и плановый период 2015-2016 годов</a:t>
            </a:r>
            <a:br>
              <a:rPr sz="2000"/>
            </a:b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488" name="Picture 11" descr="F:\Бюджет для граждан 2014 год\krasturan.gif"/>
          <p:cNvPicPr/>
          <p:nvPr/>
        </p:nvPicPr>
        <p:blipFill>
          <a:blip r:embed="rId1"/>
          <a:stretch/>
        </p:blipFill>
        <p:spPr>
          <a:xfrm>
            <a:off x="2714760" y="1643040"/>
            <a:ext cx="3571920" cy="438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10920" y="-360"/>
            <a:ext cx="799308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99"/>
                </a:solidFill>
                <a:latin typeface="Arial"/>
              </a:rPr>
              <a:t>Единые нормативы отчислений в местные бюджеты</a:t>
            </a: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699" name=""/>
          <p:cNvGraphicFramePr/>
          <p:nvPr/>
        </p:nvGraphicFramePr>
        <p:xfrm>
          <a:off x="468360" y="1341360"/>
          <a:ext cx="8364600" cy="5143680"/>
        </p:xfrm>
        <a:graphic>
          <a:graphicData uri="http://schemas.openxmlformats.org/drawingml/2006/table">
            <a:tbl>
              <a:tblPr/>
              <a:tblGrid>
                <a:gridCol w="4260960"/>
                <a:gridCol w="1114200"/>
                <a:gridCol w="828720"/>
                <a:gridCol w="184320"/>
                <a:gridCol w="685800"/>
                <a:gridCol w="245880"/>
                <a:gridCol w="1044720"/>
              </a:tblGrid>
              <a:tr h="452520">
                <a:tc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1" lang="ru-RU" sz="16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Кра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Райо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Посел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0720">
                <a:tc gridSpan="2">
                  <a:txBody>
                    <a:bodyPr lIns="91080" rIns="9108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лог на доходы физических ли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452520">
                <a:tc gridSpan="2">
                  <a:txBody>
                    <a:bodyPr lIns="91080" rIns="9108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лог на прибыль организац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452520">
                <a:tc gridSpan="2">
                  <a:txBody>
                    <a:bodyPr lIns="91080" rIns="9108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ый налог на вмененный дох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450720">
                <a:tc gridSpan="2">
                  <a:txBody>
                    <a:bodyPr lIns="91080" rIns="9108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ый сельскохозяйственный нало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452520">
                <a:tc gridSpan="2">
                  <a:txBody>
                    <a:bodyPr lIns="91080" rIns="9108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лог на имущество физических ли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579600">
                <a:tc gridSpan="2">
                  <a:txBody>
                    <a:bodyPr lIns="91080" rIns="9108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сударственная пошлина по делам, рассматриваемыми в судах общей юрисдик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452160">
                <a:tc gridSpan="2">
                  <a:txBody>
                    <a:bodyPr lIns="91080" rIns="9108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емельный нало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578520">
                <a:tc gridSpan="2">
                  <a:txBody>
                    <a:bodyPr lIns="91080" rIns="9108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ходы от арендной платы за государственные земли поселен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821880">
                <a:tc gridSpan="2">
                  <a:txBody>
                    <a:bodyPr lIns="91080" rIns="9108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ходы от продажи земельных участков, государственная собственность на которые не разграниче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0" name="Line 73"/>
          <p:cNvSpPr/>
          <p:nvPr/>
        </p:nvSpPr>
        <p:spPr>
          <a:xfrm>
            <a:off x="306360" y="798480"/>
            <a:ext cx="86137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5" dur="2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Text Box 2"/>
          <p:cNvSpPr/>
          <p:nvPr/>
        </p:nvSpPr>
        <p:spPr>
          <a:xfrm>
            <a:off x="395280" y="0"/>
            <a:ext cx="820908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300" spc="-1" strike="noStrike">
                <a:solidFill>
                  <a:srgbClr val="ffffcc"/>
                </a:solidFill>
                <a:latin typeface="Arial"/>
              </a:rPr>
              <a:t>Формирование доходов и расходов поселений на 20</a:t>
            </a:r>
            <a:r>
              <a:rPr b="0" lang="en-US" sz="23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ru-RU" sz="2300" spc="-1" strike="noStrike">
                <a:solidFill>
                  <a:srgbClr val="ffffcc"/>
                </a:solidFill>
                <a:latin typeface="Arial"/>
              </a:rPr>
              <a:t>4 год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Line 9"/>
          <p:cNvSpPr/>
          <p:nvPr/>
        </p:nvSpPr>
        <p:spPr>
          <a:xfrm>
            <a:off x="306360" y="851040"/>
            <a:ext cx="86137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Rectangle 11"/>
          <p:cNvSpPr/>
          <p:nvPr/>
        </p:nvSpPr>
        <p:spPr>
          <a:xfrm>
            <a:off x="7380360" y="1125360"/>
            <a:ext cx="1439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млн. руб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04" name="Object 22"/>
          <p:cNvGraphicFramePr/>
          <p:nvPr/>
        </p:nvGraphicFramePr>
        <p:xfrm>
          <a:off x="-2700360" y="-603360"/>
          <a:ext cx="13716000" cy="819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5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700360" y="-603360"/>
                    <a:ext cx="13716000" cy="819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6" name="Rectangle 23"/>
          <p:cNvSpPr/>
          <p:nvPr/>
        </p:nvSpPr>
        <p:spPr>
          <a:xfrm>
            <a:off x="5724360" y="5950080"/>
            <a:ext cx="2160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ежбюджетны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рансферт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Rectangle 24"/>
          <p:cNvSpPr/>
          <p:nvPr/>
        </p:nvSpPr>
        <p:spPr>
          <a:xfrm>
            <a:off x="4500720" y="3716280"/>
            <a:ext cx="17794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бственны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ход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Rectangle 25"/>
          <p:cNvSpPr/>
          <p:nvPr/>
        </p:nvSpPr>
        <p:spPr>
          <a:xfrm>
            <a:off x="2771640" y="2276640"/>
            <a:ext cx="2159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отации из районног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онд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инансовой поддержк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селени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AutoShape 66"/>
          <p:cNvSpPr/>
          <p:nvPr/>
        </p:nvSpPr>
        <p:spPr>
          <a:xfrm>
            <a:off x="711360" y="5734080"/>
            <a:ext cx="1692000" cy="609480"/>
          </a:xfrm>
          <a:prstGeom prst="borderCallout1">
            <a:avLst>
              <a:gd name="adj1" fmla="val 18750"/>
              <a:gd name="adj2" fmla="val -8333"/>
              <a:gd name="adj3" fmla="val -42967"/>
              <a:gd name="adj4" fmla="val 19381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убвенция по передаваемым полномочия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Line 92"/>
          <p:cNvSpPr/>
          <p:nvPr/>
        </p:nvSpPr>
        <p:spPr>
          <a:xfrm>
            <a:off x="4572000" y="5516640"/>
            <a:ext cx="136836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Line 99"/>
          <p:cNvSpPr/>
          <p:nvPr/>
        </p:nvSpPr>
        <p:spPr>
          <a:xfrm flipV="1">
            <a:off x="2268360" y="5589360"/>
            <a:ext cx="179892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3" dur="2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нформация    подготовлена    на  основании    Решения Краснотуранского районного Совета депутатов  «О районном бюджете  на 2014 год и плановый период 2015-2016 годов». В информации просто и доступно рассказывается о районном бюджете: его основных характеристиках,   статьях  расходов.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териалы подготовлены Финансовым управлением Администрации Краснотуранского  райо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Line 4"/>
          <p:cNvSpPr/>
          <p:nvPr/>
        </p:nvSpPr>
        <p:spPr>
          <a:xfrm>
            <a:off x="306360" y="1163520"/>
            <a:ext cx="86137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Принципы формирования расходов  бюджета</a:t>
            </a:r>
            <a:br>
              <a:rPr sz="2800"/>
            </a:b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на 20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4 год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74"/>
              </a:spcBef>
              <a:buClr>
                <a:srgbClr val="ff99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e7f6ff"/>
                </a:solidFill>
                <a:latin typeface="Arial"/>
              </a:rPr>
              <a:t>Индексация прочих расходов на 5 %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74"/>
              </a:spcBef>
              <a:buClr>
                <a:srgbClr val="ff99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e7f6ff"/>
                </a:solidFill>
                <a:latin typeface="Arial"/>
              </a:rPr>
              <a:t>Снижение расходов на закупку товаров, работ и услуг для муниципальных нужд       на 5 %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74"/>
              </a:spcBef>
              <a:buClr>
                <a:srgbClr val="ff99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e7f6ff"/>
                </a:solidFill>
                <a:latin typeface="Arial"/>
              </a:rPr>
              <a:t>Увеличение фонда оплаты труда работников бюджетной сферы с 1 октября 2014 года на 5%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74"/>
              </a:spcBef>
              <a:buClr>
                <a:srgbClr val="ff99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e7f6ff"/>
                </a:solidFill>
                <a:latin typeface="Arial"/>
              </a:rPr>
              <a:t>Увеличение фонда оплаты труда выборных должностных лиц и муниципальных служащих на 5,0% с 1 октября 2014 года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74"/>
              </a:spcBef>
              <a:buClr>
                <a:srgbClr val="ff99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e7f6ff"/>
                </a:solidFill>
                <a:latin typeface="Arial"/>
              </a:rPr>
              <a:t>Индексация расходов на коммунальные услуги на 10,5%  (при этом указанные расходы должны быть скорректированы  на ожидаемую экономию бюджетных средств от внедрения энергосберегающих технологий на 3%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74"/>
              </a:spcBef>
              <a:buClr>
                <a:srgbClr val="ff99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e7f6ff"/>
                </a:solidFill>
                <a:latin typeface="Arial"/>
              </a:rPr>
              <a:t>Обеспечение увеличения фонда оплаты труда в соответствии с указом Президента РФ на 10% с 1 января 2014 года за счет перераспределения расходов  внутри отрасли педагогическим работникам учреждений дополнительного образования детей и работникам учреждений культуры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Line 6"/>
          <p:cNvSpPr/>
          <p:nvPr/>
        </p:nvSpPr>
        <p:spPr>
          <a:xfrm>
            <a:off x="306360" y="1163520"/>
            <a:ext cx="86137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4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4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4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4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 Box 2"/>
          <p:cNvSpPr/>
          <p:nvPr/>
        </p:nvSpPr>
        <p:spPr>
          <a:xfrm>
            <a:off x="7164360" y="1052640"/>
            <a:ext cx="1682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лн. руб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35164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Основные параметры районного бюджета МО «Краснотуранский  район» на 2014 год и плановый период 2015-2016 гг.</a:t>
            </a:r>
            <a:endParaRPr b="1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7" name="Line 12"/>
          <p:cNvSpPr/>
          <p:nvPr/>
        </p:nvSpPr>
        <p:spPr>
          <a:xfrm>
            <a:off x="306360" y="798480"/>
            <a:ext cx="86137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8" name="Group 102"/>
          <p:cNvGrpSpPr/>
          <p:nvPr/>
        </p:nvGrpSpPr>
        <p:grpSpPr>
          <a:xfrm>
            <a:off x="324000" y="1052640"/>
            <a:ext cx="2288160" cy="243720"/>
            <a:chOff x="324000" y="1052640"/>
            <a:chExt cx="2288160" cy="243720"/>
          </a:xfrm>
        </p:grpSpPr>
        <p:pic>
          <p:nvPicPr>
            <p:cNvPr id="499" name="Picture 41" descr=""/>
            <p:cNvPicPr/>
            <p:nvPr/>
          </p:nvPicPr>
          <p:blipFill>
            <a:blip r:embed="rId1"/>
            <a:stretch/>
          </p:blipFill>
          <p:spPr>
            <a:xfrm>
              <a:off x="324000" y="1100160"/>
              <a:ext cx="123840" cy="1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Rectangle 42"/>
            <p:cNvSpPr/>
            <p:nvPr/>
          </p:nvSpPr>
          <p:spPr>
            <a:xfrm>
              <a:off x="324000" y="1100160"/>
              <a:ext cx="123840" cy="123840"/>
            </a:xfrm>
            <a:prstGeom prst="rect">
              <a:avLst/>
            </a:pr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Rectangle 43"/>
            <p:cNvSpPr/>
            <p:nvPr/>
          </p:nvSpPr>
          <p:spPr>
            <a:xfrm>
              <a:off x="546120" y="1052640"/>
              <a:ext cx="806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Доходы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02" name="Picture 44" descr=""/>
            <p:cNvPicPr/>
            <p:nvPr/>
          </p:nvPicPr>
          <p:blipFill>
            <a:blip r:embed="rId2"/>
            <a:stretch/>
          </p:blipFill>
          <p:spPr>
            <a:xfrm>
              <a:off x="1492200" y="1090440"/>
              <a:ext cx="123840" cy="1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Rectangle 45"/>
            <p:cNvSpPr/>
            <p:nvPr/>
          </p:nvSpPr>
          <p:spPr>
            <a:xfrm>
              <a:off x="1492200" y="1090440"/>
              <a:ext cx="123840" cy="1238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Rectangle 46"/>
            <p:cNvSpPr/>
            <p:nvPr/>
          </p:nvSpPr>
          <p:spPr>
            <a:xfrm>
              <a:off x="1712160" y="1052640"/>
              <a:ext cx="900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Расходы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5" name="Line 27"/>
          <p:cNvSpPr/>
          <p:nvPr/>
        </p:nvSpPr>
        <p:spPr>
          <a:xfrm flipV="1">
            <a:off x="582480" y="5697360"/>
            <a:ext cx="8021880" cy="50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6" name="Picture 123" descr=""/>
          <p:cNvPicPr/>
          <p:nvPr/>
        </p:nvPicPr>
        <p:blipFill>
          <a:blip r:embed="rId3"/>
          <a:stretch/>
        </p:blipFill>
        <p:spPr>
          <a:xfrm>
            <a:off x="1187280" y="3718080"/>
            <a:ext cx="947880" cy="194292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125"/>
          <p:cNvSpPr/>
          <p:nvPr/>
        </p:nvSpPr>
        <p:spPr>
          <a:xfrm flipV="1" rot="10678800">
            <a:off x="1157040" y="3353400"/>
            <a:ext cx="884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680,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Line 126"/>
          <p:cNvSpPr/>
          <p:nvPr/>
        </p:nvSpPr>
        <p:spPr>
          <a:xfrm flipV="1">
            <a:off x="2765520" y="5692680"/>
            <a:ext cx="3240" cy="6192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127" descr=""/>
          <p:cNvPicPr/>
          <p:nvPr/>
        </p:nvPicPr>
        <p:blipFill>
          <a:blip r:embed="rId4"/>
          <a:stretch/>
        </p:blipFill>
        <p:spPr>
          <a:xfrm>
            <a:off x="2119320" y="3716280"/>
            <a:ext cx="934920" cy="195444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128"/>
          <p:cNvSpPr/>
          <p:nvPr/>
        </p:nvSpPr>
        <p:spPr>
          <a:xfrm>
            <a:off x="2119320" y="3716280"/>
            <a:ext cx="934920" cy="1954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Rectangle 129"/>
          <p:cNvSpPr/>
          <p:nvPr/>
        </p:nvSpPr>
        <p:spPr>
          <a:xfrm>
            <a:off x="2146320" y="3357720"/>
            <a:ext cx="1009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680,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Rectangle 130"/>
          <p:cNvSpPr/>
          <p:nvPr/>
        </p:nvSpPr>
        <p:spPr>
          <a:xfrm>
            <a:off x="1737000" y="5845320"/>
            <a:ext cx="843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014 го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3" name="Picture 138" descr=""/>
          <p:cNvPicPr/>
          <p:nvPr/>
        </p:nvPicPr>
        <p:blipFill>
          <a:blip r:embed="rId5"/>
          <a:stretch/>
        </p:blipFill>
        <p:spPr>
          <a:xfrm>
            <a:off x="3621240" y="2925720"/>
            <a:ext cx="936360" cy="2736720"/>
          </a:xfrm>
          <a:prstGeom prst="rect">
            <a:avLst/>
          </a:prstGeom>
          <a:ln w="0">
            <a:noFill/>
          </a:ln>
        </p:spPr>
      </p:pic>
      <p:sp>
        <p:nvSpPr>
          <p:cNvPr id="514" name="Rectangle 139"/>
          <p:cNvSpPr/>
          <p:nvPr/>
        </p:nvSpPr>
        <p:spPr>
          <a:xfrm>
            <a:off x="3621240" y="2925720"/>
            <a:ext cx="936360" cy="2736720"/>
          </a:xfrm>
          <a:prstGeom prst="rect">
            <a:avLst/>
          </a:pr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Rectangle 140"/>
          <p:cNvSpPr/>
          <p:nvPr/>
        </p:nvSpPr>
        <p:spPr>
          <a:xfrm flipV="1" rot="10678800">
            <a:off x="3620880" y="2703960"/>
            <a:ext cx="884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710,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Line 141"/>
          <p:cNvSpPr/>
          <p:nvPr/>
        </p:nvSpPr>
        <p:spPr>
          <a:xfrm flipV="1">
            <a:off x="5164200" y="5692680"/>
            <a:ext cx="3240" cy="6192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7" name="Picture 142" descr=""/>
          <p:cNvPicPr/>
          <p:nvPr/>
        </p:nvPicPr>
        <p:blipFill>
          <a:blip r:embed="rId6"/>
          <a:stretch/>
        </p:blipFill>
        <p:spPr>
          <a:xfrm>
            <a:off x="4548240" y="2924280"/>
            <a:ext cx="888840" cy="2744640"/>
          </a:xfrm>
          <a:prstGeom prst="rect">
            <a:avLst/>
          </a:prstGeom>
          <a:ln w="0">
            <a:noFill/>
          </a:ln>
        </p:spPr>
      </p:pic>
      <p:sp>
        <p:nvSpPr>
          <p:cNvPr id="518" name="Rectangle 143"/>
          <p:cNvSpPr/>
          <p:nvPr/>
        </p:nvSpPr>
        <p:spPr>
          <a:xfrm>
            <a:off x="4500720" y="2924280"/>
            <a:ext cx="936360" cy="2744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Rectangle 144"/>
          <p:cNvSpPr/>
          <p:nvPr/>
        </p:nvSpPr>
        <p:spPr>
          <a:xfrm>
            <a:off x="4548240" y="2708280"/>
            <a:ext cx="1009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710,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145"/>
          <p:cNvSpPr/>
          <p:nvPr/>
        </p:nvSpPr>
        <p:spPr>
          <a:xfrm>
            <a:off x="4135680" y="5845320"/>
            <a:ext cx="843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015 го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1" name="Picture 148" descr=""/>
          <p:cNvPicPr/>
          <p:nvPr/>
        </p:nvPicPr>
        <p:blipFill>
          <a:blip r:embed="rId7"/>
          <a:stretch/>
        </p:blipFill>
        <p:spPr>
          <a:xfrm>
            <a:off x="6084720" y="2421000"/>
            <a:ext cx="901800" cy="3313080"/>
          </a:xfrm>
          <a:prstGeom prst="rect">
            <a:avLst/>
          </a:prstGeom>
          <a:ln w="0">
            <a:noFill/>
          </a:ln>
        </p:spPr>
      </p:pic>
      <p:sp>
        <p:nvSpPr>
          <p:cNvPr id="522" name="Rectangle 150"/>
          <p:cNvSpPr/>
          <p:nvPr/>
        </p:nvSpPr>
        <p:spPr>
          <a:xfrm>
            <a:off x="6161040" y="2070000"/>
            <a:ext cx="1003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722,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Line 151"/>
          <p:cNvSpPr/>
          <p:nvPr/>
        </p:nvSpPr>
        <p:spPr>
          <a:xfrm flipV="1">
            <a:off x="7664400" y="5692680"/>
            <a:ext cx="3240" cy="6192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Picture 152" descr=""/>
          <p:cNvPicPr/>
          <p:nvPr/>
        </p:nvPicPr>
        <p:blipFill>
          <a:blip r:embed="rId8"/>
          <a:stretch/>
        </p:blipFill>
        <p:spPr>
          <a:xfrm>
            <a:off x="7020000" y="2421000"/>
            <a:ext cx="936720" cy="324792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153"/>
          <p:cNvSpPr/>
          <p:nvPr/>
        </p:nvSpPr>
        <p:spPr>
          <a:xfrm>
            <a:off x="7054920" y="2421000"/>
            <a:ext cx="901800" cy="3240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154"/>
          <p:cNvSpPr/>
          <p:nvPr/>
        </p:nvSpPr>
        <p:spPr>
          <a:xfrm flipV="1" rot="10858200">
            <a:off x="6587640" y="2059920"/>
            <a:ext cx="2016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722,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Rectangle 155"/>
          <p:cNvSpPr/>
          <p:nvPr/>
        </p:nvSpPr>
        <p:spPr>
          <a:xfrm>
            <a:off x="6636240" y="5845320"/>
            <a:ext cx="843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016 го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Rectangle 157"/>
          <p:cNvSpPr/>
          <p:nvPr/>
        </p:nvSpPr>
        <p:spPr>
          <a:xfrm>
            <a:off x="6064200" y="2421000"/>
            <a:ext cx="955800" cy="3249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158"/>
          <p:cNvSpPr/>
          <p:nvPr/>
        </p:nvSpPr>
        <p:spPr>
          <a:xfrm>
            <a:off x="3635280" y="2924280"/>
            <a:ext cx="865440" cy="2744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Rectangle 160"/>
          <p:cNvSpPr/>
          <p:nvPr/>
        </p:nvSpPr>
        <p:spPr>
          <a:xfrm>
            <a:off x="1187280" y="3716280"/>
            <a:ext cx="935280" cy="1954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950"/>
                            </p:stCondLst>
                            <p:childTnLst>
                              <p:par>
                                <p:cTn id="1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818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99"/>
                </a:solidFill>
                <a:latin typeface="Arial"/>
              </a:rPr>
              <a:t>Доходы районного бюджета МО «Краснотуранский район»</a:t>
            </a: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611280" y="1413000"/>
          <a:ext cx="7993080" cy="4248000"/>
        </p:xfrm>
        <a:graphic>
          <a:graphicData uri="http://schemas.openxmlformats.org/drawingml/2006/table">
            <a:tbl>
              <a:tblPr/>
              <a:tblGrid>
                <a:gridCol w="4052880"/>
                <a:gridCol w="1311120"/>
                <a:gridCol w="1316160"/>
                <a:gridCol w="1312920"/>
              </a:tblGrid>
              <a:tr h="311040"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20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20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20</a:t>
                      </a:r>
                      <a:r>
                        <a:rPr b="1" lang="en-US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0" rIns="0" tIns="10800" bIns="10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Налог на прибыль организац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7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8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9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0" rIns="0" tIns="10800" bIns="10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Налог на доходы физических лиц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8607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0186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2889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0" rIns="0" tIns="10800" bIns="10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Налоги на совокупный дох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16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63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16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998640">
                <a:tc>
                  <a:txBody>
                    <a:bodyPr lIns="0" rIns="0" tIns="10800" bIns="10800" anchor="b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Доходы от использования имущества, находящегося в государственной и     муниципальной собственнос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20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20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20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0" rIns="0" tIns="10800" bIns="10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Государственная пошли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97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35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74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0" rIns="0" tIns="10800" bIns="10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рочие доход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27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59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97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0" rIns="0" tIns="10800" bIns="10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Безвозмездные поступления  из краевого бюдже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8172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5967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5578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0" rIns="0" tIns="10800" bIns="10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Межбюджетные трансферты от поселен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39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39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39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0" rIns="0" tIns="10800" bIns="10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0016,8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0118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2573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3" name="Text Box 105"/>
          <p:cNvSpPr/>
          <p:nvPr/>
        </p:nvSpPr>
        <p:spPr>
          <a:xfrm>
            <a:off x="7380360" y="907920"/>
            <a:ext cx="154944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тыс. руб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Line 107"/>
          <p:cNvSpPr/>
          <p:nvPr/>
        </p:nvSpPr>
        <p:spPr>
          <a:xfrm>
            <a:off x="324000" y="981000"/>
            <a:ext cx="0" cy="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Line 108"/>
          <p:cNvSpPr/>
          <p:nvPr/>
        </p:nvSpPr>
        <p:spPr>
          <a:xfrm>
            <a:off x="306360" y="798480"/>
            <a:ext cx="86137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2"/>
          <p:cNvSpPr/>
          <p:nvPr/>
        </p:nvSpPr>
        <p:spPr>
          <a:xfrm>
            <a:off x="250920" y="0"/>
            <a:ext cx="86040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500" spc="-1" strike="noStrike">
                <a:solidFill>
                  <a:srgbClr val="ffffcc"/>
                </a:solidFill>
                <a:latin typeface="Arial"/>
              </a:rPr>
              <a:t>Распределение расходов районного бюджета по муниципальным программам на 20</a:t>
            </a: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ru-RU" sz="2500" spc="-1" strike="noStrike">
                <a:solidFill>
                  <a:srgbClr val="ffffcc"/>
                </a:solidFill>
                <a:latin typeface="Arial"/>
              </a:rPr>
              <a:t>4-2016 год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Text Box 3"/>
          <p:cNvSpPr/>
          <p:nvPr/>
        </p:nvSpPr>
        <p:spPr>
          <a:xfrm>
            <a:off x="250920" y="1052640"/>
            <a:ext cx="255564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0" anchor="t">
            <a:noAutofit/>
          </a:bodyPr>
          <a:p>
            <a:pPr marL="341280" indent="-341280">
              <a:lnSpc>
                <a:spcPct val="140000"/>
              </a:lnSpc>
              <a:spcBef>
                <a:spcPts val="451"/>
              </a:spcBef>
              <a:buClr>
                <a:srgbClr val="85b3b1"/>
              </a:buClr>
              <a:buSzPct val="150000"/>
              <a:buFont typeface="Wingdings" charset="2"/>
              <a:buChar char="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Line 6"/>
          <p:cNvSpPr/>
          <p:nvPr/>
        </p:nvSpPr>
        <p:spPr>
          <a:xfrm>
            <a:off x="306360" y="851040"/>
            <a:ext cx="86137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Rectangle 219"/>
          <p:cNvSpPr/>
          <p:nvPr/>
        </p:nvSpPr>
        <p:spPr>
          <a:xfrm>
            <a:off x="7631280" y="2147760"/>
            <a:ext cx="1512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28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Rectangle 217"/>
          <p:cNvSpPr/>
          <p:nvPr/>
        </p:nvSpPr>
        <p:spPr>
          <a:xfrm>
            <a:off x="6191280" y="2147760"/>
            <a:ext cx="1440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28270,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215"/>
          <p:cNvSpPr/>
          <p:nvPr/>
        </p:nvSpPr>
        <p:spPr>
          <a:xfrm>
            <a:off x="4751280" y="2147760"/>
            <a:ext cx="1440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28411,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Rectangle 213"/>
          <p:cNvSpPr/>
          <p:nvPr/>
        </p:nvSpPr>
        <p:spPr>
          <a:xfrm>
            <a:off x="250920" y="2147760"/>
            <a:ext cx="4500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Культура Краснотуранского  райо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Rectangle 162"/>
          <p:cNvSpPr/>
          <p:nvPr/>
        </p:nvSpPr>
        <p:spPr>
          <a:xfrm>
            <a:off x="7631280" y="4869000"/>
            <a:ext cx="151272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59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Rectangle 160"/>
          <p:cNvSpPr/>
          <p:nvPr/>
        </p:nvSpPr>
        <p:spPr>
          <a:xfrm>
            <a:off x="6156360" y="4869000"/>
            <a:ext cx="1440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59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Rectangle 158"/>
          <p:cNvSpPr/>
          <p:nvPr/>
        </p:nvSpPr>
        <p:spPr>
          <a:xfrm>
            <a:off x="4859280" y="4797360"/>
            <a:ext cx="136836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59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Rectangle 156"/>
          <p:cNvSpPr/>
          <p:nvPr/>
        </p:nvSpPr>
        <p:spPr>
          <a:xfrm>
            <a:off x="250920" y="4941720"/>
            <a:ext cx="450036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Содействие в развитии  и поддержке  малого и среднего  предпринимательства на территории Краснотуранского райо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Rectangle 69"/>
          <p:cNvSpPr/>
          <p:nvPr/>
        </p:nvSpPr>
        <p:spPr>
          <a:xfrm>
            <a:off x="6191280" y="4065480"/>
            <a:ext cx="1440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5195,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Rectangle 68"/>
          <p:cNvSpPr/>
          <p:nvPr/>
        </p:nvSpPr>
        <p:spPr>
          <a:xfrm>
            <a:off x="6191280" y="3549600"/>
            <a:ext cx="144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2305,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Rectangle 67"/>
          <p:cNvSpPr/>
          <p:nvPr/>
        </p:nvSpPr>
        <p:spPr>
          <a:xfrm>
            <a:off x="6191280" y="3033720"/>
            <a:ext cx="144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25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Rectangle 66"/>
          <p:cNvSpPr/>
          <p:nvPr/>
        </p:nvSpPr>
        <p:spPr>
          <a:xfrm>
            <a:off x="6191280" y="2517840"/>
            <a:ext cx="144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90083,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Rectangle 65"/>
          <p:cNvSpPr/>
          <p:nvPr/>
        </p:nvSpPr>
        <p:spPr>
          <a:xfrm>
            <a:off x="6191280" y="1631880"/>
            <a:ext cx="144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335961,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Rectangle 64"/>
          <p:cNvSpPr/>
          <p:nvPr/>
        </p:nvSpPr>
        <p:spPr>
          <a:xfrm>
            <a:off x="6191280" y="1268280"/>
            <a:ext cx="1440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201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Rectangle 11"/>
          <p:cNvSpPr/>
          <p:nvPr/>
        </p:nvSpPr>
        <p:spPr>
          <a:xfrm>
            <a:off x="7631280" y="4065480"/>
            <a:ext cx="151272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8169,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Rectangle 12"/>
          <p:cNvSpPr/>
          <p:nvPr/>
        </p:nvSpPr>
        <p:spPr>
          <a:xfrm>
            <a:off x="4751280" y="4065480"/>
            <a:ext cx="1440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9996,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Rectangle 13"/>
          <p:cNvSpPr/>
          <p:nvPr/>
        </p:nvSpPr>
        <p:spPr>
          <a:xfrm>
            <a:off x="250920" y="4065480"/>
            <a:ext cx="45003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Реформирование и модернизация ЖКХ и повышение энергетической эффективности Краснотуранского райо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Rectangle 14"/>
          <p:cNvSpPr/>
          <p:nvPr/>
        </p:nvSpPr>
        <p:spPr>
          <a:xfrm>
            <a:off x="7631280" y="3549600"/>
            <a:ext cx="15127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2305,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Rectangle 15"/>
          <p:cNvSpPr/>
          <p:nvPr/>
        </p:nvSpPr>
        <p:spPr>
          <a:xfrm>
            <a:off x="4751280" y="3549600"/>
            <a:ext cx="144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2305,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Rectangle 16"/>
          <p:cNvSpPr/>
          <p:nvPr/>
        </p:nvSpPr>
        <p:spPr>
          <a:xfrm>
            <a:off x="250920" y="3549600"/>
            <a:ext cx="45003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Молодежь Краснотуранского райо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Rectangle 17"/>
          <p:cNvSpPr/>
          <p:nvPr/>
        </p:nvSpPr>
        <p:spPr>
          <a:xfrm>
            <a:off x="7631280" y="3033720"/>
            <a:ext cx="15127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25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Rectangle 18"/>
          <p:cNvSpPr/>
          <p:nvPr/>
        </p:nvSpPr>
        <p:spPr>
          <a:xfrm>
            <a:off x="4751280" y="3033720"/>
            <a:ext cx="144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25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Rectangle 19"/>
          <p:cNvSpPr/>
          <p:nvPr/>
        </p:nvSpPr>
        <p:spPr>
          <a:xfrm>
            <a:off x="250920" y="3033720"/>
            <a:ext cx="45003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Содействие развитию физической культуры, спорта, и туризма Краснотуранского райо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Rectangle 20"/>
          <p:cNvSpPr/>
          <p:nvPr/>
        </p:nvSpPr>
        <p:spPr>
          <a:xfrm>
            <a:off x="7631280" y="2517840"/>
            <a:ext cx="15127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86744,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Rectangle 21"/>
          <p:cNvSpPr/>
          <p:nvPr/>
        </p:nvSpPr>
        <p:spPr>
          <a:xfrm>
            <a:off x="4716360" y="2492280"/>
            <a:ext cx="144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78363,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Rectangle 22"/>
          <p:cNvSpPr/>
          <p:nvPr/>
        </p:nvSpPr>
        <p:spPr>
          <a:xfrm>
            <a:off x="250920" y="2517840"/>
            <a:ext cx="45003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Система социальной защиты населения Краснотуранского райо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Rectangle 23"/>
          <p:cNvSpPr/>
          <p:nvPr/>
        </p:nvSpPr>
        <p:spPr>
          <a:xfrm>
            <a:off x="7631280" y="1631880"/>
            <a:ext cx="15127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335961,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Rectangle 24"/>
          <p:cNvSpPr/>
          <p:nvPr/>
        </p:nvSpPr>
        <p:spPr>
          <a:xfrm>
            <a:off x="4716360" y="1628640"/>
            <a:ext cx="1440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323943,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Rectangle 25"/>
          <p:cNvSpPr/>
          <p:nvPr/>
        </p:nvSpPr>
        <p:spPr>
          <a:xfrm>
            <a:off x="250920" y="1628640"/>
            <a:ext cx="4500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Содействие развитию  системы образования Краснотуранского райо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Rectangle 26"/>
          <p:cNvSpPr/>
          <p:nvPr/>
        </p:nvSpPr>
        <p:spPr>
          <a:xfrm>
            <a:off x="7631280" y="1268280"/>
            <a:ext cx="1512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Rectangle 27"/>
          <p:cNvSpPr/>
          <p:nvPr/>
        </p:nvSpPr>
        <p:spPr>
          <a:xfrm>
            <a:off x="4751280" y="1268280"/>
            <a:ext cx="1440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20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Rectangle 28"/>
          <p:cNvSpPr/>
          <p:nvPr/>
        </p:nvSpPr>
        <p:spPr>
          <a:xfrm>
            <a:off x="1042920" y="1268280"/>
            <a:ext cx="37083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Line 30"/>
          <p:cNvSpPr/>
          <p:nvPr/>
        </p:nvSpPr>
        <p:spPr>
          <a:xfrm>
            <a:off x="285840" y="1268280"/>
            <a:ext cx="8858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Line 31"/>
          <p:cNvSpPr/>
          <p:nvPr/>
        </p:nvSpPr>
        <p:spPr>
          <a:xfrm>
            <a:off x="285840" y="5734080"/>
            <a:ext cx="8858160" cy="0"/>
          </a:xfrm>
          <a:prstGeom prst="line">
            <a:avLst/>
          </a:prstGeom>
          <a:ln w="28440">
            <a:solidFill>
              <a:srgbClr val="85b3b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Line 33"/>
          <p:cNvSpPr/>
          <p:nvPr/>
        </p:nvSpPr>
        <p:spPr>
          <a:xfrm>
            <a:off x="285840" y="1268280"/>
            <a:ext cx="0" cy="363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Line 34"/>
          <p:cNvSpPr/>
          <p:nvPr/>
        </p:nvSpPr>
        <p:spPr>
          <a:xfrm>
            <a:off x="1476360" y="1844640"/>
            <a:ext cx="0" cy="515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Line 35"/>
          <p:cNvSpPr/>
          <p:nvPr/>
        </p:nvSpPr>
        <p:spPr>
          <a:xfrm>
            <a:off x="285840" y="2147760"/>
            <a:ext cx="0" cy="885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Line 36"/>
          <p:cNvSpPr/>
          <p:nvPr/>
        </p:nvSpPr>
        <p:spPr>
          <a:xfrm>
            <a:off x="285840" y="3033720"/>
            <a:ext cx="0" cy="515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Line 37"/>
          <p:cNvSpPr/>
          <p:nvPr/>
        </p:nvSpPr>
        <p:spPr>
          <a:xfrm>
            <a:off x="285840" y="3549600"/>
            <a:ext cx="0" cy="515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Line 38"/>
          <p:cNvSpPr/>
          <p:nvPr/>
        </p:nvSpPr>
        <p:spPr>
          <a:xfrm>
            <a:off x="285840" y="4065480"/>
            <a:ext cx="0" cy="728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Line 40"/>
          <p:cNvSpPr/>
          <p:nvPr/>
        </p:nvSpPr>
        <p:spPr>
          <a:xfrm>
            <a:off x="9144000" y="1268280"/>
            <a:ext cx="0" cy="363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Line 41"/>
          <p:cNvSpPr/>
          <p:nvPr/>
        </p:nvSpPr>
        <p:spPr>
          <a:xfrm>
            <a:off x="9144000" y="1631880"/>
            <a:ext cx="0" cy="515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Line 42"/>
          <p:cNvSpPr/>
          <p:nvPr/>
        </p:nvSpPr>
        <p:spPr>
          <a:xfrm>
            <a:off x="9144000" y="2147760"/>
            <a:ext cx="0" cy="885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Line 43"/>
          <p:cNvSpPr/>
          <p:nvPr/>
        </p:nvSpPr>
        <p:spPr>
          <a:xfrm>
            <a:off x="9144000" y="3033720"/>
            <a:ext cx="0" cy="515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Line 44"/>
          <p:cNvSpPr/>
          <p:nvPr/>
        </p:nvSpPr>
        <p:spPr>
          <a:xfrm>
            <a:off x="9144000" y="3549600"/>
            <a:ext cx="0" cy="515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Line 45"/>
          <p:cNvSpPr/>
          <p:nvPr/>
        </p:nvSpPr>
        <p:spPr>
          <a:xfrm>
            <a:off x="9144000" y="4065480"/>
            <a:ext cx="0" cy="728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Line 47"/>
          <p:cNvSpPr/>
          <p:nvPr/>
        </p:nvSpPr>
        <p:spPr>
          <a:xfrm>
            <a:off x="285840" y="1631880"/>
            <a:ext cx="8858160" cy="0"/>
          </a:xfrm>
          <a:prstGeom prst="line">
            <a:avLst/>
          </a:prstGeom>
          <a:ln w="28440">
            <a:solidFill>
              <a:srgbClr val="85b3b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Line 48"/>
          <p:cNvSpPr/>
          <p:nvPr/>
        </p:nvSpPr>
        <p:spPr>
          <a:xfrm>
            <a:off x="285840" y="2147760"/>
            <a:ext cx="8858160" cy="0"/>
          </a:xfrm>
          <a:prstGeom prst="line">
            <a:avLst/>
          </a:prstGeom>
          <a:ln w="28440">
            <a:solidFill>
              <a:srgbClr val="85b3b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Line 49"/>
          <p:cNvSpPr/>
          <p:nvPr/>
        </p:nvSpPr>
        <p:spPr>
          <a:xfrm>
            <a:off x="285840" y="3033720"/>
            <a:ext cx="8858160" cy="0"/>
          </a:xfrm>
          <a:prstGeom prst="line">
            <a:avLst/>
          </a:prstGeom>
          <a:ln w="28440">
            <a:solidFill>
              <a:srgbClr val="85b3b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Line 50"/>
          <p:cNvSpPr/>
          <p:nvPr/>
        </p:nvSpPr>
        <p:spPr>
          <a:xfrm>
            <a:off x="285840" y="3549600"/>
            <a:ext cx="8858160" cy="0"/>
          </a:xfrm>
          <a:prstGeom prst="line">
            <a:avLst/>
          </a:prstGeom>
          <a:ln w="28440">
            <a:solidFill>
              <a:srgbClr val="85b3b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Line 51"/>
          <p:cNvSpPr/>
          <p:nvPr/>
        </p:nvSpPr>
        <p:spPr>
          <a:xfrm>
            <a:off x="285840" y="4065480"/>
            <a:ext cx="8858160" cy="0"/>
          </a:xfrm>
          <a:prstGeom prst="line">
            <a:avLst/>
          </a:prstGeom>
          <a:ln w="28440">
            <a:solidFill>
              <a:srgbClr val="85b3b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Line 52"/>
          <p:cNvSpPr/>
          <p:nvPr/>
        </p:nvSpPr>
        <p:spPr>
          <a:xfrm>
            <a:off x="285840" y="4797360"/>
            <a:ext cx="8858160" cy="0"/>
          </a:xfrm>
          <a:prstGeom prst="line">
            <a:avLst/>
          </a:prstGeom>
          <a:ln w="28440">
            <a:solidFill>
              <a:srgbClr val="85b3b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Line 53"/>
          <p:cNvSpPr/>
          <p:nvPr/>
        </p:nvSpPr>
        <p:spPr>
          <a:xfrm>
            <a:off x="285840" y="4794120"/>
            <a:ext cx="0" cy="197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Line 54"/>
          <p:cNvSpPr/>
          <p:nvPr/>
        </p:nvSpPr>
        <p:spPr>
          <a:xfrm>
            <a:off x="9144000" y="4794120"/>
            <a:ext cx="0" cy="197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Line 212"/>
          <p:cNvSpPr/>
          <p:nvPr/>
        </p:nvSpPr>
        <p:spPr>
          <a:xfrm>
            <a:off x="285840" y="2517840"/>
            <a:ext cx="8858160" cy="0"/>
          </a:xfrm>
          <a:prstGeom prst="line">
            <a:avLst/>
          </a:prstGeom>
          <a:ln w="28440">
            <a:solidFill>
              <a:srgbClr val="85b3b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Text Box 196"/>
          <p:cNvSpPr/>
          <p:nvPr/>
        </p:nvSpPr>
        <p:spPr>
          <a:xfrm>
            <a:off x="7451640" y="981000"/>
            <a:ext cx="13683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тыс. руб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Text Box 2"/>
          <p:cNvSpPr/>
          <p:nvPr/>
        </p:nvSpPr>
        <p:spPr>
          <a:xfrm>
            <a:off x="250920" y="0"/>
            <a:ext cx="86040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500" spc="-1" strike="noStrike">
                <a:solidFill>
                  <a:srgbClr val="ffffcc"/>
                </a:solidFill>
                <a:latin typeface="Arial"/>
              </a:rPr>
              <a:t>Распределение расходов районного бюджета по муниципальным программам на 20</a:t>
            </a: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ru-RU" sz="2500" spc="-1" strike="noStrike">
                <a:solidFill>
                  <a:srgbClr val="ffffcc"/>
                </a:solidFill>
                <a:latin typeface="Arial"/>
              </a:rPr>
              <a:t>4-2016 год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Text Box 3"/>
          <p:cNvSpPr/>
          <p:nvPr/>
        </p:nvSpPr>
        <p:spPr>
          <a:xfrm>
            <a:off x="250920" y="1052640"/>
            <a:ext cx="255564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0" anchor="t">
            <a:noAutofit/>
          </a:bodyPr>
          <a:p>
            <a:pPr marL="341280" indent="-341280">
              <a:lnSpc>
                <a:spcPct val="140000"/>
              </a:lnSpc>
              <a:spcBef>
                <a:spcPts val="349"/>
              </a:spcBef>
              <a:buClr>
                <a:srgbClr val="85b3b1"/>
              </a:buClr>
              <a:buSzPct val="150000"/>
              <a:buFont typeface="Wingdings" charset="2"/>
              <a:buChar char="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Line 4"/>
          <p:cNvSpPr/>
          <p:nvPr/>
        </p:nvSpPr>
        <p:spPr>
          <a:xfrm>
            <a:off x="306360" y="851040"/>
            <a:ext cx="86137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7631280" y="2133720"/>
            <a:ext cx="1512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4027,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Rectangle 6"/>
          <p:cNvSpPr/>
          <p:nvPr/>
        </p:nvSpPr>
        <p:spPr>
          <a:xfrm>
            <a:off x="6191280" y="2147760"/>
            <a:ext cx="1440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3989,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Rectangle 7"/>
          <p:cNvSpPr/>
          <p:nvPr/>
        </p:nvSpPr>
        <p:spPr>
          <a:xfrm>
            <a:off x="4751280" y="2147760"/>
            <a:ext cx="1440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381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Rectangle 8"/>
          <p:cNvSpPr/>
          <p:nvPr/>
        </p:nvSpPr>
        <p:spPr>
          <a:xfrm>
            <a:off x="250920" y="2147760"/>
            <a:ext cx="4500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Содействие в развитии сельского хозяйства Краснотуранского  райо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Rectangle 13"/>
          <p:cNvSpPr/>
          <p:nvPr/>
        </p:nvSpPr>
        <p:spPr>
          <a:xfrm>
            <a:off x="7631280" y="4581360"/>
            <a:ext cx="151272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1912229,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Rectangle 14"/>
          <p:cNvSpPr/>
          <p:nvPr/>
        </p:nvSpPr>
        <p:spPr>
          <a:xfrm>
            <a:off x="6300720" y="4581360"/>
            <a:ext cx="144000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652999,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Rectangle 15"/>
          <p:cNvSpPr/>
          <p:nvPr/>
        </p:nvSpPr>
        <p:spPr>
          <a:xfrm>
            <a:off x="4788000" y="4581360"/>
            <a:ext cx="143964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618677,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Rectangle 16"/>
          <p:cNvSpPr/>
          <p:nvPr/>
        </p:nvSpPr>
        <p:spPr>
          <a:xfrm>
            <a:off x="250920" y="4508640"/>
            <a:ext cx="45003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Всего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Rectangle 17"/>
          <p:cNvSpPr/>
          <p:nvPr/>
        </p:nvSpPr>
        <p:spPr>
          <a:xfrm>
            <a:off x="7631280" y="3789360"/>
            <a:ext cx="15127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62831,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Rectangle 18"/>
          <p:cNvSpPr/>
          <p:nvPr/>
        </p:nvSpPr>
        <p:spPr>
          <a:xfrm>
            <a:off x="6156360" y="3789360"/>
            <a:ext cx="14400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62831,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Rectangle 19"/>
          <p:cNvSpPr/>
          <p:nvPr/>
        </p:nvSpPr>
        <p:spPr>
          <a:xfrm>
            <a:off x="4716360" y="3789360"/>
            <a:ext cx="14400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64313,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Rectangle 20"/>
          <p:cNvSpPr/>
          <p:nvPr/>
        </p:nvSpPr>
        <p:spPr>
          <a:xfrm>
            <a:off x="250920" y="3716280"/>
            <a:ext cx="45003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Управление муниципальными финансам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Rectangle 23"/>
          <p:cNvSpPr/>
          <p:nvPr/>
        </p:nvSpPr>
        <p:spPr>
          <a:xfrm>
            <a:off x="6156360" y="2637000"/>
            <a:ext cx="15112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5333,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Rectangle 25"/>
          <p:cNvSpPr/>
          <p:nvPr/>
        </p:nvSpPr>
        <p:spPr>
          <a:xfrm>
            <a:off x="6191280" y="1631880"/>
            <a:ext cx="144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5937,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Rectangle 26"/>
          <p:cNvSpPr/>
          <p:nvPr/>
        </p:nvSpPr>
        <p:spPr>
          <a:xfrm>
            <a:off x="6191280" y="1268280"/>
            <a:ext cx="1440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201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Rectangle 33"/>
          <p:cNvSpPr/>
          <p:nvPr/>
        </p:nvSpPr>
        <p:spPr>
          <a:xfrm>
            <a:off x="7631280" y="2708280"/>
            <a:ext cx="15127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2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Rectangle 34"/>
          <p:cNvSpPr/>
          <p:nvPr/>
        </p:nvSpPr>
        <p:spPr>
          <a:xfrm>
            <a:off x="4788000" y="2637000"/>
            <a:ext cx="1439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353,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Rectangle 35"/>
          <p:cNvSpPr/>
          <p:nvPr/>
        </p:nvSpPr>
        <p:spPr>
          <a:xfrm>
            <a:off x="250920" y="2637000"/>
            <a:ext cx="4500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Создание условий для обеспечения доступным и комфортным  жильём граждан Краснотуранского райо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Rectangle 38"/>
          <p:cNvSpPr/>
          <p:nvPr/>
        </p:nvSpPr>
        <p:spPr>
          <a:xfrm>
            <a:off x="250920" y="2637000"/>
            <a:ext cx="45003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Rectangle 39"/>
          <p:cNvSpPr/>
          <p:nvPr/>
        </p:nvSpPr>
        <p:spPr>
          <a:xfrm>
            <a:off x="7631280" y="1631880"/>
            <a:ext cx="15127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7421,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Rectangle 40"/>
          <p:cNvSpPr/>
          <p:nvPr/>
        </p:nvSpPr>
        <p:spPr>
          <a:xfrm>
            <a:off x="4751280" y="1631880"/>
            <a:ext cx="144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4079,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Rectangle 41"/>
          <p:cNvSpPr/>
          <p:nvPr/>
        </p:nvSpPr>
        <p:spPr>
          <a:xfrm>
            <a:off x="250920" y="1631880"/>
            <a:ext cx="45003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Создание условий для  развития транспортной системы в Краснотуранском район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Rectangle 42"/>
          <p:cNvSpPr/>
          <p:nvPr/>
        </p:nvSpPr>
        <p:spPr>
          <a:xfrm>
            <a:off x="7631280" y="1268280"/>
            <a:ext cx="1512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Rectangle 43"/>
          <p:cNvSpPr/>
          <p:nvPr/>
        </p:nvSpPr>
        <p:spPr>
          <a:xfrm>
            <a:off x="4751280" y="1268280"/>
            <a:ext cx="1440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20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Rectangle 44"/>
          <p:cNvSpPr/>
          <p:nvPr/>
        </p:nvSpPr>
        <p:spPr>
          <a:xfrm>
            <a:off x="1042920" y="1268280"/>
            <a:ext cx="37083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Line 45"/>
          <p:cNvSpPr/>
          <p:nvPr/>
        </p:nvSpPr>
        <p:spPr>
          <a:xfrm>
            <a:off x="285840" y="1268280"/>
            <a:ext cx="8858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Line 47"/>
          <p:cNvSpPr/>
          <p:nvPr/>
        </p:nvSpPr>
        <p:spPr>
          <a:xfrm>
            <a:off x="285840" y="1268280"/>
            <a:ext cx="0" cy="363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Line 48"/>
          <p:cNvSpPr/>
          <p:nvPr/>
        </p:nvSpPr>
        <p:spPr>
          <a:xfrm>
            <a:off x="285840" y="1631880"/>
            <a:ext cx="0" cy="515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Line 49"/>
          <p:cNvSpPr/>
          <p:nvPr/>
        </p:nvSpPr>
        <p:spPr>
          <a:xfrm>
            <a:off x="285840" y="2147760"/>
            <a:ext cx="0" cy="885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Line 50"/>
          <p:cNvSpPr/>
          <p:nvPr/>
        </p:nvSpPr>
        <p:spPr>
          <a:xfrm>
            <a:off x="285840" y="3033720"/>
            <a:ext cx="0" cy="515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Line 51"/>
          <p:cNvSpPr/>
          <p:nvPr/>
        </p:nvSpPr>
        <p:spPr>
          <a:xfrm>
            <a:off x="285840" y="3549600"/>
            <a:ext cx="0" cy="515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Line 52"/>
          <p:cNvSpPr/>
          <p:nvPr/>
        </p:nvSpPr>
        <p:spPr>
          <a:xfrm>
            <a:off x="285840" y="4065480"/>
            <a:ext cx="0" cy="728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Line 53"/>
          <p:cNvSpPr/>
          <p:nvPr/>
        </p:nvSpPr>
        <p:spPr>
          <a:xfrm>
            <a:off x="9144000" y="1268280"/>
            <a:ext cx="0" cy="363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Line 54"/>
          <p:cNvSpPr/>
          <p:nvPr/>
        </p:nvSpPr>
        <p:spPr>
          <a:xfrm>
            <a:off x="9144000" y="1631880"/>
            <a:ext cx="0" cy="515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Line 55"/>
          <p:cNvSpPr/>
          <p:nvPr/>
        </p:nvSpPr>
        <p:spPr>
          <a:xfrm>
            <a:off x="9144000" y="2147760"/>
            <a:ext cx="0" cy="885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Line 56"/>
          <p:cNvSpPr/>
          <p:nvPr/>
        </p:nvSpPr>
        <p:spPr>
          <a:xfrm>
            <a:off x="9144000" y="3033720"/>
            <a:ext cx="0" cy="515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Line 57"/>
          <p:cNvSpPr/>
          <p:nvPr/>
        </p:nvSpPr>
        <p:spPr>
          <a:xfrm>
            <a:off x="9144000" y="3549600"/>
            <a:ext cx="0" cy="515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Line 58"/>
          <p:cNvSpPr/>
          <p:nvPr/>
        </p:nvSpPr>
        <p:spPr>
          <a:xfrm>
            <a:off x="9144000" y="4065480"/>
            <a:ext cx="0" cy="728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Line 59"/>
          <p:cNvSpPr/>
          <p:nvPr/>
        </p:nvSpPr>
        <p:spPr>
          <a:xfrm>
            <a:off x="285840" y="1631880"/>
            <a:ext cx="8858160" cy="0"/>
          </a:xfrm>
          <a:prstGeom prst="line">
            <a:avLst/>
          </a:prstGeom>
          <a:ln w="28440">
            <a:solidFill>
              <a:srgbClr val="85b3b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Line 60"/>
          <p:cNvSpPr/>
          <p:nvPr/>
        </p:nvSpPr>
        <p:spPr>
          <a:xfrm>
            <a:off x="285840" y="2147760"/>
            <a:ext cx="8858160" cy="0"/>
          </a:xfrm>
          <a:prstGeom prst="line">
            <a:avLst/>
          </a:prstGeom>
          <a:ln w="28440">
            <a:solidFill>
              <a:srgbClr val="85b3b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Line 64"/>
          <p:cNvSpPr/>
          <p:nvPr/>
        </p:nvSpPr>
        <p:spPr>
          <a:xfrm>
            <a:off x="285840" y="3573360"/>
            <a:ext cx="8858160" cy="0"/>
          </a:xfrm>
          <a:prstGeom prst="line">
            <a:avLst/>
          </a:prstGeom>
          <a:ln w="28440">
            <a:solidFill>
              <a:srgbClr val="85b3b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Line 65"/>
          <p:cNvSpPr/>
          <p:nvPr/>
        </p:nvSpPr>
        <p:spPr>
          <a:xfrm>
            <a:off x="285840" y="4794120"/>
            <a:ext cx="0" cy="197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Line 66"/>
          <p:cNvSpPr/>
          <p:nvPr/>
        </p:nvSpPr>
        <p:spPr>
          <a:xfrm>
            <a:off x="9144000" y="4794120"/>
            <a:ext cx="0" cy="197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Line 68"/>
          <p:cNvSpPr/>
          <p:nvPr/>
        </p:nvSpPr>
        <p:spPr>
          <a:xfrm>
            <a:off x="285840" y="4437000"/>
            <a:ext cx="8858160" cy="0"/>
          </a:xfrm>
          <a:prstGeom prst="line">
            <a:avLst/>
          </a:prstGeom>
          <a:ln w="28440">
            <a:solidFill>
              <a:srgbClr val="85b3b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Line 69"/>
          <p:cNvSpPr/>
          <p:nvPr/>
        </p:nvSpPr>
        <p:spPr>
          <a:xfrm>
            <a:off x="285840" y="2565360"/>
            <a:ext cx="8858160" cy="0"/>
          </a:xfrm>
          <a:prstGeom prst="line">
            <a:avLst/>
          </a:prstGeom>
          <a:ln w="28440">
            <a:solidFill>
              <a:srgbClr val="85b3b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Text Box 70"/>
          <p:cNvSpPr/>
          <p:nvPr/>
        </p:nvSpPr>
        <p:spPr>
          <a:xfrm>
            <a:off x="7596360" y="981000"/>
            <a:ext cx="12967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тыс. руб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82036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Основные параметры консолидированного бюджета МО «Краснотуранский район» на 2014 год и плановый период 2015-2016 годов</a:t>
            </a:r>
            <a:r>
              <a:rPr b="0" lang="ru-RU" sz="25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без учета внутренних оборотов</a:t>
            </a:r>
            <a:r>
              <a:rPr b="0" lang="ru-RU" sz="2500" spc="-1" strike="noStrike">
                <a:solidFill>
                  <a:srgbClr val="ffffcc"/>
                </a:solidFill>
                <a:latin typeface="Arial"/>
              </a:rPr>
              <a:t>    </a:t>
            </a:r>
            <a:endParaRPr b="1" lang="en-US" sz="2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5" name="Text Box 4"/>
          <p:cNvSpPr/>
          <p:nvPr/>
        </p:nvSpPr>
        <p:spPr>
          <a:xfrm>
            <a:off x="7164360" y="1197000"/>
            <a:ext cx="1682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лн. руб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Line 21"/>
          <p:cNvSpPr/>
          <p:nvPr/>
        </p:nvSpPr>
        <p:spPr>
          <a:xfrm>
            <a:off x="324000" y="1052640"/>
            <a:ext cx="86137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7" name="Group 65"/>
          <p:cNvGrpSpPr/>
          <p:nvPr/>
        </p:nvGrpSpPr>
        <p:grpSpPr>
          <a:xfrm>
            <a:off x="324000" y="1197000"/>
            <a:ext cx="2250000" cy="243720"/>
            <a:chOff x="324000" y="1197000"/>
            <a:chExt cx="2250000" cy="243720"/>
          </a:xfrm>
        </p:grpSpPr>
        <p:pic>
          <p:nvPicPr>
            <p:cNvPr id="648" name="Picture 50" descr=""/>
            <p:cNvPicPr/>
            <p:nvPr/>
          </p:nvPicPr>
          <p:blipFill>
            <a:blip r:embed="rId1"/>
            <a:stretch/>
          </p:blipFill>
          <p:spPr>
            <a:xfrm>
              <a:off x="324000" y="1244520"/>
              <a:ext cx="114120" cy="11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9" name="Rectangle 51"/>
            <p:cNvSpPr/>
            <p:nvPr/>
          </p:nvSpPr>
          <p:spPr>
            <a:xfrm>
              <a:off x="324000" y="1244520"/>
              <a:ext cx="114120" cy="11448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Rectangle 52"/>
            <p:cNvSpPr/>
            <p:nvPr/>
          </p:nvSpPr>
          <p:spPr>
            <a:xfrm>
              <a:off x="538200" y="1197000"/>
              <a:ext cx="806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Доходы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51" name="Picture 53" descr=""/>
            <p:cNvPicPr/>
            <p:nvPr/>
          </p:nvPicPr>
          <p:blipFill>
            <a:blip r:embed="rId2"/>
            <a:stretch/>
          </p:blipFill>
          <p:spPr>
            <a:xfrm>
              <a:off x="1463760" y="1254240"/>
              <a:ext cx="114480" cy="1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Rectangle 54"/>
            <p:cNvSpPr/>
            <p:nvPr/>
          </p:nvSpPr>
          <p:spPr>
            <a:xfrm>
              <a:off x="1463760" y="1254240"/>
              <a:ext cx="114480" cy="114120"/>
            </a:xfrm>
            <a:prstGeom prst="rect">
              <a:avLst/>
            </a:prstGeom>
            <a:solidFill>
              <a:srgbClr val="ff66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Rectangle 55"/>
            <p:cNvSpPr/>
            <p:nvPr/>
          </p:nvSpPr>
          <p:spPr>
            <a:xfrm>
              <a:off x="1674000" y="1197000"/>
              <a:ext cx="900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Расходы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4" name="Rectangle 25"/>
          <p:cNvSpPr/>
          <p:nvPr/>
        </p:nvSpPr>
        <p:spPr>
          <a:xfrm>
            <a:off x="6534000" y="2276640"/>
            <a:ext cx="709920" cy="3744720"/>
          </a:xfrm>
          <a:prstGeom prst="rect">
            <a:avLst/>
          </a:prstGeom>
          <a:solidFill>
            <a:srgbClr val="ffffcc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Rectangle 31"/>
          <p:cNvSpPr/>
          <p:nvPr/>
        </p:nvSpPr>
        <p:spPr>
          <a:xfrm>
            <a:off x="7248600" y="2276640"/>
            <a:ext cx="696960" cy="3765240"/>
          </a:xfrm>
          <a:prstGeom prst="rect">
            <a:avLst/>
          </a:prstGeom>
          <a:solidFill>
            <a:srgbClr val="ff66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Line 71"/>
          <p:cNvSpPr/>
          <p:nvPr/>
        </p:nvSpPr>
        <p:spPr>
          <a:xfrm flipV="1">
            <a:off x="3192480" y="6066000"/>
            <a:ext cx="3240" cy="4896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Line 72"/>
          <p:cNvSpPr/>
          <p:nvPr/>
        </p:nvSpPr>
        <p:spPr>
          <a:xfrm flipV="1">
            <a:off x="5848200" y="6066000"/>
            <a:ext cx="3240" cy="4896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Line 73"/>
          <p:cNvSpPr/>
          <p:nvPr/>
        </p:nvSpPr>
        <p:spPr>
          <a:xfrm flipV="1">
            <a:off x="8515440" y="6066000"/>
            <a:ext cx="3240" cy="4896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Rectangle 80"/>
          <p:cNvSpPr/>
          <p:nvPr/>
        </p:nvSpPr>
        <p:spPr>
          <a:xfrm>
            <a:off x="1195560" y="3357720"/>
            <a:ext cx="698400" cy="2663640"/>
          </a:xfrm>
          <a:prstGeom prst="rect">
            <a:avLst/>
          </a:prstGeom>
          <a:solidFill>
            <a:srgbClr val="ffffcc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Rectangle 92"/>
          <p:cNvSpPr/>
          <p:nvPr/>
        </p:nvSpPr>
        <p:spPr>
          <a:xfrm>
            <a:off x="1908000" y="3357720"/>
            <a:ext cx="700200" cy="2698560"/>
          </a:xfrm>
          <a:prstGeom prst="rect">
            <a:avLst/>
          </a:prstGeom>
          <a:solidFill>
            <a:srgbClr val="ff66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Rectangle 84"/>
          <p:cNvSpPr/>
          <p:nvPr/>
        </p:nvSpPr>
        <p:spPr>
          <a:xfrm>
            <a:off x="3803760" y="2781360"/>
            <a:ext cx="752400" cy="3240000"/>
          </a:xfrm>
          <a:prstGeom prst="rect">
            <a:avLst/>
          </a:prstGeom>
          <a:solidFill>
            <a:srgbClr val="ffffcc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Rectangle 96"/>
          <p:cNvSpPr/>
          <p:nvPr/>
        </p:nvSpPr>
        <p:spPr>
          <a:xfrm>
            <a:off x="4572000" y="2781360"/>
            <a:ext cx="754200" cy="3233520"/>
          </a:xfrm>
          <a:prstGeom prst="rect">
            <a:avLst/>
          </a:prstGeom>
          <a:solidFill>
            <a:srgbClr val="ff66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Rectangle 98"/>
          <p:cNvSpPr/>
          <p:nvPr/>
        </p:nvSpPr>
        <p:spPr>
          <a:xfrm>
            <a:off x="1529280" y="6213600"/>
            <a:ext cx="796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cc99"/>
                </a:solidFill>
                <a:latin typeface="Arial"/>
              </a:rPr>
              <a:t>2014 год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Rectangle 99"/>
          <p:cNvSpPr/>
          <p:nvPr/>
        </p:nvSpPr>
        <p:spPr>
          <a:xfrm>
            <a:off x="4199400" y="6213600"/>
            <a:ext cx="796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cc99"/>
                </a:solidFill>
                <a:latin typeface="Arial"/>
              </a:rPr>
              <a:t>2015 год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Rectangle 100"/>
          <p:cNvSpPr/>
          <p:nvPr/>
        </p:nvSpPr>
        <p:spPr>
          <a:xfrm>
            <a:off x="6855120" y="6216480"/>
            <a:ext cx="796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cc99"/>
                </a:solidFill>
                <a:latin typeface="Arial"/>
              </a:rPr>
              <a:t>2016 год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Text Box 121"/>
          <p:cNvSpPr/>
          <p:nvPr/>
        </p:nvSpPr>
        <p:spPr>
          <a:xfrm>
            <a:off x="1187280" y="2924280"/>
            <a:ext cx="6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699,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Text Box 122"/>
          <p:cNvSpPr/>
          <p:nvPr/>
        </p:nvSpPr>
        <p:spPr>
          <a:xfrm>
            <a:off x="1908000" y="2924280"/>
            <a:ext cx="6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699,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Text Box 123"/>
          <p:cNvSpPr/>
          <p:nvPr/>
        </p:nvSpPr>
        <p:spPr>
          <a:xfrm>
            <a:off x="3780000" y="234936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731,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Text Box 124"/>
          <p:cNvSpPr/>
          <p:nvPr/>
        </p:nvSpPr>
        <p:spPr>
          <a:xfrm>
            <a:off x="4572000" y="234936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731,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Text Box 125"/>
          <p:cNvSpPr/>
          <p:nvPr/>
        </p:nvSpPr>
        <p:spPr>
          <a:xfrm>
            <a:off x="6588000" y="1916280"/>
            <a:ext cx="6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745,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Text Box 126"/>
          <p:cNvSpPr/>
          <p:nvPr/>
        </p:nvSpPr>
        <p:spPr>
          <a:xfrm>
            <a:off x="7308720" y="1916280"/>
            <a:ext cx="6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745,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784836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cc"/>
                </a:solidFill>
                <a:latin typeface="Arial"/>
              </a:rPr>
              <a:t>Доходы консолидированного бюджета 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cc"/>
                </a:solidFill>
                <a:latin typeface="Arial"/>
              </a:rPr>
              <a:t>МО 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cc"/>
                </a:solidFill>
                <a:latin typeface="Arial"/>
              </a:rPr>
              <a:t>«Краснотуранский 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cc"/>
                </a:solidFill>
                <a:latin typeface="Arial"/>
              </a:rPr>
              <a:t>район» в 20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ru-RU" sz="2200" spc="-1" strike="noStrike">
                <a:solidFill>
                  <a:srgbClr val="ffffcc"/>
                </a:solidFill>
                <a:latin typeface="Arial"/>
              </a:rPr>
              <a:t>4 году</a:t>
            </a:r>
            <a:r>
              <a:rPr b="0" lang="ru-RU" sz="2500" spc="-1" strike="noStrike">
                <a:solidFill>
                  <a:srgbClr val="ffffcc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(млн. рублей)</a:t>
            </a:r>
            <a:endParaRPr b="1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3" name="Line 7"/>
          <p:cNvSpPr/>
          <p:nvPr/>
        </p:nvSpPr>
        <p:spPr>
          <a:xfrm>
            <a:off x="250920" y="1052640"/>
            <a:ext cx="86137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Rectangle 57"/>
          <p:cNvSpPr/>
          <p:nvPr/>
        </p:nvSpPr>
        <p:spPr>
          <a:xfrm>
            <a:off x="250920" y="6066000"/>
            <a:ext cx="8642160" cy="792000"/>
          </a:xfrm>
          <a:prstGeom prst="rect">
            <a:avLst/>
          </a:prstGeom>
          <a:solidFill>
            <a:srgbClr val="3366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40503"/>
                </a:solidFill>
                <a:latin typeface="Arial"/>
              </a:rPr>
              <a:t>Консолидированный бюджет                     760,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40503"/>
                </a:solidFill>
                <a:latin typeface="Arial Black"/>
              </a:rPr>
              <a:t>в том числе: внутренние обороты – 60,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5" name="Group 61"/>
          <p:cNvGrpSpPr/>
          <p:nvPr/>
        </p:nvGrpSpPr>
        <p:grpSpPr>
          <a:xfrm>
            <a:off x="324000" y="1413000"/>
            <a:ext cx="8495640" cy="4586760"/>
            <a:chOff x="324000" y="1413000"/>
            <a:chExt cx="8495640" cy="4586760"/>
          </a:xfrm>
        </p:grpSpPr>
        <p:sp>
          <p:nvSpPr>
            <p:cNvPr id="676" name="Rectangle 35"/>
            <p:cNvSpPr/>
            <p:nvPr/>
          </p:nvSpPr>
          <p:spPr>
            <a:xfrm>
              <a:off x="324000" y="1413000"/>
              <a:ext cx="2016000" cy="8636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Межбюджетны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трансферты из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краевого бюджет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cc"/>
                  </a:solidFill>
                  <a:latin typeface="Arial"/>
                </a:rPr>
                <a:t>554,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Rectangle 36"/>
            <p:cNvSpPr/>
            <p:nvPr/>
          </p:nvSpPr>
          <p:spPr>
            <a:xfrm>
              <a:off x="2844720" y="1413000"/>
              <a:ext cx="2015640" cy="8636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обственны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доходы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районного бюджет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cc"/>
                  </a:solidFill>
                  <a:latin typeface="Arial"/>
                </a:rPr>
                <a:t>121,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Rectangle 37"/>
            <p:cNvSpPr/>
            <p:nvPr/>
          </p:nvSpPr>
          <p:spPr>
            <a:xfrm>
              <a:off x="6804000" y="1413000"/>
              <a:ext cx="2015640" cy="8636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обственные доходы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поселений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cc"/>
                  </a:solidFill>
                  <a:latin typeface="Arial"/>
                </a:rPr>
                <a:t>19,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Rectangle 38"/>
            <p:cNvSpPr/>
            <p:nvPr/>
          </p:nvSpPr>
          <p:spPr>
            <a:xfrm>
              <a:off x="1331640" y="3068640"/>
              <a:ext cx="2665080" cy="20160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Районный бюджет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cc"/>
                  </a:solidFill>
                  <a:latin typeface="Arial"/>
                </a:rPr>
                <a:t>680,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Rectangle 39"/>
            <p:cNvSpPr/>
            <p:nvPr/>
          </p:nvSpPr>
          <p:spPr>
            <a:xfrm>
              <a:off x="4787640" y="2565360"/>
              <a:ext cx="1728720" cy="647640"/>
            </a:xfrm>
            <a:prstGeom prst="rect">
              <a:avLst/>
            </a:pr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Субвенция н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передачу полномочий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cc"/>
                  </a:solidFill>
                  <a:latin typeface="Arial"/>
                </a:rPr>
                <a:t>3,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Rectangle 40"/>
            <p:cNvSpPr/>
            <p:nvPr/>
          </p:nvSpPr>
          <p:spPr>
            <a:xfrm>
              <a:off x="4787640" y="3357720"/>
              <a:ext cx="1728720" cy="5029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Субвенци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cc"/>
                  </a:solidFill>
                  <a:latin typeface="Arial"/>
                </a:rPr>
                <a:t>7,7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Rectangle 41"/>
            <p:cNvSpPr/>
            <p:nvPr/>
          </p:nvSpPr>
          <p:spPr>
            <a:xfrm>
              <a:off x="4787640" y="3933720"/>
              <a:ext cx="1728720" cy="720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Дотация из районного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фонда финансовой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поддержк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cc"/>
                  </a:solidFill>
                  <a:latin typeface="Arial"/>
                </a:rPr>
                <a:t>49,7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AutoShape 43"/>
            <p:cNvSpPr/>
            <p:nvPr/>
          </p:nvSpPr>
          <p:spPr>
            <a:xfrm rot="19730400">
              <a:off x="1547640" y="2204640"/>
              <a:ext cx="199800" cy="936720"/>
            </a:xfrm>
            <a:prstGeom prst="downArrow">
              <a:avLst>
                <a:gd name="adj1" fmla="val 50000"/>
                <a:gd name="adj2" fmla="val 117207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AutoShape 44"/>
            <p:cNvSpPr/>
            <p:nvPr/>
          </p:nvSpPr>
          <p:spPr>
            <a:xfrm rot="1800000">
              <a:off x="3564000" y="2205000"/>
              <a:ext cx="199440" cy="936720"/>
            </a:xfrm>
            <a:prstGeom prst="downArrow">
              <a:avLst>
                <a:gd name="adj1" fmla="val 50000"/>
                <a:gd name="adj2" fmla="val 117419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Line 46"/>
            <p:cNvSpPr/>
            <p:nvPr/>
          </p:nvSpPr>
          <p:spPr>
            <a:xfrm>
              <a:off x="3995640" y="3645000"/>
              <a:ext cx="7916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Line 47"/>
            <p:cNvSpPr/>
            <p:nvPr/>
          </p:nvSpPr>
          <p:spPr>
            <a:xfrm>
              <a:off x="3995640" y="4292640"/>
              <a:ext cx="7916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Line 48"/>
            <p:cNvSpPr/>
            <p:nvPr/>
          </p:nvSpPr>
          <p:spPr>
            <a:xfrm flipH="1">
              <a:off x="3995280" y="2924280"/>
              <a:ext cx="791640" cy="50328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Rectangle 49"/>
            <p:cNvSpPr/>
            <p:nvPr/>
          </p:nvSpPr>
          <p:spPr>
            <a:xfrm>
              <a:off x="7237440" y="3068640"/>
              <a:ext cx="1582200" cy="20160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Бюджет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поселени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cc"/>
                  </a:solidFill>
                  <a:latin typeface="Arial"/>
                </a:rPr>
                <a:t>80,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Line 51"/>
            <p:cNvSpPr/>
            <p:nvPr/>
          </p:nvSpPr>
          <p:spPr>
            <a:xfrm>
              <a:off x="6516720" y="4292640"/>
              <a:ext cx="720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Line 52"/>
            <p:cNvSpPr/>
            <p:nvPr/>
          </p:nvSpPr>
          <p:spPr>
            <a:xfrm>
              <a:off x="6516720" y="3645000"/>
              <a:ext cx="720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Line 53"/>
            <p:cNvSpPr/>
            <p:nvPr/>
          </p:nvSpPr>
          <p:spPr>
            <a:xfrm flipH="1" flipV="1">
              <a:off x="6516360" y="2852280"/>
              <a:ext cx="720360" cy="50508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AutoShape 54"/>
            <p:cNvSpPr/>
            <p:nvPr/>
          </p:nvSpPr>
          <p:spPr>
            <a:xfrm>
              <a:off x="7885080" y="2276640"/>
              <a:ext cx="199440" cy="792000"/>
            </a:xfrm>
            <a:prstGeom prst="downArrow">
              <a:avLst>
                <a:gd name="adj1" fmla="val 50000"/>
                <a:gd name="adj2" fmla="val 99278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AutoShape 55"/>
            <p:cNvSpPr/>
            <p:nvPr/>
          </p:nvSpPr>
          <p:spPr>
            <a:xfrm rot="17880000">
              <a:off x="3133440" y="4652640"/>
              <a:ext cx="244440" cy="1685880"/>
            </a:xfrm>
            <a:prstGeom prst="downArrow">
              <a:avLst>
                <a:gd name="adj1" fmla="val 50000"/>
                <a:gd name="adj2" fmla="val 172423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AutoShape 56"/>
            <p:cNvSpPr/>
            <p:nvPr/>
          </p:nvSpPr>
          <p:spPr>
            <a:xfrm rot="3720000">
              <a:off x="7165440" y="4653000"/>
              <a:ext cx="244440" cy="1685520"/>
            </a:xfrm>
            <a:prstGeom prst="downArrow">
              <a:avLst>
                <a:gd name="adj1" fmla="val 50000"/>
                <a:gd name="adj2" fmla="val 172386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Rectangle 58"/>
            <p:cNvSpPr/>
            <p:nvPr/>
          </p:nvSpPr>
          <p:spPr>
            <a:xfrm>
              <a:off x="4787640" y="4724280"/>
              <a:ext cx="1728720" cy="720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Иные межбюджетные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трансферты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cc"/>
                  </a:solidFill>
                  <a:latin typeface="Arial"/>
                </a:rPr>
                <a:t>3,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Line 59"/>
            <p:cNvSpPr/>
            <p:nvPr/>
          </p:nvSpPr>
          <p:spPr>
            <a:xfrm>
              <a:off x="3995640" y="5013360"/>
              <a:ext cx="7916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Line 60"/>
            <p:cNvSpPr/>
            <p:nvPr/>
          </p:nvSpPr>
          <p:spPr>
            <a:xfrm>
              <a:off x="6516720" y="5013360"/>
              <a:ext cx="720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2T12:15:02Z</dcterms:created>
  <dc:creator>30101</dc:creator>
  <dc:description/>
  <dc:language>en-US</dc:language>
  <cp:lastModifiedBy>хх</cp:lastModifiedBy>
  <dcterms:modified xsi:type="dcterms:W3CDTF">2014-05-13T00:31:05Z</dcterms:modified>
  <cp:revision>200</cp:revision>
  <dc:subject/>
  <dc:title>Параметры и принципы формирования бюджета на 2007 год  Основные направления бюджетной и налоговой политики Красноярского края на 2007 год</dc:title>
</cp:coreProperties>
</file>