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7311-845E-496F-857B-BEF1EF7A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D41-CA00-4BFA-9060-2C6ED58C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FF89-8730-4D85-8BB2-FCC692A4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AB30-6766-4F0C-B56A-CC2A1ABC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1939-CF5B-47C3-8652-BC1C4255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CBDE-2121-4765-834F-7AD3E3A7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0D3D-5823-4730-9AD5-DBEAF66E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75C2-3803-455F-A1FE-AF64BAF2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C764-CC50-4677-BAB8-0F216B42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7BB7-ECAB-443A-94F1-91B6DF62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8FB3-2531-4509-8CA9-5F5FB4E3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DE95-2848-41B8-952A-D48EAB49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04A1-4272-426C-9E7D-6E1249D6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2B0A-6003-494E-BC4A-A1D05CFA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BF52-0034-437F-9D1F-986CD323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17A4-DEA0-4C85-AAB4-C7A8EEB8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6D5B-797E-48E0-8524-40DE160C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D6C2-F7EE-4953-87AE-D1BB699E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BC3A-D234-49F1-9C74-941B7930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EC8-BF36-4CCD-B43B-A5A01A8E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36E-4711-4920-99EB-0965839D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A644-F80A-46EC-A3B2-2F32F2FC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A7F8-1DB0-4657-A2D9-6237BA23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B430-F49B-4063-84A9-2D5BEE5C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82C9-737C-47D3-8EA0-AA314E912B3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E9E3-6A55-416D-9269-AE4AE64C4EF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pub59407@mail.ru" TargetMode="External"/><Relationship Id="rId2" Type="http://schemas.openxmlformats.org/officeDocument/2006/relationships/hyperlink" Target="mailto:pub59407@mail.ru" TargetMode="External"/><Relationship Id="rId3" Type="http://schemas.openxmlformats.org/officeDocument/2006/relationships/hyperlink" Target="mailto:pub59407@mail.ru" TargetMode="External"/><Relationship Id="rId4" Type="http://schemas.openxmlformats.org/officeDocument/2006/relationships/hyperlink" Target="mailto:pub59407@mail.ru" TargetMode="External"/><Relationship Id="rId5" Type="http://schemas.openxmlformats.org/officeDocument/2006/relationships/hyperlink" Target="mailto:pub59407@mail.ru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835280" y="2097000"/>
            <a:ext cx="5695920" cy="4284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.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Что такое «БЮДЖЕТ ДЛЯ ГРАЖДАН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для граждан» - это  документ , обеспечивающий предоставление  бюджета и отчета об его исполнении  в доступной и понятной форме для широкого круга заинтересованных пользователей.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240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82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ИНФОРМАЦИЯ ОБ ИСПОЛНЕНИИ ОСНОВНЫХ ПАРАМЕТРОВ МЕСТНОГО БЮДЖЕТА ЗА 2022 ГОД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9640" y="1341360"/>
          <a:ext cx="8425080" cy="5388120"/>
        </p:xfrm>
        <a:graphic>
          <a:graphicData uri="http://schemas.openxmlformats.org/drawingml/2006/table">
            <a:tbl>
              <a:tblPr/>
              <a:tblGrid>
                <a:gridCol w="1693800"/>
                <a:gridCol w="1690920"/>
                <a:gridCol w="1584360"/>
                <a:gridCol w="1295280"/>
                <a:gridCol w="1008000"/>
                <a:gridCol w="1152720"/>
              </a:tblGrid>
              <a:tr h="1158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Наименование  ста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Первоначальный бюджет на 2022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Окончательный бюджет на 2022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Отчёт 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2022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%исполнения 1-го прогно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% исполнения окончательного прогно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740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Всего доходов в том числ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80289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101065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10069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12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9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Налоговые и неналоговые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8004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8204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8422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10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72285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9286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92274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12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9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74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80289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103434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99423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12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9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Дефицит(-), профицит(+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-236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1272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7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труктура налоговых доходов бюджета Краснотуранского района в 2022 году</a:t>
            </a:r>
            <a:br>
              <a:rPr sz="28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90,3 % от собственных доходов)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2" name="Объект 3" descr=""/>
          <p:cNvPicPr/>
          <p:nvPr/>
        </p:nvPicPr>
        <p:blipFill>
          <a:blip r:embed="rId1"/>
          <a:stretch/>
        </p:blipFill>
        <p:spPr>
          <a:xfrm>
            <a:off x="417600" y="2009880"/>
            <a:ext cx="83311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труктура неналоговых доходов бюджета Краснотуранского района в 2022 году</a:t>
            </a:r>
            <a:br>
              <a:rPr sz="2800"/>
            </a:br>
            <a:r>
              <a:rPr b="1" lang="ru-RU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неналоговые доходы  занимают 9,7% в структуре собственных доходов)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4" name="Объект 3" descr=""/>
          <p:cNvPicPr/>
          <p:nvPr/>
        </p:nvPicPr>
        <p:blipFill>
          <a:blip r:embed="rId1"/>
          <a:stretch/>
        </p:blipFill>
        <p:spPr>
          <a:xfrm>
            <a:off x="488880" y="1577880"/>
            <a:ext cx="83311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труктура расходов районного бюджет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6" name="Объект 3" descr=""/>
          <p:cNvPicPr/>
          <p:nvPr/>
        </p:nvPicPr>
        <p:blipFill>
          <a:blip r:embed="rId1"/>
          <a:stretch/>
        </p:blipFill>
        <p:spPr>
          <a:xfrm>
            <a:off x="200160" y="1362240"/>
            <a:ext cx="8691480" cy="53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нализ исполнения расходов </a:t>
            </a: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йонного бюджета за 2022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8" name="Объект 3" descr=""/>
          <p:cNvPicPr/>
          <p:nvPr/>
        </p:nvPicPr>
        <p:blipFill>
          <a:blip r:embed="rId1"/>
          <a:stretch/>
        </p:blipFill>
        <p:spPr>
          <a:xfrm>
            <a:off x="-50760" y="1268280"/>
            <a:ext cx="8921880" cy="56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608120" y="1159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елефоны Финансового управления администрации Краснотуранского райо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1079640" y="21337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График приема граждан руководителем Финансового управления администрации Краснотура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1685880" y="1052640"/>
            <a:ext cx="590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ководитель - 8(39134)21-2-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ый отдел – 8(39134)21-2-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дел учета и отчетности – 8(39134)22-3-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04800" y="2852640"/>
          <a:ext cx="6061320" cy="789120"/>
        </p:xfrm>
        <a:graphic>
          <a:graphicData uri="http://schemas.openxmlformats.org/drawingml/2006/table">
            <a:tbl>
              <a:tblPr/>
              <a:tblGrid>
                <a:gridCol w="2551320"/>
                <a:gridCol w="1800000"/>
                <a:gridCol w="1710000"/>
              </a:tblGrid>
              <a:tr h="270000">
                <a:tc>
                  <a:txBody>
                    <a:bodyPr lIns="0" rIns="0" tIns="0" bIns="0" anchor="t">
                      <a:noAutofit/>
                    </a:bodyPr>
                    <a:p>
                      <a:pPr marL="57240" algn="ctr">
                        <a:lnSpc>
                          <a:spcPts val="20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Дни при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6160">
                        <a:lnSpc>
                          <a:spcPts val="20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Часы при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19240" algn="ctr">
                        <a:lnSpc>
                          <a:spcPts val="20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телеф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0" rIns="0" tIns="0" bIns="0" anchor="t">
                      <a:noAutofit/>
                    </a:bodyPr>
                    <a:p>
                      <a:pPr marL="57240">
                        <a:lnSpc>
                          <a:spcPts val="1573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Ежедневно ( понедельник – пятниц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0040">
                        <a:lnSpc>
                          <a:spcPts val="20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08.00-1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13.00-16.</a:t>
                      </a:r>
                      <a:r>
                        <a:rPr b="0" lang="ru-RU" sz="12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17440" algn="ctr">
                        <a:lnSpc>
                          <a:spcPts val="1573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8(39134)21-2-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Прямоугольник 7"/>
          <p:cNvSpPr/>
          <p:nvPr/>
        </p:nvSpPr>
        <p:spPr>
          <a:xfrm>
            <a:off x="1079640" y="3897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дготовлено Финансовым управлением администрации Краснотура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8"/>
          <p:cNvSpPr/>
          <p:nvPr/>
        </p:nvSpPr>
        <p:spPr>
          <a:xfrm>
            <a:off x="2340000" y="4816440"/>
            <a:ext cx="422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 u="sng">
                <a:solidFill>
                  <a:srgbClr val="f49100"/>
                </a:solidFill>
                <a:uFillTx/>
                <a:latin typeface="Arial"/>
                <a:hlinkClick r:id="rId1"/>
              </a:rPr>
              <a:t>pub</a:t>
            </a:r>
            <a:r>
              <a:rPr b="0" lang="ru-RU" sz="1600" spc="-1" strike="noStrike" u="sng">
                <a:solidFill>
                  <a:srgbClr val="f49100"/>
                </a:solidFill>
                <a:uFillTx/>
                <a:latin typeface="Arial"/>
                <a:hlinkClick r:id="rId2"/>
              </a:rPr>
              <a:t>03407@</a:t>
            </a:r>
            <a:r>
              <a:rPr b="0" lang="en-US" sz="1600" spc="-1" strike="noStrike" u="sng">
                <a:solidFill>
                  <a:srgbClr val="f49100"/>
                </a:solidFill>
                <a:uFillTx/>
                <a:latin typeface="Arial"/>
                <a:hlinkClick r:id="rId3"/>
              </a:rPr>
              <a:t>krasmail</a:t>
            </a:r>
            <a:r>
              <a:rPr b="0" lang="ru-RU" sz="1600" spc="-1" strike="noStrike" u="sng">
                <a:solidFill>
                  <a:srgbClr val="f49100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600" spc="-1" strike="noStrike" u="sng">
                <a:solidFill>
                  <a:srgbClr val="f49100"/>
                </a:solidFill>
                <a:uFillTx/>
                <a:latin typeface="Arial"/>
                <a:hlinkClick r:id="rId5"/>
              </a:rPr>
              <a:t>r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актная информ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. Краснотуранск, ул. Карла Маркса,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л.: (39134) 21-2-32, 21-2-35, 22-3-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31T04:02:38Z</dcterms:created>
  <dc:creator>Konsultant</dc:creator>
  <dc:description/>
  <dc:language>en-US</dc:language>
  <cp:lastModifiedBy>User</cp:lastModifiedBy>
  <cp:lastPrinted>2023-05-24T08:15:23Z</cp:lastPrinted>
  <dcterms:modified xsi:type="dcterms:W3CDTF">2023-06-02T03:20:35Z</dcterms:modified>
  <cp:revision>498</cp:revision>
  <dc:subject/>
  <dc:title>Бюджет для граждан Краснотуранского района на 2014 год и плановый период 2015-2016 годов</dc:title>
</cp:coreProperties>
</file>