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4.jpeg" ContentType="image/jpeg"/>
  <Override PartName="/ppt/media/image10.wmf" ContentType="image/x-wmf"/>
  <Override PartName="/ppt/media/image31.jpeg" ContentType="image/jpeg"/>
  <Override PartName="/ppt/media/image25.jpeg" ContentType="image/jpeg"/>
  <Override PartName="/ppt/media/image2.png" ContentType="image/png"/>
  <Override PartName="/ppt/media/image38.jpeg" ContentType="image/jpeg"/>
  <Override PartName="/ppt/media/image7.jpeg" ContentType="image/jpeg"/>
  <Override PartName="/ppt/media/image34.jpeg" ContentType="image/jpeg"/>
  <Override PartName="/ppt/media/image18.png" ContentType="image/png"/>
  <Override PartName="/ppt/media/image28.jpeg" ContentType="image/jpeg"/>
  <Override PartName="/ppt/media/image8.png" ContentType="image/png"/>
  <Override PartName="/ppt/media/image13.png" ContentType="image/png"/>
  <Override PartName="/ppt/media/image37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33.jpeg" ContentType="image/jpeg"/>
  <Override PartName="/ppt/media/image20.png" ContentType="image/png"/>
  <Override PartName="/ppt/media/image36.jpeg" ContentType="image/jpeg"/>
  <Override PartName="/ppt/media/image6.png" ContentType="image/png"/>
  <Override PartName="/ppt/media/image3.png" ContentType="image/png"/>
  <Override PartName="/ppt/media/image9.jpeg" ContentType="image/jpeg"/>
  <Override PartName="/ppt/media/image11.png" ContentType="image/png"/>
  <Override PartName="/ppt/media/image5.png" ContentType="image/png"/>
  <Override PartName="/ppt/media/image29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F1C-9440-4265-AB3C-EF360184C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2816-A40C-40FE-B059-E78B42F3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3E7-502A-43C6-AC72-60021070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5C0-1911-4686-BF69-B4DCCE54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A0DC3-4602-484B-BA1C-B6C72D0AE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4A88-F3CF-4468-B5EC-7AC607074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121F-207E-4F1B-A1FF-153BF3CBA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6AC1-69E2-481B-AA3B-A1D5C93D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E6BB3-2DBC-4B42-9AB8-985720668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24167-1A12-40DE-AB7E-CB8A094F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A420-2858-477C-BB46-02C0C7666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87AF-E325-40E2-90F7-D6E07A52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00BB-468A-41F9-B643-85AA4D34C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DD170-A5A6-4BAA-B8AE-06971308A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37B46-489A-4F78-A252-0D8C95E6A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7C92-15CC-4456-B995-EB94D5EE8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FC016-7AF5-49BB-AB6D-14432DADB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449EC-A204-4B72-B821-7E8ADA1DD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E96100-6A9D-4129-B98E-8C51BA72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2D4D09-BC80-4422-8CE5-0B4D6EDE8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D8DE-1162-4420-B9CF-EA22707EE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4E7FA-42BE-482F-A450-C9A16523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1942-5535-4454-80C8-5C72D7781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57015A-8DA2-418C-ADCC-C12DC4011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076549-BBC2-4727-8103-2844B983C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98D9-8348-49F1-94D0-B136888EF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11D54F-AE79-465A-9DB1-22A7DB1F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050AA-AA90-41DC-9ED6-784C1E1E5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694C8-7064-43E6-BA7A-9C6586B4E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39527-D372-4997-A1C2-DBFDB7240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EDE88-A2F9-4E69-A26D-2E580FCC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4DFD4-89F9-4919-9405-629B3BFF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0ECE0-5980-4826-A6B0-DF9B7100B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81EA-3720-4B6A-A2FC-7B1487B49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C3D4B-30CC-422F-8451-6D7B9FF9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3516DE-826B-45F7-9C7A-0A348671B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48853-8820-4073-AC47-ED6D750DD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6FD6C-AA4F-49FC-9851-FC2A10D2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484A4-BAD6-40B9-A0B9-F223C6E5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C6621-D51E-4C09-872E-5AC464FBF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91C1F-DF6C-42E9-BFE2-CA5B7691B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A85E1-783C-4DD4-B67D-5603A228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0B20B8-91F4-479D-BD8A-35CD4D24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002A-C2A7-474C-BB11-831E0BA3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8EFB-ABC0-42D4-83CF-A359810E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C616-9ED9-4A4E-9174-2B90863C0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EEDA-E87F-44C7-960C-3223EA85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B184-B4AE-4AA0-9772-02842D08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21DE-7602-43BA-A2A2-A0812F4AF313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EB6E-3FF4-4DBC-8726-8AC64A9E88AB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FDCB-B1AD-4F33-8577-1C1737D22131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1EA97-CE37-4D94-B37C-A0E5525A786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mailto:pub59407@mail.ru" TargetMode="External"/><Relationship Id="rId2" Type="http://schemas.openxmlformats.org/officeDocument/2006/relationships/hyperlink" Target="mailto:pub59407@mail.ru" TargetMode="External"/><Relationship Id="rId3" Type="http://schemas.openxmlformats.org/officeDocument/2006/relationships/hyperlink" Target="mailto:pub59407@mail.ru" TargetMode="External"/><Relationship Id="rId4" Type="http://schemas.openxmlformats.org/officeDocument/2006/relationships/hyperlink" Target="mailto:pub59407@mail.ru" TargetMode="External"/><Relationship Id="rId5" Type="http://schemas.openxmlformats.org/officeDocument/2006/relationships/hyperlink" Target="mailto:pub59407@mail.ru" TargetMode="Externa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6" name="Picture 11" descr="F:\Бюджет для граждан 2014 год\krasturan.gif"/>
          <p:cNvPicPr/>
          <p:nvPr/>
        </p:nvPicPr>
        <p:blipFill>
          <a:blip r:embed="rId1"/>
          <a:stretch/>
        </p:blipFill>
        <p:spPr>
          <a:xfrm>
            <a:off x="2714760" y="2465280"/>
            <a:ext cx="3571920" cy="438336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8"/>
          <p:cNvSpPr/>
          <p:nvPr/>
        </p:nvSpPr>
        <p:spPr>
          <a:xfrm>
            <a:off x="611280" y="260280"/>
            <a:ext cx="813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Бюджет для гражда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Краснотуранского района на 2017 го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Arial"/>
              </a:rPr>
              <a:t>и плановый период 2018-2019 г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1514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71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ru-RU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ноз социально-экономического развития Краснотуранского района на 2017 год и на плановый период 2018 и 2019 годов</a:t>
            </a:r>
            <a:br>
              <a:rPr sz="2600"/>
            </a:b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934640"/>
            <a:ext cx="885672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1160" indent="342720">
              <a:lnSpc>
                <a:spcPct val="100000"/>
              </a:lnSpc>
              <a:buClr>
                <a:srgbClr val="17365d"/>
              </a:buClr>
              <a:buSzPct val="71000"/>
              <a:buFont typeface="Wingdings" charset="2"/>
              <a:buChar char=""/>
              <a:tabLst>
                <a:tab algn="l" pos="112248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Определяет </a:t>
            </a:r>
            <a:r>
              <a:rPr b="0" lang="en-US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направления и</a:t>
            </a: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 </a:t>
            </a: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ожидаемые результаты социально- экономического развития Краснотуранского района в среднесрочной перспективе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11160" indent="342720">
              <a:lnSpc>
                <a:spcPct val="100000"/>
              </a:lnSpc>
              <a:tabLst>
                <a:tab algn="l" pos="0"/>
                <a:tab algn="l" pos="112248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9360" indent="344520">
              <a:lnSpc>
                <a:spcPct val="100000"/>
              </a:lnSpc>
              <a:buClr>
                <a:srgbClr val="17365d"/>
              </a:buClr>
              <a:buSzPct val="71000"/>
              <a:buFont typeface="Wingdings" charset="2"/>
              <a:buChar char=""/>
              <a:tabLst>
                <a:tab algn="l" pos="112248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 </a:t>
            </a:r>
            <a:r>
              <a:rPr b="0" lang="en-US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Формирует единую платформу для</a:t>
            </a: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Wingdings"/>
              </a:rPr>
              <a:t> </a:t>
            </a:r>
            <a:r>
              <a:rPr b="0" lang="ru-RU" sz="28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разработки муниципальных программ Краснотуранского района, иных документов среднесрочного характера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9360" indent="3445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1122480"/>
                <a:tab algn="l" pos="1123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гноз социально-экономического развития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 система количественных и качественных показателей развития экономики является основой для составления районного бюджета</a:t>
            </a:r>
            <a:br>
              <a:rPr sz="1600"/>
            </a:b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1"/>
          <a:stretch/>
        </p:blipFill>
        <p:spPr>
          <a:xfrm>
            <a:off x="92160" y="1225440"/>
            <a:ext cx="8929440" cy="5545080"/>
          </a:xfrm>
          <a:prstGeom prst="rect">
            <a:avLst/>
          </a:prstGeom>
          <a:ln w="0">
            <a:noFill/>
          </a:ln>
        </p:spPr>
      </p:pic>
      <p:sp>
        <p:nvSpPr>
          <p:cNvPr id="229" name="Прямая соединительная линия 5"/>
          <p:cNvSpPr/>
          <p:nvPr/>
        </p:nvSpPr>
        <p:spPr>
          <a:xfrm>
            <a:off x="9021600" y="1413000"/>
            <a:ext cx="0" cy="5184720"/>
          </a:xfrm>
          <a:prstGeom prst="line">
            <a:avLst/>
          </a:prstGeom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цели бюджетной политики на 2017 – 2019 годы</a:t>
            </a:r>
            <a:endParaRPr b="0" lang="en-US" sz="3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127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Обеспечение сбалансированности и устойчивости бюджетной системы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28600">
              <a:lnSpc>
                <a:spcPct val="10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Повышение результативности бюджетных расходов, достижение установленных показателей;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28600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Обеспечение прозрачности и открытости бюджетного планирования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Приоритеты в области налоговой политики направлены на реализацию следующих целей: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Совершенствование налогового администрирования, повышение уровня ответственности главных администраторов доходов за качественное прогнозирование доходов бюджета и выполнение в полном объеме утвержденных годовых назначений по доходам районного бюджета и бюджетам поселений Краснотуранского района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Проведение мероприятий по повышению эффективности управления муниципальной собственностью и росту доходов от ее использования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Выявление и пресечение нелегальной выплаты заработной платы;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Совершенствование налоговой системы в среднесрочной перспективе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371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направления налоговой политики Краснотуранского района на 2017 год и на плановый период 2018 и 2019 годов</a:t>
            </a:r>
            <a:br>
              <a:rPr sz="32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Основные параметры консолидированного бюджета МО «Краснотуранский район» на 2017 год и плановый период 2018-2019 годов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без учета внутренних оборотов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7164360" y="156060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лн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>
            <a:off x="120600" y="1400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65"/>
          <p:cNvGrpSpPr/>
          <p:nvPr/>
        </p:nvGrpSpPr>
        <p:grpSpPr>
          <a:xfrm>
            <a:off x="324000" y="1436760"/>
            <a:ext cx="2235960" cy="243720"/>
            <a:chOff x="324000" y="1436760"/>
            <a:chExt cx="2235960" cy="243720"/>
          </a:xfrm>
        </p:grpSpPr>
        <p:pic>
          <p:nvPicPr>
            <p:cNvPr id="238" name="Picture 50" descr=""/>
            <p:cNvPicPr/>
            <p:nvPr/>
          </p:nvPicPr>
          <p:blipFill>
            <a:blip r:embed="rId1"/>
            <a:stretch/>
          </p:blipFill>
          <p:spPr>
            <a:xfrm>
              <a:off x="324000" y="1484280"/>
              <a:ext cx="114120" cy="11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Rectangle 51"/>
            <p:cNvSpPr/>
            <p:nvPr/>
          </p:nvSpPr>
          <p:spPr>
            <a:xfrm>
              <a:off x="324000" y="1484280"/>
              <a:ext cx="114120" cy="114480"/>
            </a:xfrm>
            <a:prstGeom prst="rect">
              <a:avLst/>
            </a:prstGeom>
            <a:solidFill>
              <a:srgbClr val="04617b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52"/>
            <p:cNvSpPr/>
            <p:nvPr/>
          </p:nvSpPr>
          <p:spPr>
            <a:xfrm>
              <a:off x="507600" y="1436760"/>
              <a:ext cx="83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6686d"/>
                  </a:solidFill>
                  <a:latin typeface="Constantia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1" name="Picture 53" descr=""/>
            <p:cNvPicPr/>
            <p:nvPr/>
          </p:nvPicPr>
          <p:blipFill>
            <a:blip r:embed="rId2"/>
            <a:stretch/>
          </p:blipFill>
          <p:spPr>
            <a:xfrm>
              <a:off x="1463760" y="1494000"/>
              <a:ext cx="114480" cy="11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Rectangle 54"/>
            <p:cNvSpPr/>
            <p:nvPr/>
          </p:nvSpPr>
          <p:spPr>
            <a:xfrm>
              <a:off x="1463760" y="1494000"/>
              <a:ext cx="114480" cy="114120"/>
            </a:xfrm>
            <a:prstGeom prst="rect">
              <a:avLst/>
            </a:prstGeom>
            <a:solidFill>
              <a:srgbClr val="ff6600"/>
            </a:solidFill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55"/>
            <p:cNvSpPr/>
            <p:nvPr/>
          </p:nvSpPr>
          <p:spPr>
            <a:xfrm>
              <a:off x="1635840" y="1436760"/>
              <a:ext cx="92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6686d"/>
                  </a:solidFill>
                  <a:latin typeface="Constantia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25"/>
          <p:cNvSpPr/>
          <p:nvPr/>
        </p:nvSpPr>
        <p:spPr>
          <a:xfrm>
            <a:off x="6534000" y="3213000"/>
            <a:ext cx="709920" cy="2808360"/>
          </a:xfrm>
          <a:prstGeom prst="rect">
            <a:avLst/>
          </a:prstGeom>
          <a:solidFill>
            <a:srgbClr val="04617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1"/>
          <p:cNvSpPr/>
          <p:nvPr/>
        </p:nvSpPr>
        <p:spPr>
          <a:xfrm>
            <a:off x="7248600" y="3213000"/>
            <a:ext cx="696960" cy="282888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71"/>
          <p:cNvSpPr/>
          <p:nvPr/>
        </p:nvSpPr>
        <p:spPr>
          <a:xfrm flipV="1">
            <a:off x="319248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72"/>
          <p:cNvSpPr/>
          <p:nvPr/>
        </p:nvSpPr>
        <p:spPr>
          <a:xfrm flipV="1">
            <a:off x="584820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3"/>
          <p:cNvSpPr/>
          <p:nvPr/>
        </p:nvSpPr>
        <p:spPr>
          <a:xfrm flipV="1">
            <a:off x="8515440" y="6066000"/>
            <a:ext cx="3240" cy="48960"/>
          </a:xfrm>
          <a:prstGeom prst="line">
            <a:avLst/>
          </a:prstGeom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80"/>
          <p:cNvSpPr/>
          <p:nvPr/>
        </p:nvSpPr>
        <p:spPr>
          <a:xfrm>
            <a:off x="1195560" y="3502080"/>
            <a:ext cx="698400" cy="2519280"/>
          </a:xfrm>
          <a:prstGeom prst="rect">
            <a:avLst/>
          </a:prstGeom>
          <a:solidFill>
            <a:srgbClr val="04617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2"/>
          <p:cNvSpPr/>
          <p:nvPr/>
        </p:nvSpPr>
        <p:spPr>
          <a:xfrm>
            <a:off x="1908000" y="3502080"/>
            <a:ext cx="700200" cy="255420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4"/>
          <p:cNvSpPr/>
          <p:nvPr/>
        </p:nvSpPr>
        <p:spPr>
          <a:xfrm>
            <a:off x="3803760" y="3502080"/>
            <a:ext cx="752400" cy="2519280"/>
          </a:xfrm>
          <a:prstGeom prst="rect">
            <a:avLst/>
          </a:prstGeom>
          <a:solidFill>
            <a:srgbClr val="04617b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6"/>
          <p:cNvSpPr/>
          <p:nvPr/>
        </p:nvSpPr>
        <p:spPr>
          <a:xfrm>
            <a:off x="4572000" y="3502080"/>
            <a:ext cx="754200" cy="2512800"/>
          </a:xfrm>
          <a:prstGeom prst="rect">
            <a:avLst/>
          </a:prstGeom>
          <a:solidFill>
            <a:srgbClr val="ff6600"/>
          </a:solidFill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98"/>
          <p:cNvSpPr/>
          <p:nvPr/>
        </p:nvSpPr>
        <p:spPr>
          <a:xfrm>
            <a:off x="1481040" y="6213600"/>
            <a:ext cx="81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2017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99"/>
          <p:cNvSpPr/>
          <p:nvPr/>
        </p:nvSpPr>
        <p:spPr>
          <a:xfrm>
            <a:off x="4158360" y="6213600"/>
            <a:ext cx="81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2018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00"/>
          <p:cNvSpPr/>
          <p:nvPr/>
        </p:nvSpPr>
        <p:spPr>
          <a:xfrm>
            <a:off x="6815880" y="6216480"/>
            <a:ext cx="811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Constantia"/>
              </a:rPr>
              <a:t>2019 го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21"/>
          <p:cNvSpPr/>
          <p:nvPr/>
        </p:nvSpPr>
        <p:spPr>
          <a:xfrm>
            <a:off x="1206360" y="313704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69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22"/>
          <p:cNvSpPr/>
          <p:nvPr/>
        </p:nvSpPr>
        <p:spPr>
          <a:xfrm>
            <a:off x="1908000" y="3137040"/>
            <a:ext cx="7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69,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23"/>
          <p:cNvSpPr/>
          <p:nvPr/>
        </p:nvSpPr>
        <p:spPr>
          <a:xfrm flipV="1" rot="10800000">
            <a:off x="3779640" y="319464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65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24"/>
          <p:cNvSpPr/>
          <p:nvPr/>
        </p:nvSpPr>
        <p:spPr>
          <a:xfrm flipV="1" rot="10804800">
            <a:off x="4624200" y="319536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65,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25"/>
          <p:cNvSpPr/>
          <p:nvPr/>
        </p:nvSpPr>
        <p:spPr>
          <a:xfrm flipV="1" rot="10800000">
            <a:off x="6588000" y="283428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70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26"/>
          <p:cNvSpPr/>
          <p:nvPr/>
        </p:nvSpPr>
        <p:spPr>
          <a:xfrm flipV="1" rot="10800000">
            <a:off x="7308720" y="285012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70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Доходы консолидированного бюджета 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МО 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«Краснотуранский 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  район» в 20</a:t>
            </a: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1</a:t>
            </a:r>
            <a:r>
              <a:rPr b="0" lang="ru-RU" sz="2200" spc="-1" strike="noStrike">
                <a:solidFill>
                  <a:srgbClr val="04617b"/>
                </a:solidFill>
                <a:latin typeface="Calibri"/>
              </a:rPr>
              <a:t>7 году</a:t>
            </a: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</a:t>
            </a: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(млн. рублей)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3" name="Line 7"/>
          <p:cNvSpPr/>
          <p:nvPr/>
        </p:nvSpPr>
        <p:spPr>
          <a:xfrm>
            <a:off x="179280" y="134136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250920" y="5877000"/>
            <a:ext cx="8642160" cy="792000"/>
          </a:xfrm>
          <a:prstGeom prst="rect">
            <a:avLst/>
          </a:prstGeom>
          <a:solidFill>
            <a:srgbClr val="3366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0503"/>
                </a:solidFill>
                <a:latin typeface="Constantia"/>
              </a:rPr>
              <a:t>Консолидированный бюджет                     723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40503"/>
                </a:solidFill>
                <a:latin typeface="Arial Black"/>
              </a:rPr>
              <a:t>в том числе: внутренние обороты – 64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61"/>
          <p:cNvGrpSpPr/>
          <p:nvPr/>
        </p:nvGrpSpPr>
        <p:grpSpPr>
          <a:xfrm>
            <a:off x="324000" y="1413000"/>
            <a:ext cx="8495640" cy="4586760"/>
            <a:chOff x="324000" y="1413000"/>
            <a:chExt cx="8495640" cy="4586760"/>
          </a:xfrm>
        </p:grpSpPr>
        <p:sp>
          <p:nvSpPr>
            <p:cNvPr id="266" name="Rectangle 35"/>
            <p:cNvSpPr/>
            <p:nvPr/>
          </p:nvSpPr>
          <p:spPr>
            <a:xfrm>
              <a:off x="324000" y="1413000"/>
              <a:ext cx="201600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Межбюджет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трансферты из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краевого бюдж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4617b"/>
                  </a:solidFill>
                  <a:latin typeface="Constantia"/>
                </a:rPr>
                <a:t>586,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6"/>
            <p:cNvSpPr/>
            <p:nvPr/>
          </p:nvSpPr>
          <p:spPr>
            <a:xfrm>
              <a:off x="284472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Собственны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доходы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районного бюдже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4617b"/>
                  </a:solidFill>
                  <a:latin typeface="Constantia"/>
                </a:rPr>
                <a:t>42,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7"/>
            <p:cNvSpPr/>
            <p:nvPr/>
          </p:nvSpPr>
          <p:spPr>
            <a:xfrm>
              <a:off x="6804000" y="1413000"/>
              <a:ext cx="2015640" cy="8636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Собственные доход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onstantia"/>
                </a:rPr>
                <a:t>поселени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4617b"/>
                  </a:solidFill>
                  <a:latin typeface="Constantia"/>
                </a:rPr>
                <a:t>25,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8"/>
            <p:cNvSpPr/>
            <p:nvPr/>
          </p:nvSpPr>
          <p:spPr>
            <a:xfrm>
              <a:off x="1331640" y="3068640"/>
              <a:ext cx="266508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Районный бюдж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4617b"/>
                  </a:solidFill>
                  <a:latin typeface="Constantia"/>
                </a:rPr>
                <a:t>633,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9"/>
            <p:cNvSpPr/>
            <p:nvPr/>
          </p:nvSpPr>
          <p:spPr>
            <a:xfrm>
              <a:off x="4787640" y="2565360"/>
              <a:ext cx="1728720" cy="647640"/>
            </a:xfrm>
            <a:prstGeom prst="rect">
              <a:avLst/>
            </a:prstGeom>
            <a:noFill/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Субвенция н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передачу полномочи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4617b"/>
                  </a:solidFill>
                  <a:latin typeface="Constantia"/>
                </a:rPr>
                <a:t>4,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0"/>
            <p:cNvSpPr/>
            <p:nvPr/>
          </p:nvSpPr>
          <p:spPr>
            <a:xfrm>
              <a:off x="4787640" y="3357720"/>
              <a:ext cx="1728720" cy="502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Субвенци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4617b"/>
                  </a:solidFill>
                  <a:latin typeface="Constantia"/>
                </a:rPr>
                <a:t>1,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1"/>
            <p:cNvSpPr/>
            <p:nvPr/>
          </p:nvSpPr>
          <p:spPr>
            <a:xfrm>
              <a:off x="4787640" y="393372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Дотация из районного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фонда финансово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поддерж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4617b"/>
                  </a:solidFill>
                  <a:latin typeface="Constantia"/>
                </a:rPr>
                <a:t>63,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AutoShape 43"/>
            <p:cNvSpPr/>
            <p:nvPr/>
          </p:nvSpPr>
          <p:spPr>
            <a:xfrm rot="19730400">
              <a:off x="1547640" y="2204640"/>
              <a:ext cx="199800" cy="936720"/>
            </a:xfrm>
            <a:prstGeom prst="downArrow">
              <a:avLst>
                <a:gd name="adj1" fmla="val 50000"/>
                <a:gd name="adj2" fmla="val 117207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AutoShape 44"/>
            <p:cNvSpPr/>
            <p:nvPr/>
          </p:nvSpPr>
          <p:spPr>
            <a:xfrm rot="1800000">
              <a:off x="3564000" y="2205000"/>
              <a:ext cx="199440" cy="936720"/>
            </a:xfrm>
            <a:prstGeom prst="downArrow">
              <a:avLst>
                <a:gd name="adj1" fmla="val 50000"/>
                <a:gd name="adj2" fmla="val 117419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6"/>
            <p:cNvSpPr/>
            <p:nvPr/>
          </p:nvSpPr>
          <p:spPr>
            <a:xfrm>
              <a:off x="3995640" y="364500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7"/>
            <p:cNvSpPr/>
            <p:nvPr/>
          </p:nvSpPr>
          <p:spPr>
            <a:xfrm>
              <a:off x="3995640" y="429264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8"/>
            <p:cNvSpPr/>
            <p:nvPr/>
          </p:nvSpPr>
          <p:spPr>
            <a:xfrm flipH="1">
              <a:off x="3995280" y="2924280"/>
              <a:ext cx="791640" cy="5032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9"/>
            <p:cNvSpPr/>
            <p:nvPr/>
          </p:nvSpPr>
          <p:spPr>
            <a:xfrm>
              <a:off x="7237440" y="3068640"/>
              <a:ext cx="1582200" cy="20160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Бюдже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поселени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4617b"/>
                  </a:solidFill>
                  <a:latin typeface="Constantia"/>
                </a:rPr>
                <a:t>89,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1"/>
            <p:cNvSpPr/>
            <p:nvPr/>
          </p:nvSpPr>
          <p:spPr>
            <a:xfrm>
              <a:off x="6516720" y="429264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2"/>
            <p:cNvSpPr/>
            <p:nvPr/>
          </p:nvSpPr>
          <p:spPr>
            <a:xfrm>
              <a:off x="6516720" y="364500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3"/>
            <p:cNvSpPr/>
            <p:nvPr/>
          </p:nvSpPr>
          <p:spPr>
            <a:xfrm flipH="1" flipV="1">
              <a:off x="6516360" y="2852280"/>
              <a:ext cx="720360" cy="50508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AutoShape 54"/>
            <p:cNvSpPr/>
            <p:nvPr/>
          </p:nvSpPr>
          <p:spPr>
            <a:xfrm>
              <a:off x="7885080" y="2276640"/>
              <a:ext cx="199440" cy="792000"/>
            </a:xfrm>
            <a:prstGeom prst="downArrow">
              <a:avLst>
                <a:gd name="adj1" fmla="val 50000"/>
                <a:gd name="adj2" fmla="val 99278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AutoShape 55"/>
            <p:cNvSpPr/>
            <p:nvPr/>
          </p:nvSpPr>
          <p:spPr>
            <a:xfrm rot="17880000">
              <a:off x="3133440" y="4652640"/>
              <a:ext cx="244440" cy="1685880"/>
            </a:xfrm>
            <a:prstGeom prst="downArrow">
              <a:avLst>
                <a:gd name="adj1" fmla="val 50000"/>
                <a:gd name="adj2" fmla="val 172423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AutoShape 56"/>
            <p:cNvSpPr/>
            <p:nvPr/>
          </p:nvSpPr>
          <p:spPr>
            <a:xfrm rot="3720000">
              <a:off x="7165440" y="4653000"/>
              <a:ext cx="244440" cy="1685520"/>
            </a:xfrm>
            <a:prstGeom prst="downArrow">
              <a:avLst>
                <a:gd name="adj1" fmla="val 50000"/>
                <a:gd name="adj2" fmla="val 172386"/>
              </a:avLst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8"/>
            <p:cNvSpPr/>
            <p:nvPr/>
          </p:nvSpPr>
          <p:spPr>
            <a:xfrm>
              <a:off x="4787640" y="4724280"/>
              <a:ext cx="1728720" cy="7207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Иные межбюджетны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 </a:t>
              </a:r>
              <a:r>
                <a:rPr b="1" lang="ru-RU" sz="1200" spc="-1" strike="noStrike">
                  <a:solidFill>
                    <a:srgbClr val="000000"/>
                  </a:solidFill>
                  <a:latin typeface="Constantia"/>
                </a:rPr>
                <a:t>трансферт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4617b"/>
                  </a:solidFill>
                  <a:latin typeface="Constantia"/>
                </a:rPr>
                <a:t>0,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59"/>
            <p:cNvSpPr/>
            <p:nvPr/>
          </p:nvSpPr>
          <p:spPr>
            <a:xfrm>
              <a:off x="3995640" y="5013360"/>
              <a:ext cx="791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60"/>
            <p:cNvSpPr/>
            <p:nvPr/>
          </p:nvSpPr>
          <p:spPr>
            <a:xfrm>
              <a:off x="6516720" y="5013360"/>
              <a:ext cx="720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2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Единые нормативы отчислений в местные бюджеты </a:t>
            </a:r>
            <a:br>
              <a:rPr sz="2500"/>
            </a:b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в 2017 году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89" name=""/>
          <p:cNvGraphicFramePr/>
          <p:nvPr/>
        </p:nvGraphicFramePr>
        <p:xfrm>
          <a:off x="395280" y="1628640"/>
          <a:ext cx="8291520" cy="5106960"/>
        </p:xfrm>
        <a:graphic>
          <a:graphicData uri="http://schemas.openxmlformats.org/drawingml/2006/table">
            <a:tbl>
              <a:tblPr/>
              <a:tblGrid>
                <a:gridCol w="4224240"/>
                <a:gridCol w="1103400"/>
                <a:gridCol w="822240"/>
                <a:gridCol w="182520"/>
                <a:gridCol w="679680"/>
                <a:gridCol w="244440"/>
                <a:gridCol w="1035000"/>
              </a:tblGrid>
              <a:tr h="577800"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                   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р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йо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Посе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лог на доходы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лог на прибыль организац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диный налог на вмененный дох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Единый сельскохозяйствен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лог на имущество физических ли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Государственная пошлина по делам, рассматриваемыми в судах общей юрисдикц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54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емельный нало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780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ходы от арендной платы за государственные земли посел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21160"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Доходы от продажи земельных участков, государственная собственность на которые не разграниче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360" bIns="45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0" name="Line 73"/>
          <p:cNvSpPr/>
          <p:nvPr/>
        </p:nvSpPr>
        <p:spPr>
          <a:xfrm>
            <a:off x="179280" y="1628640"/>
            <a:ext cx="874080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Формирование доходов и расходов поселений на 2017 год</a:t>
            </a: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2" name="Объект 3" descr=""/>
          <p:cNvPicPr/>
          <p:nvPr/>
        </p:nvPicPr>
        <p:blipFill>
          <a:blip r:embed="rId1"/>
          <a:stretch/>
        </p:blipFill>
        <p:spPr>
          <a:xfrm>
            <a:off x="406440" y="930240"/>
            <a:ext cx="83311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1985760"/>
            <a:ext cx="8238960" cy="290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Основные параметры районного бюджета МО «Краснотуранский  район» на 2017 год и плановый период 2018-2019 гг.                           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лн. рублей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89200"/>
            <a:ext cx="8229600" cy="36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Text Box 2"/>
          <p:cNvSpPr/>
          <p:nvPr/>
        </p:nvSpPr>
        <p:spPr>
          <a:xfrm>
            <a:off x="7164360" y="1052640"/>
            <a:ext cx="1682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02"/>
          <p:cNvGrpSpPr/>
          <p:nvPr/>
        </p:nvGrpSpPr>
        <p:grpSpPr>
          <a:xfrm>
            <a:off x="384120" y="2043000"/>
            <a:ext cx="2334960" cy="243720"/>
            <a:chOff x="384120" y="2043000"/>
            <a:chExt cx="2334960" cy="243720"/>
          </a:xfrm>
        </p:grpSpPr>
        <p:pic>
          <p:nvPicPr>
            <p:cNvPr id="297" name="Picture 41" descr=""/>
            <p:cNvPicPr/>
            <p:nvPr/>
          </p:nvPicPr>
          <p:blipFill>
            <a:blip r:embed="rId1"/>
            <a:stretch/>
          </p:blipFill>
          <p:spPr>
            <a:xfrm>
              <a:off x="444600" y="209052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Rectangle 42"/>
            <p:cNvSpPr/>
            <p:nvPr/>
          </p:nvSpPr>
          <p:spPr>
            <a:xfrm>
              <a:off x="444600" y="2090520"/>
              <a:ext cx="123840" cy="123840"/>
            </a:xfrm>
            <a:prstGeom prst="rect">
              <a:avLst/>
            </a:prstGeom>
            <a:noFill/>
            <a:ln w="0">
              <a:solidFill>
                <a:srgbClr val="ff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Rectangle 43"/>
            <p:cNvSpPr/>
            <p:nvPr/>
          </p:nvSpPr>
          <p:spPr>
            <a:xfrm>
              <a:off x="384120" y="2043000"/>
              <a:ext cx="1101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6686d"/>
                  </a:solidFill>
                  <a:latin typeface="Constantia"/>
                </a:rPr>
                <a:t>     </a:t>
              </a:r>
              <a:r>
                <a:rPr b="1" lang="ru-RU" sz="1600" spc="-1" strike="noStrike">
                  <a:solidFill>
                    <a:srgbClr val="06686d"/>
                  </a:solidFill>
                  <a:latin typeface="Constantia"/>
                </a:rPr>
                <a:t>До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44" descr=""/>
            <p:cNvPicPr/>
            <p:nvPr/>
          </p:nvPicPr>
          <p:blipFill>
            <a:blip r:embed="rId2"/>
            <a:stretch/>
          </p:blipFill>
          <p:spPr>
            <a:xfrm>
              <a:off x="1613520" y="2080800"/>
              <a:ext cx="12384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Rectangle 45"/>
            <p:cNvSpPr/>
            <p:nvPr/>
          </p:nvSpPr>
          <p:spPr>
            <a:xfrm>
              <a:off x="1613520" y="2080800"/>
              <a:ext cx="123840" cy="12384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46"/>
            <p:cNvSpPr/>
            <p:nvPr/>
          </p:nvSpPr>
          <p:spPr>
            <a:xfrm>
              <a:off x="1794960" y="2043000"/>
              <a:ext cx="924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6686d"/>
                  </a:solidFill>
                  <a:latin typeface="Constantia"/>
                </a:rPr>
                <a:t>Расход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Line 27"/>
          <p:cNvSpPr/>
          <p:nvPr/>
        </p:nvSpPr>
        <p:spPr>
          <a:xfrm flipV="1">
            <a:off x="582480" y="5697360"/>
            <a:ext cx="8021880" cy="504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23" descr=""/>
          <p:cNvPicPr/>
          <p:nvPr/>
        </p:nvPicPr>
        <p:blipFill>
          <a:blip r:embed="rId3"/>
          <a:stretch/>
        </p:blipFill>
        <p:spPr>
          <a:xfrm>
            <a:off x="1187280" y="3579840"/>
            <a:ext cx="947880" cy="2081160"/>
          </a:xfrm>
          <a:prstGeom prst="rect">
            <a:avLst/>
          </a:prstGeom>
          <a:ln w="0">
            <a:noFill/>
          </a:ln>
        </p:spPr>
      </p:pic>
      <p:sp>
        <p:nvSpPr>
          <p:cNvPr id="305" name="Rectangle 125"/>
          <p:cNvSpPr/>
          <p:nvPr/>
        </p:nvSpPr>
        <p:spPr>
          <a:xfrm flipV="1" rot="10678800">
            <a:off x="1157040" y="3352320"/>
            <a:ext cx="884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63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126"/>
          <p:cNvSpPr/>
          <p:nvPr/>
        </p:nvSpPr>
        <p:spPr>
          <a:xfrm flipV="1">
            <a:off x="276552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27" descr=""/>
          <p:cNvPicPr/>
          <p:nvPr/>
        </p:nvPicPr>
        <p:blipFill>
          <a:blip r:embed="rId4"/>
          <a:stretch/>
        </p:blipFill>
        <p:spPr>
          <a:xfrm>
            <a:off x="2119320" y="3579840"/>
            <a:ext cx="934920" cy="209088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28"/>
          <p:cNvSpPr/>
          <p:nvPr/>
        </p:nvSpPr>
        <p:spPr>
          <a:xfrm>
            <a:off x="2119320" y="3579840"/>
            <a:ext cx="934920" cy="209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9"/>
          <p:cNvSpPr/>
          <p:nvPr/>
        </p:nvSpPr>
        <p:spPr>
          <a:xfrm>
            <a:off x="2146320" y="3357720"/>
            <a:ext cx="1009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63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130"/>
          <p:cNvSpPr/>
          <p:nvPr/>
        </p:nvSpPr>
        <p:spPr>
          <a:xfrm>
            <a:off x="1679040" y="58453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7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138" descr=""/>
          <p:cNvPicPr/>
          <p:nvPr/>
        </p:nvPicPr>
        <p:blipFill>
          <a:blip r:embed="rId5"/>
          <a:stretch/>
        </p:blipFill>
        <p:spPr>
          <a:xfrm>
            <a:off x="3621240" y="3860640"/>
            <a:ext cx="907920" cy="18018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139"/>
          <p:cNvSpPr/>
          <p:nvPr/>
        </p:nvSpPr>
        <p:spPr>
          <a:xfrm>
            <a:off x="3621240" y="3860640"/>
            <a:ext cx="936360" cy="1801800"/>
          </a:xfrm>
          <a:prstGeom prst="rect">
            <a:avLst/>
          </a:prstGeom>
          <a:noFill/>
          <a:ln w="0">
            <a:solidFill>
              <a:srgbClr val="ff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40"/>
          <p:cNvSpPr/>
          <p:nvPr/>
        </p:nvSpPr>
        <p:spPr>
          <a:xfrm>
            <a:off x="3789360" y="3487680"/>
            <a:ext cx="1574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627,3               627,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141"/>
          <p:cNvSpPr/>
          <p:nvPr/>
        </p:nvSpPr>
        <p:spPr>
          <a:xfrm flipV="1">
            <a:off x="51642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142" descr=""/>
          <p:cNvPicPr/>
          <p:nvPr/>
        </p:nvPicPr>
        <p:blipFill>
          <a:blip r:embed="rId6"/>
          <a:stretch/>
        </p:blipFill>
        <p:spPr>
          <a:xfrm>
            <a:off x="4548240" y="3860640"/>
            <a:ext cx="888840" cy="1808280"/>
          </a:xfrm>
          <a:prstGeom prst="rect">
            <a:avLst/>
          </a:prstGeom>
          <a:ln w="0">
            <a:noFill/>
          </a:ln>
        </p:spPr>
      </p:pic>
      <p:sp>
        <p:nvSpPr>
          <p:cNvPr id="316" name="Rectangle 143"/>
          <p:cNvSpPr/>
          <p:nvPr/>
        </p:nvSpPr>
        <p:spPr>
          <a:xfrm>
            <a:off x="4500720" y="3860640"/>
            <a:ext cx="936360" cy="180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145"/>
          <p:cNvSpPr/>
          <p:nvPr/>
        </p:nvSpPr>
        <p:spPr>
          <a:xfrm>
            <a:off x="4084920" y="58453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8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148" descr=""/>
          <p:cNvPicPr/>
          <p:nvPr/>
        </p:nvPicPr>
        <p:blipFill>
          <a:blip r:embed="rId7"/>
          <a:stretch/>
        </p:blipFill>
        <p:spPr>
          <a:xfrm>
            <a:off x="6084720" y="3727440"/>
            <a:ext cx="901800" cy="2006640"/>
          </a:xfrm>
          <a:prstGeom prst="rect">
            <a:avLst/>
          </a:prstGeom>
          <a:ln w="0">
            <a:noFill/>
          </a:ln>
        </p:spPr>
      </p:pic>
      <p:sp>
        <p:nvSpPr>
          <p:cNvPr id="319" name="Rectangle 150"/>
          <p:cNvSpPr/>
          <p:nvPr/>
        </p:nvSpPr>
        <p:spPr>
          <a:xfrm>
            <a:off x="6084720" y="3357720"/>
            <a:ext cx="187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Constantia"/>
              </a:rPr>
              <a:t>632,5                    632,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151"/>
          <p:cNvSpPr/>
          <p:nvPr/>
        </p:nvSpPr>
        <p:spPr>
          <a:xfrm flipV="1">
            <a:off x="7664400" y="5692680"/>
            <a:ext cx="3240" cy="61920"/>
          </a:xfrm>
          <a:prstGeom prst="line">
            <a:avLst/>
          </a:prstGeom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52" descr=""/>
          <p:cNvPicPr/>
          <p:nvPr/>
        </p:nvPicPr>
        <p:blipFill>
          <a:blip r:embed="rId8"/>
          <a:stretch/>
        </p:blipFill>
        <p:spPr>
          <a:xfrm>
            <a:off x="7020000" y="3727440"/>
            <a:ext cx="936720" cy="1941480"/>
          </a:xfrm>
          <a:prstGeom prst="rect">
            <a:avLst/>
          </a:prstGeom>
          <a:ln w="0">
            <a:noFill/>
          </a:ln>
        </p:spPr>
      </p:pic>
      <p:sp>
        <p:nvSpPr>
          <p:cNvPr id="322" name="Rectangle 153"/>
          <p:cNvSpPr/>
          <p:nvPr/>
        </p:nvSpPr>
        <p:spPr>
          <a:xfrm>
            <a:off x="7054920" y="3727440"/>
            <a:ext cx="901800" cy="1933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55"/>
          <p:cNvSpPr/>
          <p:nvPr/>
        </p:nvSpPr>
        <p:spPr>
          <a:xfrm>
            <a:off x="6617880" y="5845320"/>
            <a:ext cx="675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2019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157"/>
          <p:cNvSpPr/>
          <p:nvPr/>
        </p:nvSpPr>
        <p:spPr>
          <a:xfrm>
            <a:off x="6064200" y="3727440"/>
            <a:ext cx="955800" cy="194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158"/>
          <p:cNvSpPr/>
          <p:nvPr/>
        </p:nvSpPr>
        <p:spPr>
          <a:xfrm>
            <a:off x="3635280" y="3860640"/>
            <a:ext cx="865440" cy="1808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160"/>
          <p:cNvSpPr/>
          <p:nvPr/>
        </p:nvSpPr>
        <p:spPr>
          <a:xfrm>
            <a:off x="1187280" y="3579840"/>
            <a:ext cx="935280" cy="209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6"/>
          <p:cNvSpPr/>
          <p:nvPr/>
        </p:nvSpPr>
        <p:spPr>
          <a:xfrm>
            <a:off x="179280" y="148428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Сопоставление</a:t>
            </a: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04617b"/>
                </a:solidFill>
                <a:latin typeface="Calibri"/>
              </a:rPr>
              <a:t>основных параметров районного бюджета МО «Краснотуранский  район» на 2017 год с другими Муниципальными образованиями                                      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лн. рублей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29" name="Объект 3" descr=""/>
          <p:cNvPicPr/>
          <p:nvPr/>
        </p:nvPicPr>
        <p:blipFill>
          <a:blip r:embed="rId1"/>
          <a:stretch/>
        </p:blipFill>
        <p:spPr>
          <a:xfrm>
            <a:off x="406440" y="1884240"/>
            <a:ext cx="8331120" cy="44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907920"/>
            <a:ext cx="8229600" cy="54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Брошюра подготовлена на основании Решения Краснотуранского районного Совета депутатов «О районном бюджете на 2017 год и плановый период 2018-2019 годов». В информации просто и доступно рассказывается о районном бюджете: его основных характеристиках,   статьях  расходов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Издание рассчитано на широкий круг читателей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материалы подготовлены Финансовым управлением администрации Краснотуранского  райо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Calibri"/>
              </a:rPr>
              <a:t>Руководитель проекта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.Н. Сергиенко – И.о. заместителя главы администрации района по экономике - начальник Финансового управления администрации Краснотуранского район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ПРОГРАММА ПРЕДОСТАВЛЕНИЯ БЮДЖЕТНЫХ КРЕДИТОВ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муниципального образования Краснотуранский район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на 2017 г. и плановый период 2018-2019г.г.</a:t>
            </a:r>
            <a:br>
              <a:rPr sz="2400"/>
            </a:br>
            <a:r>
              <a:rPr b="1" lang="ru-RU" sz="1800" spc="-1" strike="noStrike">
                <a:solidFill>
                  <a:srgbClr val="04617b"/>
                </a:solidFill>
                <a:latin typeface="Calibri"/>
              </a:rPr>
              <a:t> </a:t>
            </a:r>
            <a:br>
              <a:rPr sz="1800"/>
            </a:b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2491920"/>
            <a:ext cx="822960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b2c9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Бюджетом муниципального образования Краснотуранский район на 2017 год и плановый период 2018-2019г.г. предоставление бюджетных кредитов планируется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017г.- 00,0 тыс. рубл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018г. – 00,0 тыс. рублей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2019г. – 00,0 тыс. рублей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Line 6"/>
          <p:cNvSpPr/>
          <p:nvPr/>
        </p:nvSpPr>
        <p:spPr>
          <a:xfrm>
            <a:off x="179280" y="213372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644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ПРОГРАММА МУНИЦИПАЛЬНЫХ ГАРАНТИЙ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муниципального образования Краснотуранский район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 на 2017 г. и плановый период 2018-2019г.г.</a:t>
            </a:r>
            <a:br>
              <a:rPr sz="2400"/>
            </a:br>
            <a:endParaRPr b="0" lang="en-US" sz="2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2923920"/>
            <a:ext cx="8229600" cy="34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Установить верхний предел по муниципальным гарантиям на: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 января 2017г.  0,0 руб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 января 2018г.  0,0 рубле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1 января 2019г.  0,0 рублей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Line 6"/>
          <p:cNvSpPr/>
          <p:nvPr/>
        </p:nvSpPr>
        <p:spPr>
          <a:xfrm>
            <a:off x="179280" y="234936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71520" y="115920"/>
            <a:ext cx="8229600" cy="1860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Программа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муниципальных внутренних заимствований</a:t>
            </a:r>
            <a:br>
              <a:rPr sz="2400"/>
            </a:br>
            <a:r>
              <a:rPr b="1" lang="ru-RU" sz="2400" spc="-1" strike="noStrike">
                <a:solidFill>
                  <a:srgbClr val="04617b"/>
                </a:solidFill>
                <a:latin typeface="Calibri"/>
              </a:rPr>
              <a:t>муниципального образования Краснотуранский район на 2017 год и плановый период 2018-2019 годов</a:t>
            </a:r>
            <a:br>
              <a:rPr sz="2400"/>
            </a:br>
            <a:r>
              <a:rPr b="0" lang="ru-RU" sz="2400" spc="-1" strike="noStrike">
                <a:solidFill>
                  <a:srgbClr val="04617b"/>
                </a:solidFill>
                <a:latin typeface="Calibri"/>
              </a:rPr>
              <a:t>                                                                                                  </a:t>
            </a:r>
            <a:r>
              <a:rPr b="0" lang="ru-RU" sz="2000" spc="-1" strike="noStrike">
                <a:solidFill>
                  <a:srgbClr val="04617b"/>
                </a:solidFill>
                <a:latin typeface="Calibri"/>
              </a:rPr>
              <a:t>тыс. рублей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684360" y="2276640"/>
          <a:ext cx="7991280" cy="4257360"/>
        </p:xfrm>
        <a:graphic>
          <a:graphicData uri="http://schemas.openxmlformats.org/drawingml/2006/table">
            <a:tbl>
              <a:tblPr/>
              <a:tblGrid>
                <a:gridCol w="1598400"/>
                <a:gridCol w="1598760"/>
                <a:gridCol w="1596960"/>
                <a:gridCol w="1598760"/>
                <a:gridCol w="1598400"/>
              </a:tblGrid>
              <a:tr h="834840">
                <a:tc rowSpan="2"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нутренние заимствов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привлечение/ погашение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7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8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умма на 2019 г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1138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935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щий объем заимствований, направляемых на покрытие дефицита районного бюджета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уч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23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гашени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</a:tbl>
          </a:graphicData>
        </a:graphic>
      </p:graphicFrame>
      <p:sp>
        <p:nvSpPr>
          <p:cNvPr id="338" name="Line 6"/>
          <p:cNvSpPr/>
          <p:nvPr/>
        </p:nvSpPr>
        <p:spPr>
          <a:xfrm>
            <a:off x="179280" y="220500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Объект 5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8331120" cy="5159520"/>
          </a:xfrm>
          <a:prstGeom prst="rect">
            <a:avLst/>
          </a:prstGeom>
          <a:ln w="0">
            <a:noFill/>
          </a:ln>
        </p:spPr>
      </p:pic>
      <p:sp>
        <p:nvSpPr>
          <p:cNvPr id="340" name="Прямоугольник 8"/>
          <p:cNvSpPr/>
          <p:nvPr/>
        </p:nvSpPr>
        <p:spPr>
          <a:xfrm>
            <a:off x="611280" y="54936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Соотношение собственных доходов </a:t>
            </a:r>
            <a:r>
              <a:rPr b="1" lang="en-US" sz="1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районного бюджета и предельного объема муниципального дол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85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Доходы районного бюджета МО «Краснотуранский район»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68360" y="1600200"/>
          <a:ext cx="8218440" cy="4486320"/>
        </p:xfrm>
        <a:graphic>
          <a:graphicData uri="http://schemas.openxmlformats.org/drawingml/2006/table">
            <a:tbl>
              <a:tblPr/>
              <a:tblGrid>
                <a:gridCol w="4167000"/>
                <a:gridCol w="1349640"/>
                <a:gridCol w="1352520"/>
                <a:gridCol w="1349280"/>
              </a:tblGrid>
              <a:tr h="243000"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617b"/>
                          </a:solidFill>
                          <a:latin typeface="Arial"/>
                        </a:rPr>
                        <a:t>20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617b"/>
                          </a:solidFill>
                          <a:latin typeface="Arial"/>
                        </a:rPr>
                        <a:t>20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4617b"/>
                          </a:solidFill>
                          <a:latin typeface="Arial"/>
                        </a:rPr>
                        <a:t>20</a:t>
                      </a:r>
                      <a:r>
                        <a:rPr b="1" lang="en-US" sz="1400" spc="-1" strike="noStrike">
                          <a:solidFill>
                            <a:srgbClr val="04617b"/>
                          </a:solidFill>
                          <a:latin typeface="Arial"/>
                        </a:rPr>
                        <a:t>1</a:t>
                      </a:r>
                      <a:r>
                        <a:rPr b="1" lang="ru-RU" sz="1400" spc="-1" strike="noStrike">
                          <a:solidFill>
                            <a:srgbClr val="04617b"/>
                          </a:solidFill>
                          <a:latin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алог на прибыль организац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2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алог на доходы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32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534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75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Налоги на совокупный дох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34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6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9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12790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lnSpc>
                          <a:spcPct val="14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Доходы от использования имущества, находящегося в государственной и     муниципальной собствен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45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0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40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Государственная пошл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6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9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Прочие доход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6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3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9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Безвозмездные поступления  из краевого бюдж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6143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376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829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0" rIns="0" tIns="10800" bIns="10800" anchor="b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Межбюджетные трансферты от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9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0" rIns="0" tIns="10800" bIns="10800" anchor="b">
                      <a:noAutofit/>
                    </a:bodyPr>
                    <a:p>
                      <a:pPr algn="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9dd9"/>
                          </a:solidFill>
                          <a:latin typeface="Arial"/>
                        </a:rPr>
                        <a:t>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368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7256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  <a:tc>
                  <a:txBody>
                    <a:bodyPr lIns="0" rIns="0" tIns="10800" bIns="10800" anchor="b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252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ff6600"/>
                      </a:solidFill>
                    </a:lnT>
                    <a:lnB w="13680">
                      <a:solidFill>
                        <a:srgbClr val="ff66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3" name="Text Box 105"/>
          <p:cNvSpPr/>
          <p:nvPr/>
        </p:nvSpPr>
        <p:spPr>
          <a:xfrm>
            <a:off x="7164360" y="1125360"/>
            <a:ext cx="15494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07"/>
          <p:cNvSpPr/>
          <p:nvPr/>
        </p:nvSpPr>
        <p:spPr>
          <a:xfrm>
            <a:off x="324000" y="981000"/>
            <a:ext cx="0" cy="0"/>
          </a:xfrm>
          <a:prstGeom prst="line">
            <a:avLst/>
          </a:prstGeom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>
            <a:off x="100080" y="150480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3"/>
          <p:cNvSpPr/>
          <p:nvPr/>
        </p:nvSpPr>
        <p:spPr>
          <a:xfrm>
            <a:off x="230040" y="876240"/>
            <a:ext cx="8229600" cy="14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8"/>
          <p:cNvSpPr/>
          <p:nvPr/>
        </p:nvSpPr>
        <p:spPr>
          <a:xfrm>
            <a:off x="0" y="442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8" name=""/>
          <p:cNvGraphicFramePr/>
          <p:nvPr/>
        </p:nvGraphicFramePr>
        <p:xfrm>
          <a:off x="468360" y="44280"/>
          <a:ext cx="8424720" cy="6697800"/>
        </p:xfrm>
        <a:graphic>
          <a:graphicData uri="http://schemas.openxmlformats.org/drawingml/2006/table">
            <a:tbl>
              <a:tblPr/>
              <a:tblGrid>
                <a:gridCol w="3413160"/>
                <a:gridCol w="1454040"/>
                <a:gridCol w="1741680"/>
                <a:gridCol w="1815840"/>
              </a:tblGrid>
              <a:tr h="1173240">
                <a:tc gridSpan="4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4617b"/>
                          </a:solidFill>
                          <a:latin typeface="Calibri"/>
                        </a:rPr>
                        <a:t>Распределение расходов районного бюджета на 2017 и плановый период 2018-2019 годов                                                               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4617b"/>
                          </a:solidFill>
                          <a:latin typeface="Calibri"/>
                        </a:rPr>
                        <a:t>тыс. руб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Расходы районного бюджет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5671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73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973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циональная оборо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35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циональная безопасность и правоохранительная  деятельност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7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7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87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46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29,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628,1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7138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6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146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Образова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818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625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4625,7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Культура, кинематограф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93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76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176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Здравоохранение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660,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564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6564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6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00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Межбюджетные  трансферты  общего характер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28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787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787,5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3680,4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27256,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2520,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Arial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04617b"/>
                </a:solidFill>
                <a:latin typeface="Arial"/>
              </a:rPr>
              <a:t>1</a:t>
            </a:r>
            <a:r>
              <a:rPr b="0" lang="ru-RU" sz="2500" spc="-1" strike="noStrike">
                <a:solidFill>
                  <a:srgbClr val="04617b"/>
                </a:solidFill>
                <a:latin typeface="Arial"/>
              </a:rPr>
              <a:t>7-2019 год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250920" y="1052640"/>
            <a:ext cx="255564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0000" anchor="t">
            <a:noAutofit/>
          </a:bodyPr>
          <a:p>
            <a:pPr marL="341280" indent="-341280">
              <a:lnSpc>
                <a:spcPct val="140000"/>
              </a:lnSpc>
              <a:spcBef>
                <a:spcPts val="451"/>
              </a:spcBef>
              <a:buClr>
                <a:srgbClr val="85dfd0"/>
              </a:buClr>
              <a:buSzPct val="150000"/>
              <a:buFont typeface="Wingdings" charset="2"/>
              <a:buChar char="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6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219"/>
          <p:cNvSpPr/>
          <p:nvPr/>
        </p:nvSpPr>
        <p:spPr>
          <a:xfrm>
            <a:off x="7631280" y="2147760"/>
            <a:ext cx="1512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49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217"/>
          <p:cNvSpPr/>
          <p:nvPr/>
        </p:nvSpPr>
        <p:spPr>
          <a:xfrm>
            <a:off x="619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49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215"/>
          <p:cNvSpPr/>
          <p:nvPr/>
        </p:nvSpPr>
        <p:spPr>
          <a:xfrm>
            <a:off x="4751280" y="21477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4916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213"/>
          <p:cNvSpPr/>
          <p:nvPr/>
        </p:nvSpPr>
        <p:spPr>
          <a:xfrm>
            <a:off x="250920" y="2147760"/>
            <a:ext cx="45003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Культура Краснотуранского 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62"/>
          <p:cNvSpPr/>
          <p:nvPr/>
        </p:nvSpPr>
        <p:spPr>
          <a:xfrm>
            <a:off x="7631280" y="486900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9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60"/>
          <p:cNvSpPr/>
          <p:nvPr/>
        </p:nvSpPr>
        <p:spPr>
          <a:xfrm>
            <a:off x="6156360" y="486900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9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58"/>
          <p:cNvSpPr/>
          <p:nvPr/>
        </p:nvSpPr>
        <p:spPr>
          <a:xfrm>
            <a:off x="4859280" y="4797360"/>
            <a:ext cx="1368360" cy="8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9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56"/>
          <p:cNvSpPr/>
          <p:nvPr/>
        </p:nvSpPr>
        <p:spPr>
          <a:xfrm>
            <a:off x="250920" y="4941720"/>
            <a:ext cx="450036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действие в развитии  и поддержке  малого и среднего  предпринимательства на территории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69"/>
          <p:cNvSpPr/>
          <p:nvPr/>
        </p:nvSpPr>
        <p:spPr>
          <a:xfrm>
            <a:off x="619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61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68"/>
          <p:cNvSpPr/>
          <p:nvPr/>
        </p:nvSpPr>
        <p:spPr>
          <a:xfrm>
            <a:off x="619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727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67"/>
          <p:cNvSpPr/>
          <p:nvPr/>
        </p:nvSpPr>
        <p:spPr>
          <a:xfrm>
            <a:off x="619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8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66"/>
          <p:cNvSpPr/>
          <p:nvPr/>
        </p:nvSpPr>
        <p:spPr>
          <a:xfrm>
            <a:off x="6191280" y="251784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0529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65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59282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ectangle 64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31280" y="4065480"/>
            <a:ext cx="151272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6146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2"/>
          <p:cNvSpPr/>
          <p:nvPr/>
        </p:nvSpPr>
        <p:spPr>
          <a:xfrm>
            <a:off x="4751280" y="4065480"/>
            <a:ext cx="144000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5251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250920" y="4065480"/>
            <a:ext cx="450036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еформирование и модернизация ЖКХ и повышение энергетической эффективности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ectangle 14"/>
          <p:cNvSpPr/>
          <p:nvPr/>
        </p:nvSpPr>
        <p:spPr>
          <a:xfrm>
            <a:off x="7631280" y="354960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727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ectangle 15"/>
          <p:cNvSpPr/>
          <p:nvPr/>
        </p:nvSpPr>
        <p:spPr>
          <a:xfrm>
            <a:off x="4751280" y="354960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727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16"/>
          <p:cNvSpPr/>
          <p:nvPr/>
        </p:nvSpPr>
        <p:spPr>
          <a:xfrm>
            <a:off x="250920" y="35496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Молодежь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ectangle 17"/>
          <p:cNvSpPr/>
          <p:nvPr/>
        </p:nvSpPr>
        <p:spPr>
          <a:xfrm>
            <a:off x="7631280" y="303372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8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ectangle 18"/>
          <p:cNvSpPr/>
          <p:nvPr/>
        </p:nvSpPr>
        <p:spPr>
          <a:xfrm>
            <a:off x="4751280" y="303372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18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ectangle 19"/>
          <p:cNvSpPr/>
          <p:nvPr/>
        </p:nvSpPr>
        <p:spPr>
          <a:xfrm>
            <a:off x="250920" y="303372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действие развитию физической культуры, спорта, и туризма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ectangle 20"/>
          <p:cNvSpPr/>
          <p:nvPr/>
        </p:nvSpPr>
        <p:spPr>
          <a:xfrm>
            <a:off x="7631280" y="251784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0529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21"/>
          <p:cNvSpPr/>
          <p:nvPr/>
        </p:nvSpPr>
        <p:spPr>
          <a:xfrm>
            <a:off x="4716360" y="24922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80529,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ectangle 22"/>
          <p:cNvSpPr/>
          <p:nvPr/>
        </p:nvSpPr>
        <p:spPr>
          <a:xfrm>
            <a:off x="250920" y="251784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истема социальной защиты населения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23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59282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ectangle 24"/>
          <p:cNvSpPr/>
          <p:nvPr/>
        </p:nvSpPr>
        <p:spPr>
          <a:xfrm>
            <a:off x="4716360" y="1628640"/>
            <a:ext cx="14400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358464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25"/>
          <p:cNvSpPr/>
          <p:nvPr/>
        </p:nvSpPr>
        <p:spPr>
          <a:xfrm>
            <a:off x="250920" y="1628640"/>
            <a:ext cx="45003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действие развитию  системы образования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ectangle 26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27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28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30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1"/>
          <p:cNvSpPr/>
          <p:nvPr/>
        </p:nvSpPr>
        <p:spPr>
          <a:xfrm>
            <a:off x="285840" y="573408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3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476360" y="184464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6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7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8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40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41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42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3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4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5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7"/>
          <p:cNvSpPr/>
          <p:nvPr/>
        </p:nvSpPr>
        <p:spPr>
          <a:xfrm>
            <a:off x="285840" y="163188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48"/>
          <p:cNvSpPr/>
          <p:nvPr/>
        </p:nvSpPr>
        <p:spPr>
          <a:xfrm>
            <a:off x="285840" y="214776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49"/>
          <p:cNvSpPr/>
          <p:nvPr/>
        </p:nvSpPr>
        <p:spPr>
          <a:xfrm>
            <a:off x="285840" y="303372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50"/>
          <p:cNvSpPr/>
          <p:nvPr/>
        </p:nvSpPr>
        <p:spPr>
          <a:xfrm>
            <a:off x="285840" y="354960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51"/>
          <p:cNvSpPr/>
          <p:nvPr/>
        </p:nvSpPr>
        <p:spPr>
          <a:xfrm>
            <a:off x="285840" y="406548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52"/>
          <p:cNvSpPr/>
          <p:nvPr/>
        </p:nvSpPr>
        <p:spPr>
          <a:xfrm>
            <a:off x="285840" y="479736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53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4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12"/>
          <p:cNvSpPr/>
          <p:nvPr/>
        </p:nvSpPr>
        <p:spPr>
          <a:xfrm>
            <a:off x="285840" y="251784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96"/>
          <p:cNvSpPr/>
          <p:nvPr/>
        </p:nvSpPr>
        <p:spPr>
          <a:xfrm>
            <a:off x="7451640" y="981000"/>
            <a:ext cx="13683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250920" y="0"/>
            <a:ext cx="86040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onstantia"/>
              </a:rPr>
              <a:t>Распределение расходов районного бюджета по муниципальным программам на 20</a:t>
            </a:r>
            <a:r>
              <a:rPr b="0" lang="en-US" sz="2500" spc="-1" strike="noStrike">
                <a:solidFill>
                  <a:srgbClr val="04617b"/>
                </a:solidFill>
                <a:latin typeface="Constantia"/>
              </a:rPr>
              <a:t>1</a:t>
            </a:r>
            <a:r>
              <a:rPr b="0" lang="ru-RU" sz="2500" spc="-1" strike="noStrike">
                <a:solidFill>
                  <a:srgbClr val="04617b"/>
                </a:solidFill>
                <a:latin typeface="Constantia"/>
              </a:rPr>
              <a:t>7-2019 год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4"/>
          <p:cNvSpPr/>
          <p:nvPr/>
        </p:nvSpPr>
        <p:spPr>
          <a:xfrm>
            <a:off x="306360" y="8510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7596360" y="1689120"/>
            <a:ext cx="151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487,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6"/>
          <p:cNvSpPr/>
          <p:nvPr/>
        </p:nvSpPr>
        <p:spPr>
          <a:xfrm>
            <a:off x="6053040" y="1704960"/>
            <a:ext cx="1440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488,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7"/>
          <p:cNvSpPr/>
          <p:nvPr/>
        </p:nvSpPr>
        <p:spPr>
          <a:xfrm>
            <a:off x="4613400" y="1704960"/>
            <a:ext cx="1439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5613,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8"/>
          <p:cNvSpPr/>
          <p:nvPr/>
        </p:nvSpPr>
        <p:spPr>
          <a:xfrm>
            <a:off x="287280" y="1704960"/>
            <a:ext cx="45007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действие в развитии сельского хозяйства Краснотуранского 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7588080" y="4255920"/>
            <a:ext cx="15130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581010,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6291360" y="4253040"/>
            <a:ext cx="1439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581011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4788000" y="4253040"/>
            <a:ext cx="1439640" cy="7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581784,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250920" y="4221000"/>
            <a:ext cx="4500360" cy="7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Всег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17"/>
          <p:cNvSpPr/>
          <p:nvPr/>
        </p:nvSpPr>
        <p:spPr>
          <a:xfrm>
            <a:off x="7520040" y="3295800"/>
            <a:ext cx="151272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8147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8"/>
          <p:cNvSpPr/>
          <p:nvPr/>
        </p:nvSpPr>
        <p:spPr>
          <a:xfrm>
            <a:off x="6054840" y="3295800"/>
            <a:ext cx="14396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8147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19"/>
          <p:cNvSpPr/>
          <p:nvPr/>
        </p:nvSpPr>
        <p:spPr>
          <a:xfrm>
            <a:off x="4692600" y="3295800"/>
            <a:ext cx="14400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69488,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20"/>
          <p:cNvSpPr/>
          <p:nvPr/>
        </p:nvSpPr>
        <p:spPr>
          <a:xfrm>
            <a:off x="250920" y="3294000"/>
            <a:ext cx="4500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Управление муниципальными финанс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3"/>
          <p:cNvSpPr/>
          <p:nvPr/>
        </p:nvSpPr>
        <p:spPr>
          <a:xfrm>
            <a:off x="6156360" y="2637000"/>
            <a:ext cx="151128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5"/>
          <p:cNvSpPr/>
          <p:nvPr/>
        </p:nvSpPr>
        <p:spPr>
          <a:xfrm>
            <a:off x="619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6"/>
          <p:cNvSpPr/>
          <p:nvPr/>
        </p:nvSpPr>
        <p:spPr>
          <a:xfrm>
            <a:off x="619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33"/>
          <p:cNvSpPr/>
          <p:nvPr/>
        </p:nvSpPr>
        <p:spPr>
          <a:xfrm>
            <a:off x="7631280" y="27082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34"/>
          <p:cNvSpPr/>
          <p:nvPr/>
        </p:nvSpPr>
        <p:spPr>
          <a:xfrm>
            <a:off x="4788000" y="2637000"/>
            <a:ext cx="14396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400,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5"/>
          <p:cNvSpPr/>
          <p:nvPr/>
        </p:nvSpPr>
        <p:spPr>
          <a:xfrm>
            <a:off x="250920" y="2421000"/>
            <a:ext cx="4500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Создание условий для обеспечения доступным и комфортным  жильём граждан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ectangle 38"/>
          <p:cNvSpPr/>
          <p:nvPr/>
        </p:nvSpPr>
        <p:spPr>
          <a:xfrm>
            <a:off x="250920" y="2637000"/>
            <a:ext cx="450036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ectangle 39"/>
          <p:cNvSpPr/>
          <p:nvPr/>
        </p:nvSpPr>
        <p:spPr>
          <a:xfrm>
            <a:off x="7631280" y="1631880"/>
            <a:ext cx="1512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40"/>
          <p:cNvSpPr/>
          <p:nvPr/>
        </p:nvSpPr>
        <p:spPr>
          <a:xfrm>
            <a:off x="4751280" y="1631880"/>
            <a:ext cx="144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ectangle 41"/>
          <p:cNvSpPr/>
          <p:nvPr/>
        </p:nvSpPr>
        <p:spPr>
          <a:xfrm>
            <a:off x="295200" y="1631880"/>
            <a:ext cx="4500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42"/>
          <p:cNvSpPr/>
          <p:nvPr/>
        </p:nvSpPr>
        <p:spPr>
          <a:xfrm>
            <a:off x="7631280" y="1268280"/>
            <a:ext cx="15127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43"/>
          <p:cNvSpPr/>
          <p:nvPr/>
        </p:nvSpPr>
        <p:spPr>
          <a:xfrm>
            <a:off x="4751280" y="1268280"/>
            <a:ext cx="14400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20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4"/>
          <p:cNvSpPr/>
          <p:nvPr/>
        </p:nvSpPr>
        <p:spPr>
          <a:xfrm>
            <a:off x="1042920" y="1268280"/>
            <a:ext cx="370836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ctr">
            <a:no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45"/>
          <p:cNvSpPr/>
          <p:nvPr/>
        </p:nvSpPr>
        <p:spPr>
          <a:xfrm>
            <a:off x="285840" y="1268280"/>
            <a:ext cx="88581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47"/>
          <p:cNvSpPr/>
          <p:nvPr/>
        </p:nvSpPr>
        <p:spPr>
          <a:xfrm>
            <a:off x="28584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48"/>
          <p:cNvSpPr/>
          <p:nvPr/>
        </p:nvSpPr>
        <p:spPr>
          <a:xfrm>
            <a:off x="28584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49"/>
          <p:cNvSpPr/>
          <p:nvPr/>
        </p:nvSpPr>
        <p:spPr>
          <a:xfrm>
            <a:off x="28584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50"/>
          <p:cNvSpPr/>
          <p:nvPr/>
        </p:nvSpPr>
        <p:spPr>
          <a:xfrm>
            <a:off x="28584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51"/>
          <p:cNvSpPr/>
          <p:nvPr/>
        </p:nvSpPr>
        <p:spPr>
          <a:xfrm>
            <a:off x="28584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52"/>
          <p:cNvSpPr/>
          <p:nvPr/>
        </p:nvSpPr>
        <p:spPr>
          <a:xfrm>
            <a:off x="28584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53"/>
          <p:cNvSpPr/>
          <p:nvPr/>
        </p:nvSpPr>
        <p:spPr>
          <a:xfrm>
            <a:off x="9144000" y="1268280"/>
            <a:ext cx="0" cy="363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54"/>
          <p:cNvSpPr/>
          <p:nvPr/>
        </p:nvSpPr>
        <p:spPr>
          <a:xfrm>
            <a:off x="9144000" y="163188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55"/>
          <p:cNvSpPr/>
          <p:nvPr/>
        </p:nvSpPr>
        <p:spPr>
          <a:xfrm>
            <a:off x="9144000" y="2147760"/>
            <a:ext cx="0" cy="885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56"/>
          <p:cNvSpPr/>
          <p:nvPr/>
        </p:nvSpPr>
        <p:spPr>
          <a:xfrm>
            <a:off x="9144000" y="303372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57"/>
          <p:cNvSpPr/>
          <p:nvPr/>
        </p:nvSpPr>
        <p:spPr>
          <a:xfrm>
            <a:off x="9144000" y="3549600"/>
            <a:ext cx="0" cy="515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58"/>
          <p:cNvSpPr/>
          <p:nvPr/>
        </p:nvSpPr>
        <p:spPr>
          <a:xfrm>
            <a:off x="9144000" y="4065480"/>
            <a:ext cx="0" cy="728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64"/>
          <p:cNvSpPr/>
          <p:nvPr/>
        </p:nvSpPr>
        <p:spPr>
          <a:xfrm>
            <a:off x="306360" y="329400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65"/>
          <p:cNvSpPr/>
          <p:nvPr/>
        </p:nvSpPr>
        <p:spPr>
          <a:xfrm>
            <a:off x="28584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66"/>
          <p:cNvSpPr/>
          <p:nvPr/>
        </p:nvSpPr>
        <p:spPr>
          <a:xfrm>
            <a:off x="9144000" y="4794120"/>
            <a:ext cx="0" cy="197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68"/>
          <p:cNvSpPr/>
          <p:nvPr/>
        </p:nvSpPr>
        <p:spPr>
          <a:xfrm>
            <a:off x="184320" y="393372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69"/>
          <p:cNvSpPr/>
          <p:nvPr/>
        </p:nvSpPr>
        <p:spPr>
          <a:xfrm>
            <a:off x="295200" y="234936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70"/>
          <p:cNvSpPr/>
          <p:nvPr/>
        </p:nvSpPr>
        <p:spPr>
          <a:xfrm>
            <a:off x="7596360" y="981000"/>
            <a:ext cx="12967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ыс.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69"/>
          <p:cNvSpPr/>
          <p:nvPr/>
        </p:nvSpPr>
        <p:spPr>
          <a:xfrm>
            <a:off x="306360" y="1631880"/>
            <a:ext cx="8858160" cy="0"/>
          </a:xfrm>
          <a:prstGeom prst="line">
            <a:avLst/>
          </a:prstGeom>
          <a:ln w="28440">
            <a:solidFill>
              <a:srgbClr val="85dfd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Информация о планируемом проведении расходов капитального характера в объектах социальной сферы района в 2017 году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400,0 тыс. рублей – выполнение топографических съемок земельных участков, межевание земель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2194,5 тыс. рублей – строительство пристройки к зданию ДЮСШ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10181,4 тыс. рублей – капитальный ремонт автомобильных дорог общего пользования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427,9 тыс. рублей – капитальный ремонт тепловой сети от ТК-11 до ТК-13 по ул. Школьная в с. Кортуз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554,8 тыс. рублей – капитальный ремонт тепловой сети от ТК-189 до ТК-191 по ул. Есенина в с. Краснотуранск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457200" y="54936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500,0 тыс. рублей – капитальный ремонт тепловой сети от ТК-51 до ТК-54 по ул. Южная в с. Тубинск;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210,1 тыс. рублей – прокладка участка водопроводной сети от ВК-315 до проектируемого ВК-298А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900000" y="476280"/>
            <a:ext cx="7201080" cy="4608360"/>
          </a:xfrm>
          <a:prstGeom prst="rect">
            <a:avLst/>
          </a:prstGeom>
          <a:ln w="0">
            <a:noFill/>
          </a:ln>
        </p:spPr>
      </p:pic>
      <p:sp>
        <p:nvSpPr>
          <p:cNvPr id="201" name="Объект 2"/>
          <p:cNvSpPr/>
          <p:nvPr/>
        </p:nvSpPr>
        <p:spPr>
          <a:xfrm>
            <a:off x="457200" y="5013360"/>
            <a:ext cx="82296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Территория Краснотуранского района – 346193 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Численность населения на 01.01.2016 – 14383 чело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9 сельских посел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5 населенных пунк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Районный центр – село Краснотуран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ая программа «Содействие развитию системы образования Краснотуранского района»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9" name="TextBox 3"/>
          <p:cNvSpPr/>
          <p:nvPr/>
        </p:nvSpPr>
        <p:spPr>
          <a:xfrm>
            <a:off x="250920" y="620640"/>
            <a:ext cx="42498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образования Краснотуранского района предоставлена 27 образовательными учреждениями, в т.ч.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 общеобразовательных шко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 дошкольных учрежден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дополнительных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бщеобразовательных учреждениях обучаются 1741 учащихс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района проживают 1447 детей в возрасте от 0 до 7 лет, услугу получают 737 воспитанн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хват детей дошкольным образованием – 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4788000" y="741240"/>
            <a:ext cx="3816360" cy="184788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" descr=""/>
          <p:cNvPicPr/>
          <p:nvPr/>
        </p:nvPicPr>
        <p:blipFill>
          <a:blip r:embed="rId2"/>
          <a:stretch/>
        </p:blipFill>
        <p:spPr>
          <a:xfrm>
            <a:off x="250920" y="2639880"/>
            <a:ext cx="4141800" cy="1725840"/>
          </a:xfrm>
          <a:prstGeom prst="rect">
            <a:avLst/>
          </a:prstGeom>
          <a:ln w="0">
            <a:noFill/>
          </a:ln>
        </p:spPr>
      </p:pic>
      <p:sp>
        <p:nvSpPr>
          <p:cNvPr id="462" name="TextBox 4"/>
          <p:cNvSpPr/>
          <p:nvPr/>
        </p:nvSpPr>
        <p:spPr>
          <a:xfrm>
            <a:off x="4788000" y="2784600"/>
            <a:ext cx="3816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ъем финансирования муниципальной програм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г. – 364318,2 тыс. ру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5г. – 389045,8 тыс. ру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г. – 380321,3 тыс. ру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г. – 358464,5 тыс. ру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8г. – 359282,0 тыс. руб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г. – 359282,0 тыс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5"/>
          <p:cNvSpPr/>
          <p:nvPr/>
        </p:nvSpPr>
        <p:spPr>
          <a:xfrm>
            <a:off x="1332000" y="4365720"/>
            <a:ext cx="6119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ль муниципальной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Обеспечение высокого качества образования, соответствующего потребностям гражда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. поддержка детей сирот, детей оставшихся без попечения родител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дых и оздоровление детей в летний пери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6"/>
          <p:cNvSpPr/>
          <p:nvPr/>
        </p:nvSpPr>
        <p:spPr>
          <a:xfrm>
            <a:off x="395280" y="5195880"/>
            <a:ext cx="8424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жидаемые результаты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довлетворенности населения качеством образовательных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очередности на зачисление детей в дошкольные образовательные учрежд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, соответствующих требованиям Федеральных государственных образовательных стандартов во всех общеобразовательных учреждения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охвата не менее 80% детей в возрасте 5-18 лет программами дополнительного образ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Прямоугольник 9"/>
          <p:cNvSpPr/>
          <p:nvPr/>
        </p:nvSpPr>
        <p:spPr>
          <a:xfrm>
            <a:off x="468360" y="1094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униципальная программа «Система социальной защиты населения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Прямоугольник 10"/>
          <p:cNvSpPr/>
          <p:nvPr/>
        </p:nvSpPr>
        <p:spPr>
          <a:xfrm>
            <a:off x="490680" y="1197000"/>
            <a:ext cx="3936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а учете в Управлении социальной защиты населения Краснотуранского района состоит 9783 человека, получающих различные виды соц. Помощи (68% от  проживающих на территории Краснотуранского района). Социальные услуги населению предоставляют МБУ КЦСОН и МКУ СО ЦСПСиД. Ежегодно услугами данных учреждений пользуются более 5 тыс. граждан района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Picture 6" descr="C:\Users\User\Desktop\ФОТО ДЛЯ ПРЕЗЕНТАЦИИ\социальная защита.jpg"/>
          <p:cNvPicPr/>
          <p:nvPr/>
        </p:nvPicPr>
        <p:blipFill>
          <a:blip r:embed="rId1"/>
          <a:stretch/>
        </p:blipFill>
        <p:spPr>
          <a:xfrm>
            <a:off x="4859280" y="981000"/>
            <a:ext cx="3168720" cy="1943280"/>
          </a:xfrm>
          <a:prstGeom prst="rect">
            <a:avLst/>
          </a:prstGeom>
          <a:ln w="0">
            <a:noFill/>
          </a:ln>
        </p:spPr>
      </p:pic>
      <p:sp>
        <p:nvSpPr>
          <p:cNvPr id="468" name="Прямоугольник 12"/>
          <p:cNvSpPr/>
          <p:nvPr/>
        </p:nvSpPr>
        <p:spPr>
          <a:xfrm>
            <a:off x="617400" y="2924280"/>
            <a:ext cx="38102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бъем финансирования муниципальной  программы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4 г. – 177396,6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5 г. – 81505,0  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6 г. – 81903,9  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7 г. – 80529,2  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8 г. – 80529,2  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9 г. – 80529,2   тыс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Прямоугольник 14"/>
          <p:cNvSpPr/>
          <p:nvPr/>
        </p:nvSpPr>
        <p:spPr>
          <a:xfrm>
            <a:off x="4211640" y="2971800"/>
            <a:ext cx="4321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Цель муниципальной програм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овышение качества и доступности предоставления услуг по социальному обслужива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Своевременное и  качественное исполнение переданных гос. полномочий в сфере соц. поддержки и соц. обслуживания насел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7" descr="C:\Users\User\Desktop\ФОТО ДЛЯ ПРЕЗЕНТАЦИИ\Соцзащита.jpg"/>
          <p:cNvPicPr/>
          <p:nvPr/>
        </p:nvPicPr>
        <p:blipFill>
          <a:blip r:embed="rId2"/>
          <a:stretch/>
        </p:blipFill>
        <p:spPr>
          <a:xfrm>
            <a:off x="324000" y="4540320"/>
            <a:ext cx="2135160" cy="2001600"/>
          </a:xfrm>
          <a:prstGeom prst="rect">
            <a:avLst/>
          </a:prstGeom>
          <a:ln w="0">
            <a:noFill/>
          </a:ln>
        </p:spPr>
      </p:pic>
      <p:sp>
        <p:nvSpPr>
          <p:cNvPr id="471" name="Прямоугольник 16"/>
          <p:cNvSpPr/>
          <p:nvPr/>
        </p:nvSpPr>
        <p:spPr>
          <a:xfrm>
            <a:off x="2481120" y="4653000"/>
            <a:ext cx="6120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Выполнение переданных гос. Полномочий по предоставлению мер соц. поддержки и соц. обслуживания граждан в соответствии с федеральным и краевым законодательств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Обеспечение поддержки и социальной адаптации граждан, попавших в трудную жизненную ситуац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ышение статуса соц. Работника и престижа профе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Прямоугольник 1"/>
          <p:cNvSpPr/>
          <p:nvPr/>
        </p:nvSpPr>
        <p:spPr>
          <a:xfrm>
            <a:off x="468360" y="189000"/>
            <a:ext cx="835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Муниципальная программа «Реформирование и модернизация жилищно-коммунального хозяйства и повышение энергетической эффективности в Краснотуранского райо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Прямоугольник 2"/>
          <p:cNvSpPr/>
          <p:nvPr/>
        </p:nvSpPr>
        <p:spPr>
          <a:xfrm>
            <a:off x="250920" y="1104840"/>
            <a:ext cx="8569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илищно-коммунальное хозяйство является основным поставщиком первоочередных жизненно-важных услуг населению: тепло-водоснабжение, водоотведение, эксплуатация и ремонт жилищного фонда. Уровень износа коммунальной инфраструктуры составляет 78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2" descr="C:\Users\User\Desktop\ФОТО ДЛЯ ПРЕЗЕНТАЦИИ\котельная.jpg"/>
          <p:cNvPicPr/>
          <p:nvPr/>
        </p:nvPicPr>
        <p:blipFill>
          <a:blip r:embed="rId1"/>
          <a:stretch/>
        </p:blipFill>
        <p:spPr>
          <a:xfrm>
            <a:off x="611280" y="1844640"/>
            <a:ext cx="3024000" cy="1674720"/>
          </a:xfrm>
          <a:prstGeom prst="rect">
            <a:avLst/>
          </a:prstGeom>
          <a:ln w="0">
            <a:noFill/>
          </a:ln>
        </p:spPr>
      </p:pic>
      <p:sp>
        <p:nvSpPr>
          <p:cNvPr id="475" name="Прямоугольник 3"/>
          <p:cNvSpPr/>
          <p:nvPr/>
        </p:nvSpPr>
        <p:spPr>
          <a:xfrm>
            <a:off x="4140360" y="1857240"/>
            <a:ext cx="457200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15768,3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29875,4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22492,1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25251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26146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26146,5 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Прямоугольник 5"/>
          <p:cNvSpPr/>
          <p:nvPr/>
        </p:nvSpPr>
        <p:spPr>
          <a:xfrm>
            <a:off x="468360" y="3519360"/>
            <a:ext cx="5635440" cy="14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Обеспечение населения района качественными жилищно- коммунальными услугами в условиях развития рыночных отношений в отрасли и ограниченного роста оплаты жилищно-коммунальных услуг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Формирование целостности и эффективной системы управления энергосбережением и повышением энергетической эффективност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9" descr="C:\Users\User\Desktop\ФОТО ДЛЯ ПРЕЗЕНТАЦИИ\жкх.jpeg"/>
          <p:cNvPicPr/>
          <p:nvPr/>
        </p:nvPicPr>
        <p:blipFill>
          <a:blip r:embed="rId2"/>
          <a:stretch/>
        </p:blipFill>
        <p:spPr>
          <a:xfrm>
            <a:off x="6448320" y="3643200"/>
            <a:ext cx="2084400" cy="1730520"/>
          </a:xfrm>
          <a:prstGeom prst="rect">
            <a:avLst/>
          </a:prstGeom>
          <a:ln w="0">
            <a:noFill/>
          </a:ln>
        </p:spPr>
      </p:pic>
      <p:sp>
        <p:nvSpPr>
          <p:cNvPr id="478" name="Прямоугольник 9"/>
          <p:cNvSpPr/>
          <p:nvPr/>
        </p:nvSpPr>
        <p:spPr>
          <a:xfrm>
            <a:off x="758880" y="4989600"/>
            <a:ext cx="7416720" cy="21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апитальный ремонт тепловых и водопроводных сетей (3км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Замена технологического и электросилового оборудования насосной стан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Замена котлов на отопительных котельных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ап. ремонт водонапорных  башен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Замена резервуара для питьевой вод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омывка центрального водово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Снижение потребления энергетических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Прямоугольник 1"/>
          <p:cNvSpPr/>
          <p:nvPr/>
        </p:nvSpPr>
        <p:spPr>
          <a:xfrm>
            <a:off x="250920" y="189000"/>
            <a:ext cx="86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Культура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Прямоугольник 2"/>
          <p:cNvSpPr/>
          <p:nvPr/>
        </p:nvSpPr>
        <p:spPr>
          <a:xfrm>
            <a:off x="3924360" y="557280"/>
            <a:ext cx="4971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луги населению Краснотуранского района предоставляют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20 библиоте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1 историко-этнографический музе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23 учреждения культурно-досугового тип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1 детская школа искусст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Прямоугольник 3"/>
          <p:cNvSpPr/>
          <p:nvPr/>
        </p:nvSpPr>
        <p:spPr>
          <a:xfrm>
            <a:off x="395280" y="2421000"/>
            <a:ext cx="4248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енность работающих в отрасли – 227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детей проводится 1077 мероприят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Прямоугольник 4"/>
          <p:cNvSpPr/>
          <p:nvPr/>
        </p:nvSpPr>
        <p:spPr>
          <a:xfrm>
            <a:off x="684360" y="3213000"/>
            <a:ext cx="37972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33134,9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36144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38639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34916,8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34900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34900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Прямоугольник 5"/>
          <p:cNvSpPr/>
          <p:nvPr/>
        </p:nvSpPr>
        <p:spPr>
          <a:xfrm>
            <a:off x="4324320" y="384192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програм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оздание условий для развития 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еализации культурного и духовного потенциала населения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Прямоугольник 6"/>
          <p:cNvSpPr/>
          <p:nvPr/>
        </p:nvSpPr>
        <p:spPr>
          <a:xfrm>
            <a:off x="1130400" y="5013360"/>
            <a:ext cx="638964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птимизация и модернизация сети муниципальных учреждений культур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внедрение новых информационных продуктов и технолог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распространение и поддержка муниципальных культурных инициати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2" descr="C:\Users\User\Desktop\ФОТО ДЛЯ ПРЕЗЕНТАЦИИ\культура 1.jpg"/>
          <p:cNvPicPr/>
          <p:nvPr/>
        </p:nvPicPr>
        <p:blipFill>
          <a:blip r:embed="rId1"/>
          <a:stretch/>
        </p:blipFill>
        <p:spPr>
          <a:xfrm>
            <a:off x="1152360" y="692280"/>
            <a:ext cx="2478240" cy="172872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C:\Users\User\Desktop\ФОТО ДЛЯ ПРЕЗЕНТАЦИИ\цбс.jpg"/>
          <p:cNvPicPr/>
          <p:nvPr/>
        </p:nvPicPr>
        <p:blipFill>
          <a:blip r:embed="rId2"/>
          <a:stretch/>
        </p:blipFill>
        <p:spPr>
          <a:xfrm>
            <a:off x="5016600" y="1943280"/>
            <a:ext cx="2940120" cy="187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Прямоугольник 1"/>
          <p:cNvSpPr/>
          <p:nvPr/>
        </p:nvSpPr>
        <p:spPr>
          <a:xfrm>
            <a:off x="382680" y="11592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Содействие развитию физической культуры, спорта и туризма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2" descr="C:\Users\User\Desktop\ФОТО ДЛЯ ПРЕЗЕНТАЦИИ\туризм 1.jpg"/>
          <p:cNvPicPr/>
          <p:nvPr/>
        </p:nvPicPr>
        <p:blipFill>
          <a:blip r:embed="rId1"/>
          <a:stretch/>
        </p:blipFill>
        <p:spPr>
          <a:xfrm>
            <a:off x="468360" y="1052640"/>
            <a:ext cx="2508120" cy="1628640"/>
          </a:xfrm>
          <a:prstGeom prst="rect">
            <a:avLst/>
          </a:prstGeom>
          <a:ln w="0">
            <a:noFill/>
          </a:ln>
        </p:spPr>
      </p:pic>
      <p:sp>
        <p:nvSpPr>
          <p:cNvPr id="489" name="Прямоугольник 2"/>
          <p:cNvSpPr/>
          <p:nvPr/>
        </p:nvSpPr>
        <p:spPr>
          <a:xfrm>
            <a:off x="3132000" y="1052640"/>
            <a:ext cx="554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министрация района участвует в развитии муниципальных рекреационных зон на территории Красноярского водохранилища. Протяженность береговой линии рекреационных зон составляет более 1 км. Общая численность отдыхающих – более 18 тыс. человек ежегодно. Учреждение – МБУ «Центр отдыха «Сосновый бор»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Прямоугольник 3"/>
          <p:cNvSpPr/>
          <p:nvPr/>
        </p:nvSpPr>
        <p:spPr>
          <a:xfrm>
            <a:off x="582480" y="2997360"/>
            <a:ext cx="4421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4 г. – 25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5 г. – 25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6 г. – 18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7 г. – 18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8 г. – 18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019 г. – 1800,0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Picture 3" descr="C:\Users\User\Desktop\ФОТО ДЛЯ ПРЕЗЕНТАЦИИ\спорт х.jpg"/>
          <p:cNvPicPr/>
          <p:nvPr/>
        </p:nvPicPr>
        <p:blipFill>
          <a:blip r:embed="rId2"/>
          <a:stretch/>
        </p:blipFill>
        <p:spPr>
          <a:xfrm>
            <a:off x="5003640" y="2868480"/>
            <a:ext cx="3529080" cy="1568520"/>
          </a:xfrm>
          <a:prstGeom prst="rect">
            <a:avLst/>
          </a:prstGeom>
          <a:ln w="0">
            <a:noFill/>
          </a:ln>
        </p:spPr>
      </p:pic>
      <p:sp>
        <p:nvSpPr>
          <p:cNvPr id="492" name="Прямоугольник 4"/>
          <p:cNvSpPr/>
          <p:nvPr/>
        </p:nvSpPr>
        <p:spPr>
          <a:xfrm>
            <a:off x="755640" y="4221000"/>
            <a:ext cx="7329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Цель муниципальной программы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Создание доступных условий для занятий населения Краснотуранского района различных возрастных, профессиональных и социальных групп физ. культурой и спорт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азвитие муниципального туристского комплек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Прямоугольник 5"/>
          <p:cNvSpPr/>
          <p:nvPr/>
        </p:nvSpPr>
        <p:spPr>
          <a:xfrm>
            <a:off x="755640" y="5380200"/>
            <a:ext cx="7201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ост доли граждан систематически занимающихся физ. культурой и спортом к общей численности населения района с 18% до 24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ост общей численности отдыхающих на территории оборудованных зон с 18 до 25 тыс.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Прямоугольник 1"/>
          <p:cNvSpPr/>
          <p:nvPr/>
        </p:nvSpPr>
        <p:spPr>
          <a:xfrm>
            <a:off x="179280" y="115920"/>
            <a:ext cx="878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Молодежь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Прямоугольник 2"/>
          <p:cNvSpPr/>
          <p:nvPr/>
        </p:nvSpPr>
        <p:spPr>
          <a:xfrm>
            <a:off x="500040" y="692280"/>
            <a:ext cx="835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а территории района проживают 2580 человек в возрасте от 14 до 30 лет. Функционирует МБУ «Молодежный центр «Жемчужина»». Около 25% молодежи от общего количества молодых граждан Краснотуранского района участвуют в социальных проекта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2" descr="C:\Users\User\Desktop\ФОТО ДЛЯ ПРЕЗЕНТАЦИИ\день молодежи.JPG"/>
          <p:cNvPicPr/>
          <p:nvPr/>
        </p:nvPicPr>
        <p:blipFill>
          <a:blip r:embed="rId1"/>
          <a:stretch/>
        </p:blipFill>
        <p:spPr>
          <a:xfrm>
            <a:off x="611280" y="1504800"/>
            <a:ext cx="3062160" cy="1708200"/>
          </a:xfrm>
          <a:prstGeom prst="rect">
            <a:avLst/>
          </a:prstGeom>
          <a:ln w="0">
            <a:noFill/>
          </a:ln>
        </p:spPr>
      </p:pic>
      <p:sp>
        <p:nvSpPr>
          <p:cNvPr id="497" name="Прямоугольник 3"/>
          <p:cNvSpPr/>
          <p:nvPr/>
        </p:nvSpPr>
        <p:spPr>
          <a:xfrm>
            <a:off x="3635280" y="1504800"/>
            <a:ext cx="521676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 програм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5142,9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3001,7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4806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4727,1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4727,1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4727,1 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Прямоугольник 4"/>
          <p:cNvSpPr/>
          <p:nvPr/>
        </p:nvSpPr>
        <p:spPr>
          <a:xfrm>
            <a:off x="500040" y="3213000"/>
            <a:ext cx="45720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Цель муниципальной програм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Создание условий для дальнейшего развития  и совершенствования системы патриотического воспитания молодежи Краснотуранского района, вовлечение её в добровольческую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Гос. поддержка в решении жилищных проблем молодых семей, нуждающихся в улучшении жилищных услови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Развитие социально-ориентированных некоммерческих организ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3" descr="C:\Users\User\Desktop\ФОТО ДЛЯ ПРЕЗЕНТАЦИИ\молодые.jpg"/>
          <p:cNvPicPr/>
          <p:nvPr/>
        </p:nvPicPr>
        <p:blipFill>
          <a:blip r:embed="rId2"/>
          <a:stretch/>
        </p:blipFill>
        <p:spPr>
          <a:xfrm>
            <a:off x="5435640" y="3068640"/>
            <a:ext cx="3209760" cy="2232000"/>
          </a:xfrm>
          <a:prstGeom prst="rect">
            <a:avLst/>
          </a:prstGeom>
          <a:ln w="0">
            <a:noFill/>
          </a:ln>
        </p:spPr>
      </p:pic>
      <p:sp>
        <p:nvSpPr>
          <p:cNvPr id="500" name="Прямоугольник 5"/>
          <p:cNvSpPr/>
          <p:nvPr/>
        </p:nvSpPr>
        <p:spPr>
          <a:xfrm>
            <a:off x="250920" y="5300640"/>
            <a:ext cx="8642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ост удельного веса молодых граждан, вовлеченных в реализацию общерайонных социально-экономических проектов к общей численности молодежи с 25% до 35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рост доли молодых граждан, вовлеченных в добровольческую деятельность с 11% до 35%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доля молодых граждан, улучшивших жилищные условия за счет получения соц. выплат к общему количеству молодых семей, состоящих на учете, нуждающихся в улучшении жилищных условий – 74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1"/>
          <p:cNvSpPr/>
          <p:nvPr/>
        </p:nvSpPr>
        <p:spPr>
          <a:xfrm>
            <a:off x="108000" y="11592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Создание условий для обеспечения доступным и комфортным жильем граждан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Прямоугольник 2"/>
          <p:cNvSpPr/>
          <p:nvPr/>
        </p:nvSpPr>
        <p:spPr>
          <a:xfrm>
            <a:off x="782640" y="981000"/>
            <a:ext cx="7848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 2008 года в Краснотуранском районе отмечается устойчивый прирост площадей жилищного фонда – ежегодно 1,2 тыс. кв.м. Общая площадь жилфонда – 352 тыс. кв.м. Показатель жилищной обеспеченности – 22,3кв.м. на 1 жи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3" name="Picture 2" descr="C:\Users\User\Desktop\ФОТО ДЛЯ ПРЕЗЕНТАЦИИ\Центральная ,.JPG"/>
          <p:cNvPicPr/>
          <p:nvPr/>
        </p:nvPicPr>
        <p:blipFill>
          <a:blip r:embed="rId1"/>
          <a:stretch/>
        </p:blipFill>
        <p:spPr>
          <a:xfrm>
            <a:off x="611280" y="1746360"/>
            <a:ext cx="2881080" cy="1612800"/>
          </a:xfrm>
          <a:prstGeom prst="rect">
            <a:avLst/>
          </a:prstGeom>
          <a:ln w="0">
            <a:noFill/>
          </a:ln>
        </p:spPr>
      </p:pic>
      <p:sp>
        <p:nvSpPr>
          <p:cNvPr id="504" name="Прямоугольник 3"/>
          <p:cNvSpPr/>
          <p:nvPr/>
        </p:nvSpPr>
        <p:spPr>
          <a:xfrm>
            <a:off x="3492360" y="1758960"/>
            <a:ext cx="51390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1290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5324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333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400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400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400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" descr="C:\Users\User\Desktop\ФОТО ДЛЯ ПРЕЗЕНТАЦИИ\д. Кедровая.JPG"/>
          <p:cNvPicPr/>
          <p:nvPr/>
        </p:nvPicPr>
        <p:blipFill>
          <a:blip r:embed="rId2"/>
          <a:stretch/>
        </p:blipFill>
        <p:spPr>
          <a:xfrm>
            <a:off x="5003640" y="3359160"/>
            <a:ext cx="3384720" cy="1725480"/>
          </a:xfrm>
          <a:prstGeom prst="rect">
            <a:avLst/>
          </a:prstGeom>
          <a:ln w="0">
            <a:noFill/>
          </a:ln>
        </p:spPr>
      </p:pic>
      <p:sp>
        <p:nvSpPr>
          <p:cNvPr id="506" name="Прямоугольник 4"/>
          <p:cNvSpPr/>
          <p:nvPr/>
        </p:nvSpPr>
        <p:spPr>
          <a:xfrm>
            <a:off x="614520" y="3473280"/>
            <a:ext cx="457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муниципальной програм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ышение доступности жилья и улучшение жилищных условий граждан, проживающих на территории Краснотуранского райо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5"/>
          <p:cNvSpPr/>
          <p:nvPr/>
        </p:nvSpPr>
        <p:spPr>
          <a:xfrm>
            <a:off x="468360" y="5157720"/>
            <a:ext cx="8351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Обеспечение земельных участков для жилищного строительства топографическими съемками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Актуализация документов территориального планирования и градостроительного зонирования 9 сельских поселени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Прямоугольник 1"/>
          <p:cNvSpPr/>
          <p:nvPr/>
        </p:nvSpPr>
        <p:spPr>
          <a:xfrm>
            <a:off x="539640" y="2844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Содействие в развитии   поддержке малого и среднего предпринимательства на территории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2"/>
          <p:cNvSpPr/>
          <p:nvPr/>
        </p:nvSpPr>
        <p:spPr>
          <a:xfrm>
            <a:off x="539640" y="836640"/>
            <a:ext cx="48960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убъектов малого и среднего предпринимательства на территории Краснотуранского района - 332 ед. в т.ч.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47 малых предприятий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286 индивидуальных предпринимате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Численность занятых в сфере малого и среднего бизнеса – 1123 человек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борот по предпринимателям малого и среднего бизнеса составил 708 млн. рубл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2" descr="C:\Users\User\Desktop\ФОТО ДЛЯ ПРЕЗЕНТАЦИИ\8O.JPG"/>
          <p:cNvPicPr/>
          <p:nvPr/>
        </p:nvPicPr>
        <p:blipFill>
          <a:blip r:embed="rId1"/>
          <a:stretch/>
        </p:blipFill>
        <p:spPr>
          <a:xfrm>
            <a:off x="5435640" y="907920"/>
            <a:ext cx="3384360" cy="165744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C:\Users\User\Desktop\ФОТО ДЛЯ ПРЕЗЕНТАЦИИ\P1010020.JPG"/>
          <p:cNvPicPr/>
          <p:nvPr/>
        </p:nvPicPr>
        <p:blipFill>
          <a:blip r:embed="rId2"/>
          <a:stretch/>
        </p:blipFill>
        <p:spPr>
          <a:xfrm>
            <a:off x="673200" y="2908440"/>
            <a:ext cx="2674800" cy="1717560"/>
          </a:xfrm>
          <a:prstGeom prst="rect">
            <a:avLst/>
          </a:prstGeom>
          <a:ln w="0">
            <a:noFill/>
          </a:ln>
        </p:spPr>
      </p:pic>
      <p:sp>
        <p:nvSpPr>
          <p:cNvPr id="512" name="Прямоугольник 3"/>
          <p:cNvSpPr/>
          <p:nvPr/>
        </p:nvSpPr>
        <p:spPr>
          <a:xfrm>
            <a:off x="3348000" y="2908440"/>
            <a:ext cx="496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3905,7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4420,6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1340,2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590,0  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590,0  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590,0   тыс. руб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Прямоугольник 4"/>
          <p:cNvSpPr/>
          <p:nvPr/>
        </p:nvSpPr>
        <p:spPr>
          <a:xfrm>
            <a:off x="287280" y="4667400"/>
            <a:ext cx="878544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муниципальной програм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ние благоприятных условий для развития и устойчивого роста малого и среднего предпринимательства в Краснотуранском райо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Прямоугольник 5"/>
          <p:cNvSpPr/>
          <p:nvPr/>
        </p:nvSpPr>
        <p:spPr>
          <a:xfrm>
            <a:off x="468360" y="5313240"/>
            <a:ext cx="8604360" cy="15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оличество субъектов малого и среднего предпринимательства, получивших муниципальную поддержку – 10 единиц ежегодн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оличество созданных рабочих мест в секторе малого и среднего предпринимательства за период реализации программы – 19 еди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оличество сохраненных рабочих мест в секторе малого и среднего предпринимательства – 18 единиц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объем привлеченных внебюджетных инвестиций в секторе малого и среднего предпринимательства – 8,3 млн. руб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Прямоугольник 1"/>
          <p:cNvSpPr/>
          <p:nvPr/>
        </p:nvSpPr>
        <p:spPr>
          <a:xfrm>
            <a:off x="250920" y="115920"/>
            <a:ext cx="8642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00000"/>
                </a:solidFill>
                <a:latin typeface="Arial"/>
              </a:rPr>
              <a:t>Муниципальная программа «Содействие в развитии сельского хозяйства Краснотуранского райо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Прямоугольник 2"/>
          <p:cNvSpPr/>
          <p:nvPr/>
        </p:nvSpPr>
        <p:spPr>
          <a:xfrm>
            <a:off x="1042920" y="843120"/>
            <a:ext cx="4537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 территории Краснотуранского района в реестр АПК включены 56 товаропроизводителе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3 акционерных обще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7 обществ с ограниченной ответственностью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15 с/х кооператив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30 фермерских хозяйст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1 гос. с\х учрежд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2" descr="C:\Users\User\Desktop\ФОТО ДЛЯ ПРЕЗЕНТАЦИИ\DSC_1826.JPG"/>
          <p:cNvPicPr/>
          <p:nvPr/>
        </p:nvPicPr>
        <p:blipFill>
          <a:blip r:embed="rId1"/>
          <a:stretch/>
        </p:blipFill>
        <p:spPr>
          <a:xfrm>
            <a:off x="5580000" y="843120"/>
            <a:ext cx="3144960" cy="287316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3"/>
          <p:cNvSpPr/>
          <p:nvPr/>
        </p:nvSpPr>
        <p:spPr>
          <a:xfrm>
            <a:off x="539640" y="2637000"/>
            <a:ext cx="51847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8541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8492,0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15507,6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5613,1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4488,9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4487,7 тыс. 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4"/>
          <p:cNvSpPr/>
          <p:nvPr/>
        </p:nvSpPr>
        <p:spPr>
          <a:xfrm>
            <a:off x="4538520" y="3933720"/>
            <a:ext cx="4572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программы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азвитие сельских территорий, рост занятости и уровня жизни сельского насел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3" descr="C:\Users\User\Desktop\ФОТО ДЛЯ ПРЕЗЕНТАЦИИ\а 034.jpg"/>
          <p:cNvPicPr/>
          <p:nvPr/>
        </p:nvPicPr>
        <p:blipFill>
          <a:blip r:embed="rId2"/>
          <a:stretch/>
        </p:blipFill>
        <p:spPr>
          <a:xfrm>
            <a:off x="539640" y="4221000"/>
            <a:ext cx="3562560" cy="2374920"/>
          </a:xfrm>
          <a:prstGeom prst="rect">
            <a:avLst/>
          </a:prstGeom>
          <a:ln w="0">
            <a:noFill/>
          </a:ln>
        </p:spPr>
      </p:pic>
      <p:sp>
        <p:nvSpPr>
          <p:cNvPr id="521" name="Прямоугольник 5"/>
          <p:cNvSpPr/>
          <p:nvPr/>
        </p:nvSpPr>
        <p:spPr>
          <a:xfrm>
            <a:off x="4379760" y="4869000"/>
            <a:ext cx="4572000" cy="17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Количество  молодых семей и молодых специалистов,      улучшивших  жилищные условия – до 35 человек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Ввод жилья гражданам, проживающим в сельской местности до 2235 кв.м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Возмещение части затрат на уплату % по кредитам гражданам, ведущим ЛПХ до 793,7 тыс. руб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- Проведение мероприятий по отлову и содержанию безнадзорных животных до 3005,0 тыс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Прямоугольник 1"/>
          <p:cNvSpPr/>
          <p:nvPr/>
        </p:nvSpPr>
        <p:spPr>
          <a:xfrm>
            <a:off x="468360" y="115920"/>
            <a:ext cx="835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00000"/>
                </a:solidFill>
                <a:latin typeface="Arial"/>
              </a:rPr>
              <a:t>Муниципальная программа «Управление муниципальными финансами Краснотуранского райо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Прямоугольник 2"/>
          <p:cNvSpPr/>
          <p:nvPr/>
        </p:nvSpPr>
        <p:spPr>
          <a:xfrm>
            <a:off x="358920" y="798480"/>
            <a:ext cx="8569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Бюджетная система Краснотуранского района включает в себя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районный бюджет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 9 сельских посел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полномоченный орган в сфере управления финансами – Финансовое управление Администрации Краснотуранского райо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Прямоугольник 3"/>
          <p:cNvSpPr/>
          <p:nvPr/>
        </p:nvSpPr>
        <p:spPr>
          <a:xfrm>
            <a:off x="458640" y="1992240"/>
            <a:ext cx="3943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бъем финансирования муниципальной программы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4 г. – 66369,8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5 г. – 66726,1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6 г. – 69489,2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7 г. – 69488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8 г. – 68147,5 тыс. руб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2019 г. – 68147,5 тыс. руб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5" name="Picture 2" descr="C:\Users\User\Desktop\ФОТО ДЛЯ ПРЕЗЕНТАЦИИ\бюджет.jpg"/>
          <p:cNvPicPr/>
          <p:nvPr/>
        </p:nvPicPr>
        <p:blipFill>
          <a:blip r:embed="rId1"/>
          <a:stretch/>
        </p:blipFill>
        <p:spPr>
          <a:xfrm>
            <a:off x="5076720" y="1844640"/>
            <a:ext cx="3743280" cy="1747800"/>
          </a:xfrm>
          <a:prstGeom prst="rect">
            <a:avLst/>
          </a:prstGeom>
          <a:ln w="0">
            <a:noFill/>
          </a:ln>
        </p:spPr>
      </p:pic>
      <p:sp>
        <p:nvSpPr>
          <p:cNvPr id="526" name="Прямоугольник 4"/>
          <p:cNvSpPr/>
          <p:nvPr/>
        </p:nvSpPr>
        <p:spPr>
          <a:xfrm>
            <a:off x="468360" y="3602160"/>
            <a:ext cx="835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Цель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беспечение долгосрочной сбалансированности и устойчивости бюджетной системы, повышение качества и прозрачности управления муниципальными финанса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Прямоугольник 5"/>
          <p:cNvSpPr/>
          <p:nvPr/>
        </p:nvSpPr>
        <p:spPr>
          <a:xfrm>
            <a:off x="184320" y="4395960"/>
            <a:ext cx="8928000" cy="21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c00000"/>
                </a:solidFill>
                <a:latin typeface="Arial"/>
              </a:rPr>
              <a:t>Ожидаемые результаты программ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минимального размера бюджетной обеспеченности – 9,9 тыс. руб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ост объема налоговых и неналоговых доходов местных бюджетов в общем объеме доходов местных бюджет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в местных бюджетах просроченной кредиторской задолженности по выплате заработной платы с начислениями работникам бюджетной сферы и по исполнению обязательств перед граждан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сутствие выплат из районного бюджета сумм, связанных с несвоевременным исполнением долговых обязатель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доли расходов районного бюджета, формируемых в рамках муниципальных програм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воевременное составление проекта районного бюджета и отчета об исполнении районного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беспечение исполнения расходных обязательств райо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ачественное планирование доходов районного бюджет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вышение квалификации муниципальных служащих, работающих в финансовом у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Схема 3" descr=""/>
          <p:cNvPicPr/>
          <p:nvPr/>
        </p:nvPicPr>
        <p:blipFill>
          <a:blip r:embed="rId1"/>
          <a:stretch/>
        </p:blipFill>
        <p:spPr>
          <a:xfrm>
            <a:off x="560520" y="500040"/>
            <a:ext cx="8083440" cy="56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Прямоугольник 1"/>
          <p:cNvSpPr/>
          <p:nvPr/>
        </p:nvSpPr>
        <p:spPr>
          <a:xfrm>
            <a:off x="1608120" y="115920"/>
            <a:ext cx="59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Телефоны Финансового управления администрации Краснотуранского рай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Прямоугольник 4"/>
          <p:cNvSpPr/>
          <p:nvPr/>
        </p:nvSpPr>
        <p:spPr>
          <a:xfrm>
            <a:off x="1079640" y="213372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График приема граждан руководителем Финансового управления администрации Краснотура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Прямоугольник 5"/>
          <p:cNvSpPr/>
          <p:nvPr/>
        </p:nvSpPr>
        <p:spPr>
          <a:xfrm>
            <a:off x="1685880" y="1052640"/>
            <a:ext cx="5904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уководитель - 8(39134)21-2-3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дел бюджетного планирования – 8(39134)21-2-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Отдел финансового контроля и отчетности – 8(39134)22-3-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"/>
          <p:cNvGraphicFramePr/>
          <p:nvPr/>
        </p:nvGraphicFramePr>
        <p:xfrm>
          <a:off x="1504800" y="2852640"/>
          <a:ext cx="6061320" cy="789120"/>
        </p:xfrm>
        <a:graphic>
          <a:graphicData uri="http://schemas.openxmlformats.org/drawingml/2006/table">
            <a:tbl>
              <a:tblPr/>
              <a:tblGrid>
                <a:gridCol w="2551320"/>
                <a:gridCol w="1800000"/>
                <a:gridCol w="1710000"/>
              </a:tblGrid>
              <a:tr h="270000">
                <a:tc>
                  <a:txBody>
                    <a:bodyPr lIns="0" rIns="0" tIns="0" bIns="0" anchor="t">
                      <a:noAutofit/>
                    </a:bodyPr>
                    <a:p>
                      <a:pPr marL="57240" algn="ctr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Дни при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146160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Часы при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9240" algn="ctr">
                        <a:lnSpc>
                          <a:spcPts val="2035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en-US" sz="18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телефо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0" rIns="0" tIns="0" bIns="0" anchor="t">
                      <a:noAutofit/>
                    </a:bodyPr>
                    <a:p>
                      <a:pPr marL="57240">
                        <a:lnSpc>
                          <a:spcPts val="1573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Ежедневно ( понедельник – пятница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30040">
                        <a:lnSpc>
                          <a:spcPts val="2024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08.00-12.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230040">
                        <a:lnSpc>
                          <a:spcPts val="1573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13.00-16.</a:t>
                      </a: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217440" algn="ctr">
                        <a:lnSpc>
                          <a:spcPts val="1573"/>
                        </a:lnSpc>
                        <a:spcBef>
                          <a:spcPts val="9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17365d"/>
                          </a:solidFill>
                          <a:latin typeface="Times New Roman"/>
                          <a:ea typeface="Times New Roman"/>
                        </a:rPr>
                        <a:t>8(39134)21-2-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2" name="Прямоугольник 7"/>
          <p:cNvSpPr/>
          <p:nvPr/>
        </p:nvSpPr>
        <p:spPr>
          <a:xfrm>
            <a:off x="1079640" y="389736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Arial"/>
              </a:rPr>
              <a:t>Подготовлено Финансовым управлением администрации Краснотура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Прямоугольник 8"/>
          <p:cNvSpPr/>
          <p:nvPr/>
        </p:nvSpPr>
        <p:spPr>
          <a:xfrm>
            <a:off x="2340000" y="4816440"/>
            <a:ext cx="4221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il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1"/>
              </a:rPr>
              <a:t>pub</a:t>
            </a:r>
            <a:r>
              <a:rPr b="0" lang="ru-RU" sz="1600" spc="-1" strike="noStrike" u="sng">
                <a:solidFill>
                  <a:srgbClr val="f49100"/>
                </a:solidFill>
                <a:uFillTx/>
                <a:latin typeface="Arial"/>
                <a:hlinkClick r:id="rId2"/>
              </a:rPr>
              <a:t>03407@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3"/>
              </a:rPr>
              <a:t>krasmail</a:t>
            </a:r>
            <a:r>
              <a:rPr b="0" lang="ru-RU" sz="1600" spc="-1" strike="noStrike" u="sng">
                <a:solidFill>
                  <a:srgbClr val="f49100"/>
                </a:solidFill>
                <a:uFillTx/>
                <a:latin typeface="Arial"/>
                <a:hlinkClick r:id="rId4"/>
              </a:rPr>
              <a:t>.</a:t>
            </a:r>
            <a:r>
              <a:rPr b="0" lang="en-US" sz="1600" spc="-1" strike="noStrike" u="sng">
                <a:solidFill>
                  <a:srgbClr val="f49100"/>
                </a:solidFill>
                <a:uFillTx/>
                <a:latin typeface="Arial"/>
                <a:hlinkClick r:id="rId5"/>
              </a:rPr>
              <a:t>r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тактная информац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. Краснотуранск, ул. Карла Маркса,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.: (39134) 21-2-32, 21-2-35, 22-3-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1652760" y="1989000"/>
            <a:ext cx="5838480" cy="4392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Calibri"/>
              </a:rPr>
              <a:t>.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Что такое «БЮДЖЕТ ДЛЯ ГРАЖДАН?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Бюджет для граждан» основные параметры решения Краснотуранского районного Совета о районном бюджете в доступной и понятной форме для широкого круга заинтересованных пользователей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 представленной информации отражены параметры районного бюджета на предстоящие три года: 2017, 2018 и 2019 годы. Здесь представлены основные бюджетные показатели: доходы, расходы, их направления и объемы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2400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832400" indent="-264960">
              <a:lnSpc>
                <a:spcPct val="10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сновные понят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>
              <a:lnSpc>
                <a:spcPct val="100000"/>
              </a:lnSpc>
              <a:spcBef>
                <a:spcPts val="57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ходы бюджета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– это поступающие в бюджет денежные сре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spcBef>
                <a:spcPts val="1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ходы бюджета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выплачиваемые из бюджета денежные средств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ефицит бюджета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превышение расходов бюджета над его дохода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официт бюджета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превышение доходов бюджета над его расходам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лансированность бюджета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соответствие объема предусмотренных бюджетом расходов объему доходов бюджета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юджетный процесс 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регламентируемая законодательством Российской Федерации деятельность органов государственной власти, органов местного самоуправления и иных участников бюджетного процесса по составлению и рассмотрению проектов бюджетов, утверждению и исполнению бюджетов, контролю за их исполнением, осуществлению бюджетного учета, составлению, внешней проверке, рассмотрению и утверждению бюджетной отчетности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юджетная роспись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документ, который составляется и ведется: </a:t>
            </a:r>
            <a:br>
              <a:rPr sz="1600"/>
            </a:b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 - главным распорядителем бюджетных средств в целях исполнения бюджета по расходам, 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1600" spc="-1" strike="noStrike">
                <a:solidFill>
                  <a:srgbClr val="04617b"/>
                </a:solidFill>
                <a:latin typeface="Times New Roman"/>
                <a:ea typeface="Times New Roman"/>
              </a:rPr>
              <a:t>- главным администратором источников финансирования дефицита бюджета – в целях исполнения бюджета в части источников финансирования дефицита бюджет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>
              <a:spcBef>
                <a:spcPts val="4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1832400" indent="-264960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-1260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Aharoni"/>
              </a:rPr>
              <a:t>Межбюджетные трансферты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34800" y="1807920"/>
            <a:ext cx="2347920" cy="138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на безвозмездной и безвозвратной основе без установления направлений и (или) условий их использования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6395760" y="1881000"/>
            <a:ext cx="2135160" cy="1655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algn="ctr">
              <a:lnSpc>
                <a:spcPct val="10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в целях софинансирования расходных обязательств, возникающих при выполнении полномочий органов местного самоуправления по вопросам местного значения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-360" y="5157360"/>
            <a:ext cx="4327560" cy="14842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в целях финансового обеспечения расходных обязательств муниципальных образований, возникающих при выполнении государственных полномочий Российской федерации, субъектов Российской Федерации, переданных для осуществления органам местного самоуправления в установленном порядке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5508360" y="5157360"/>
            <a:ext cx="3422520" cy="145116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326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оставляются в случаях и порядке, предусмотренных законами субъекта Российской Федерации и принимаемыми в соответствии с ними иными нормативными правовыми актами органов государственной власти субъектов Российской Федерации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Скругленный прямоугольник 6"/>
          <p:cNvSpPr/>
          <p:nvPr/>
        </p:nvSpPr>
        <p:spPr>
          <a:xfrm>
            <a:off x="465120" y="1160640"/>
            <a:ext cx="262260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Т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т  ла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tati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р, пожертвовани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Скругленный прямоугольник 7"/>
          <p:cNvSpPr/>
          <p:nvPr/>
        </p:nvSpPr>
        <p:spPr>
          <a:xfrm>
            <a:off x="5946840" y="1163520"/>
            <a:ext cx="2736720" cy="647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СС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СИ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т  ла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iditu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мощь, поддерж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Стрелка вверх 8"/>
          <p:cNvSpPr/>
          <p:nvPr/>
        </p:nvSpPr>
        <p:spPr>
          <a:xfrm rot="19369800">
            <a:off x="2908080" y="1969560"/>
            <a:ext cx="358560" cy="459000"/>
          </a:xfrm>
          <a:prstGeom prst="upArrow">
            <a:avLst>
              <a:gd name="adj1" fmla="val 50000"/>
              <a:gd name="adj2" fmla="val 50055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кругленный прямоугольник 9"/>
          <p:cNvSpPr/>
          <p:nvPr/>
        </p:nvSpPr>
        <p:spPr>
          <a:xfrm>
            <a:off x="2859120" y="2527200"/>
            <a:ext cx="3354480" cy="1513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, предоставляемые одним бюджетом бюджетной системы Российской Федерации другому бюджету бюджетной системы Российской Федерации ( статься 6 Бюджетного кодекса Российской Федерации)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трелка вверх 10"/>
          <p:cNvSpPr/>
          <p:nvPr/>
        </p:nvSpPr>
        <p:spPr>
          <a:xfrm rot="13623600">
            <a:off x="3067560" y="4100760"/>
            <a:ext cx="360360" cy="45720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Стрелка вверх 11"/>
          <p:cNvSpPr/>
          <p:nvPr/>
        </p:nvSpPr>
        <p:spPr>
          <a:xfrm rot="2470200">
            <a:off x="5664240" y="1971720"/>
            <a:ext cx="360360" cy="45720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Стрелка вверх 12"/>
          <p:cNvSpPr/>
          <p:nvPr/>
        </p:nvSpPr>
        <p:spPr>
          <a:xfrm rot="7954200">
            <a:off x="5647320" y="4123440"/>
            <a:ext cx="360360" cy="457200"/>
          </a:xfrm>
          <a:prstGeom prst="upArrow">
            <a:avLst>
              <a:gd name="adj1" fmla="val 50000"/>
              <a:gd name="adj2" fmla="val 50003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Скругленный прямоугольник 13"/>
          <p:cNvSpPr/>
          <p:nvPr/>
        </p:nvSpPr>
        <p:spPr>
          <a:xfrm>
            <a:off x="376200" y="4437000"/>
            <a:ext cx="2583000" cy="67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от  лат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venire-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ходить на помощь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Скругленный прямоугольник 14"/>
          <p:cNvSpPr/>
          <p:nvPr/>
        </p:nvSpPr>
        <p:spPr>
          <a:xfrm>
            <a:off x="6116760" y="4468680"/>
            <a:ext cx="2692440" cy="673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ые межбюджетные трансфер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6"/>
          <p:cNvSpPr/>
          <p:nvPr/>
        </p:nvSpPr>
        <p:spPr>
          <a:xfrm>
            <a:off x="179280" y="1052640"/>
            <a:ext cx="8613720" cy="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Основные этапы бюджетного процесса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nstantia"/>
              </a:rPr>
              <a:t>Составление и рассмотрение проекта бюджета, утверждение бюджета – сложный и многоуровневый процесс. Составление, рассмотрение и утверждение бюджета происходит ежегодно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Составление проекта бюджета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Непосредственное составление проекта районного бюджета осуществляет финансовое управление администрации Краснотуранского района на основании Положения о порядке и сроках разработки решения Краснотуранского района о бюджете  на очередной финансовый год и плановый период, утвержденного постановлением Администрации Краснотуранского района от 01.11.2016г. № 543-п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Рассмотрение проекта бюджета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Проект районного бюджета рассматривается и одобряется Комиссией по вопросам  социально-экономического развития Краснотуранского района и по бюджетным проектировкам на очередной финансовый год и плановый период для внесения его Главой Краснотуранского района в районный Совет депутатов не позднее 15 ноября текущего финансового год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о проекту районного бюджета проводятся публичные слушания. Краснотуранский районный Совет рассматривает проект районного бюджета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Constantia"/>
              </a:rPr>
              <a:t>Утверждение бюджета: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Районный бюджет утверждается Краснотуранским районным Советом депутатов в форме решения районного Совета депутатов на очередной сессии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99000"/>
            <a:ext cx="8229600" cy="808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196640"/>
            <a:ext cx="822960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 о районном  бюджете на 2017 год и плановый период 2018-2019 годов» подготовлено  в соответствии  с вступившими  в силу изменениями  в Бюджетный кодекс Российской Федерации от 03.02.2014 года, принципами, сформулированными  в Бюджетном послании Президента Российской Федерации о бюджетной политике в 2017-2019 годах; основными направлениями  бюджетной  и налоговой политики Краснотуранского района  на  2017 год и плановый период 2018-2019 годов, основными параметрами прогноза социально-экономического развития Краснотуранского района на 2017 год и плановый период 2018-2019 годов, а также федеральным и краевым  бюджетным и  налоговым  законодательство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 сформирован на основе утвержденных Администрацией Краснотуранского района 10 муниципальных программ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1T04:02:38Z</dcterms:created>
  <dc:creator>Konsultant</dc:creator>
  <dc:description/>
  <dc:language>en-US</dc:language>
  <cp:lastModifiedBy>User</cp:lastModifiedBy>
  <cp:lastPrinted>2017-03-27T06:40:26Z</cp:lastPrinted>
  <dcterms:modified xsi:type="dcterms:W3CDTF">2017-03-27T07:59:29Z</dcterms:modified>
  <cp:revision>107</cp:revision>
  <dc:subject/>
  <dc:title>Бюджет для граждан Краснотуранского района на 2014 год и плановый период 2015-2016 годов</dc:title>
</cp:coreProperties>
</file>