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558972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3254040" y="506160"/>
            <a:ext cx="3365640" cy="25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558972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EB78-2FBD-4B80-9CF7-E5FF63B377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D349-E1C1-4455-BDA2-6862E93B88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0462-C5D6-43A8-91EF-F3982DCC63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342D-95FD-4479-A82B-C6477ED0EB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5BC7-BE0A-45D2-ACE9-AA9B550284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1378-E8A3-4C4B-873A-259301E1A5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DA92-1DE4-445B-A27D-DFA07AC377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70320" cy="25275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9AB-2CD9-429B-AFAD-2DA62091EB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FD1-2B79-49E4-A56B-8A4DF0B462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1316160" y="3200400"/>
            <a:ext cx="72374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витие бюджета Красноярского края характеризуется постоянным ростом объема доходов и расходов бюдже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Размер дефицита не превышает 15% объемов доходов  края без учета финансовой помощи  из федерального бюджета (ст. 92 Бюджетного кодекса РФ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 2003 г. дефицит бюджета Красноярского края сложился в сумме -3 480,4 млрд.рублей. (10,7% от доходов без финансовой помощ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2b2b81"/>
              </a:buClr>
              <a:buFont typeface="PragmaticaCT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окрытие дефицита бюджета 2003 г. осуществляется за счет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банковских кредитов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выпуска облигаций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Monotype Sorts"/>
                <a:ea typeface="Monotype Sorts"/>
              </a:rPr>
              <a:t>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продажи государственного 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     </a:t>
            </a:r>
            <a:r>
              <a:rPr b="0" lang="ru-RU" sz="800" spc="-1" strike="noStrike">
                <a:solidFill>
                  <a:srgbClr val="2b2b81"/>
                </a:solidFill>
                <a:latin typeface="PragmaticaCTT"/>
              </a:rPr>
              <a:t>муниципального имущест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1BC-6BA4-4510-8A3F-6B4211D9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D6D-D041-4F16-A834-F691B7A0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0E0-A425-4AE6-9680-14A100F1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3B0-6973-4C2E-A41A-27AC03B6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5C3-332F-4D45-88A2-4A4F94FA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837-BE9F-4F05-BFB1-E923472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CAB5-E91A-4188-94BF-617C483A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792-3759-4037-87BB-63E7F93A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FC7E-23F0-49DE-A140-564174E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E0F-25BA-4DC1-891A-1A831E6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6A8A-D0A8-453B-850B-BD983AE0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123-211F-4167-8BFC-D8FB4378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2FDB-A286-4B2E-A42F-96388AF8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A99-9CB0-4F47-8E8A-354CCB3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163E-BA76-4E20-903B-3C0BF45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C80-09B6-4E11-9B76-56BACDA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98FE-D7EF-4564-9F22-1BD2AE82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A3D6-EB61-4C92-BBFB-BE56771D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63F1-20A6-4444-BFE0-7D7C7ED4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1DF4-BCEC-4E9D-9B9B-64207A4A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6B1-28D1-4D7D-A4BC-D22FF2F0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DEB5-3CD0-4DCF-8C0B-F97F3ACE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F44C-F6FA-4A51-B020-A38C85F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79B0-F5D0-404F-88A2-1117B3D1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F438-6BE0-44C4-A6B0-FA6E6A58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BDDF-9024-4F90-96ED-BE4641A3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53B0-830D-468E-8C8A-FC2E3D4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E589-AB0A-4F60-87B4-3EBB964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9ABC-55AE-4C93-9B44-C8525CF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B816-42D3-4B68-9FF6-96F480A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F084-59A3-4407-A541-C01CFF30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D06-FA36-4E79-9A62-CF64F2A4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CBA3-27A3-4821-B054-074C42F1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D532-CF2B-4A70-AC3F-51D8C5B6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AF62-1EB9-4B8A-9C0D-3C369CBD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E29A-9931-4485-9771-0F8457E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B6A6-67DD-408A-9E67-2DDE10EE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564C-ACA5-4E6F-B92B-4304583F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50920" y="277560"/>
            <a:ext cx="864216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FCEC-839A-4070-94B1-8398A764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11ABD-D444-467C-A6BE-057EE46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3D52-FB1A-4A95-8AFD-9789EFA9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E328-B450-434E-91A9-9C4C0B2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690-6D9F-4880-9A7A-B500580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70EA-269A-43B7-938D-EE57E42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0672-A1F9-4E59-983D-F12344F1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17304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0" y="116064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25092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17304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94800" y="3756960"/>
            <a:ext cx="27824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7A45-CE87-4594-BCA1-28B534E7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75696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0E8-648A-4CD0-B233-1B573EE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160640"/>
            <a:ext cx="421704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756960"/>
            <a:ext cx="8642160" cy="23706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1C8-1B9D-4D1A-87B9-C0179E2A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0825-D202-4284-BC1C-8ABBD96299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799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8a6e"/>
            </a:gs>
            <a:gs pos="100000">
              <a:srgbClr val="4856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0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7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F3D7-179F-48A1-AB2E-4147DA79EC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6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799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45DB-5A80-45D9-A0FA-2EECE00868D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8a6e"/>
            </a:gs>
            <a:gs pos="100000">
              <a:srgbClr val="4856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0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7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FA30-21D9-4209-AAE0-6896E4703D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джет для граждан Краснотуранского района на 2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 год и плановый период 2015-2016 годов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8" name="Picture 11" descr="F:\Бюджет для граждан 2014 год\krasturan.gif"/>
          <p:cNvPicPr/>
          <p:nvPr/>
        </p:nvPicPr>
        <p:blipFill>
          <a:blip r:embed="rId1"/>
          <a:stretch/>
        </p:blipFill>
        <p:spPr>
          <a:xfrm>
            <a:off x="2714760" y="1643040"/>
            <a:ext cx="3571920" cy="43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3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Arial"/>
              </a:rPr>
              <a:t>Единые нормативы отчислений в местные бюджеты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468360" y="1341360"/>
          <a:ext cx="8364600" cy="5143680"/>
        </p:xfrm>
        <a:graphic>
          <a:graphicData uri="http://schemas.openxmlformats.org/drawingml/2006/table">
            <a:tbl>
              <a:tblPr/>
              <a:tblGrid>
                <a:gridCol w="4260960"/>
                <a:gridCol w="1114200"/>
                <a:gridCol w="828720"/>
                <a:gridCol w="184320"/>
                <a:gridCol w="685800"/>
                <a:gridCol w="245880"/>
                <a:gridCol w="1044720"/>
              </a:tblGrid>
              <a:tr h="452520"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07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960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216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7852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21880">
                <a:tc gridSpan="2">
                  <a:txBody>
                    <a:bodyPr lIns="91080" rIns="9108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080" marR="91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Line 73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395280" y="0"/>
            <a:ext cx="8209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Формирование доходов и расходов поселений на 20</a:t>
            </a: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ffffcc"/>
                </a:solidFill>
                <a:latin typeface="Arial"/>
              </a:rPr>
              <a:t>4 год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7380360" y="1125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лн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4" name="Object 22"/>
          <p:cNvGraphicFramePr/>
          <p:nvPr/>
        </p:nvGraphicFramePr>
        <p:xfrm>
          <a:off x="-2700360" y="-603360"/>
          <a:ext cx="13716000" cy="819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360" y="-603360"/>
                    <a:ext cx="13716000" cy="819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Rectangle 23"/>
          <p:cNvSpPr/>
          <p:nvPr/>
        </p:nvSpPr>
        <p:spPr>
          <a:xfrm>
            <a:off x="5724360" y="5950080"/>
            <a:ext cx="21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бюдже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4"/>
          <p:cNvSpPr/>
          <p:nvPr/>
        </p:nvSpPr>
        <p:spPr>
          <a:xfrm>
            <a:off x="4500720" y="3716280"/>
            <a:ext cx="1779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2771640" y="2276640"/>
            <a:ext cx="215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тации из район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нансовой поддерж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ел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6"/>
          <p:cNvSpPr/>
          <p:nvPr/>
        </p:nvSpPr>
        <p:spPr>
          <a:xfrm>
            <a:off x="711360" y="5734080"/>
            <a:ext cx="1692000" cy="609480"/>
          </a:xfrm>
          <a:prstGeom prst="borderCallout1">
            <a:avLst>
              <a:gd name="adj1" fmla="val 18750"/>
              <a:gd name="adj2" fmla="val -8333"/>
              <a:gd name="adj3" fmla="val -42967"/>
              <a:gd name="adj4" fmla="val 1938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венция по передаваемым полномочия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92"/>
          <p:cNvSpPr/>
          <p:nvPr/>
        </p:nvSpPr>
        <p:spPr>
          <a:xfrm>
            <a:off x="4572000" y="5516640"/>
            <a:ext cx="1368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99"/>
          <p:cNvSpPr/>
          <p:nvPr/>
        </p:nvSpPr>
        <p:spPr>
          <a:xfrm flipV="1">
            <a:off x="2268360" y="5589360"/>
            <a:ext cx="1798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   подготовлена    на  основании    Решения Краснотуранского районного Совета депутатов  «О районном бюджете  на 2014 год и плановый период 2015-2016 годов». В информации просто и доступно рассказывается о районном бюджете: его основных характеристиках,   статьях  расходов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ы подготовлены Финансовым управлением Администрации Краснотуранского 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нципы формирования расходов  бюджета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на 20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4 год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Индексация прочих расходов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Снижение расходов на закупку товаров, работ и услуг для муниципальных нужд       на 5 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работников бюджетной сферы с 1 октября 2014 года на 5%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Увеличение фонда оплаты труда выборных должностных лиц и муниципальных служащих на 5,0% с 1 октября 2014 год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Индексация расходов на коммунальные услуги на 10,5%  (при этом указанные расходы должны быть скорректированы  на ожидаемую экономию бюджетных средств от внедрения энергосберегающих технологий на 3%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7f6ff"/>
                </a:solidFill>
                <a:latin typeface="Arial"/>
              </a:rPr>
              <a:t>Обеспечение увеличения фонда оплаты труда в соответствии с указом Президента РФ на 10% с 1 января 2014 года за счет перераспределения расходов  внутри отрасли педагогическим работникам учреждений дополнительного образования детей и работникам учреждений культур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306360" y="11635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новные параметры районного бюджета МО «Краснотуранский  район» на 2014 год и плановый период 2015-2016 гг.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02"/>
          <p:cNvGrpSpPr/>
          <p:nvPr/>
        </p:nvGrpSpPr>
        <p:grpSpPr>
          <a:xfrm>
            <a:off x="324000" y="1052640"/>
            <a:ext cx="2288160" cy="243720"/>
            <a:chOff x="324000" y="1052640"/>
            <a:chExt cx="2288160" cy="243720"/>
          </a:xfrm>
        </p:grpSpPr>
        <p:pic>
          <p:nvPicPr>
            <p:cNvPr id="499" name="Picture 41" descr=""/>
            <p:cNvPicPr/>
            <p:nvPr/>
          </p:nvPicPr>
          <p:blipFill>
            <a:blip r:embed="rId1"/>
            <a:stretch/>
          </p:blipFill>
          <p:spPr>
            <a:xfrm>
              <a:off x="324000" y="110016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Rectangle 42"/>
            <p:cNvSpPr/>
            <p:nvPr/>
          </p:nvSpPr>
          <p:spPr>
            <a:xfrm>
              <a:off x="324000" y="110016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43"/>
            <p:cNvSpPr/>
            <p:nvPr/>
          </p:nvSpPr>
          <p:spPr>
            <a:xfrm>
              <a:off x="546120" y="105264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2" name="Picture 44" descr=""/>
            <p:cNvPicPr/>
            <p:nvPr/>
          </p:nvPicPr>
          <p:blipFill>
            <a:blip r:embed="rId2"/>
            <a:stretch/>
          </p:blipFill>
          <p:spPr>
            <a:xfrm>
              <a:off x="1492200" y="109044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Rectangle 45"/>
            <p:cNvSpPr/>
            <p:nvPr/>
          </p:nvSpPr>
          <p:spPr>
            <a:xfrm>
              <a:off x="1492200" y="109044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46"/>
            <p:cNvSpPr/>
            <p:nvPr/>
          </p:nvSpPr>
          <p:spPr>
            <a:xfrm>
              <a:off x="1712160" y="105264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Line 27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123" descr=""/>
          <p:cNvPicPr/>
          <p:nvPr/>
        </p:nvPicPr>
        <p:blipFill>
          <a:blip r:embed="rId3"/>
          <a:stretch/>
        </p:blipFill>
        <p:spPr>
          <a:xfrm>
            <a:off x="1187280" y="3718080"/>
            <a:ext cx="947880" cy="194292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25"/>
          <p:cNvSpPr/>
          <p:nvPr/>
        </p:nvSpPr>
        <p:spPr>
          <a:xfrm flipV="1" rot="10678800">
            <a:off x="1157040" y="335340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8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26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127" descr=""/>
          <p:cNvPicPr/>
          <p:nvPr/>
        </p:nvPicPr>
        <p:blipFill>
          <a:blip r:embed="rId4"/>
          <a:stretch/>
        </p:blipFill>
        <p:spPr>
          <a:xfrm>
            <a:off x="2119320" y="3716280"/>
            <a:ext cx="934920" cy="19544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28"/>
          <p:cNvSpPr/>
          <p:nvPr/>
        </p:nvSpPr>
        <p:spPr>
          <a:xfrm>
            <a:off x="2119320" y="3716280"/>
            <a:ext cx="93492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29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80,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30"/>
          <p:cNvSpPr/>
          <p:nvPr/>
        </p:nvSpPr>
        <p:spPr>
          <a:xfrm>
            <a:off x="173700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138" descr=""/>
          <p:cNvPicPr/>
          <p:nvPr/>
        </p:nvPicPr>
        <p:blipFill>
          <a:blip r:embed="rId5"/>
          <a:stretch/>
        </p:blipFill>
        <p:spPr>
          <a:xfrm>
            <a:off x="3621240" y="2925720"/>
            <a:ext cx="936360" cy="27367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39"/>
          <p:cNvSpPr/>
          <p:nvPr/>
        </p:nvSpPr>
        <p:spPr>
          <a:xfrm>
            <a:off x="3621240" y="2925720"/>
            <a:ext cx="936360" cy="27367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40"/>
          <p:cNvSpPr/>
          <p:nvPr/>
        </p:nvSpPr>
        <p:spPr>
          <a:xfrm flipV="1" rot="10678800">
            <a:off x="3620880" y="270396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10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41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142" descr=""/>
          <p:cNvPicPr/>
          <p:nvPr/>
        </p:nvPicPr>
        <p:blipFill>
          <a:blip r:embed="rId6"/>
          <a:stretch/>
        </p:blipFill>
        <p:spPr>
          <a:xfrm>
            <a:off x="4548240" y="2924280"/>
            <a:ext cx="888840" cy="274464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143"/>
          <p:cNvSpPr/>
          <p:nvPr/>
        </p:nvSpPr>
        <p:spPr>
          <a:xfrm>
            <a:off x="4500720" y="2924280"/>
            <a:ext cx="93636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144"/>
          <p:cNvSpPr/>
          <p:nvPr/>
        </p:nvSpPr>
        <p:spPr>
          <a:xfrm>
            <a:off x="4548240" y="2708280"/>
            <a:ext cx="100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10,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45"/>
          <p:cNvSpPr/>
          <p:nvPr/>
        </p:nvSpPr>
        <p:spPr>
          <a:xfrm>
            <a:off x="413568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5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48" descr=""/>
          <p:cNvPicPr/>
          <p:nvPr/>
        </p:nvPicPr>
        <p:blipFill>
          <a:blip r:embed="rId7"/>
          <a:stretch/>
        </p:blipFill>
        <p:spPr>
          <a:xfrm>
            <a:off x="6084720" y="2421000"/>
            <a:ext cx="901800" cy="331308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150"/>
          <p:cNvSpPr/>
          <p:nvPr/>
        </p:nvSpPr>
        <p:spPr>
          <a:xfrm>
            <a:off x="6161040" y="2070000"/>
            <a:ext cx="100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22,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51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152" descr=""/>
          <p:cNvPicPr/>
          <p:nvPr/>
        </p:nvPicPr>
        <p:blipFill>
          <a:blip r:embed="rId8"/>
          <a:stretch/>
        </p:blipFill>
        <p:spPr>
          <a:xfrm>
            <a:off x="7020000" y="2421000"/>
            <a:ext cx="936720" cy="32479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53"/>
          <p:cNvSpPr/>
          <p:nvPr/>
        </p:nvSpPr>
        <p:spPr>
          <a:xfrm>
            <a:off x="7054920" y="2421000"/>
            <a:ext cx="90180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154"/>
          <p:cNvSpPr/>
          <p:nvPr/>
        </p:nvSpPr>
        <p:spPr>
          <a:xfrm flipV="1" rot="10858200">
            <a:off x="6587640" y="2059920"/>
            <a:ext cx="201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22,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55"/>
          <p:cNvSpPr/>
          <p:nvPr/>
        </p:nvSpPr>
        <p:spPr>
          <a:xfrm>
            <a:off x="6636240" y="584532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157"/>
          <p:cNvSpPr/>
          <p:nvPr/>
        </p:nvSpPr>
        <p:spPr>
          <a:xfrm>
            <a:off x="6064200" y="2421000"/>
            <a:ext cx="955800" cy="324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58"/>
          <p:cNvSpPr/>
          <p:nvPr/>
        </p:nvSpPr>
        <p:spPr>
          <a:xfrm>
            <a:off x="3635280" y="2924280"/>
            <a:ext cx="865440" cy="274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160"/>
          <p:cNvSpPr/>
          <p:nvPr/>
        </p:nvSpPr>
        <p:spPr>
          <a:xfrm>
            <a:off x="1187280" y="3716280"/>
            <a:ext cx="935280" cy="195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5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Arial"/>
              </a:rPr>
              <a:t>Доходы районного бюджета МО «Краснотуранский район»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11280" y="1413000"/>
          <a:ext cx="7993080" cy="4248000"/>
        </p:xfrm>
        <a:graphic>
          <a:graphicData uri="http://schemas.openxmlformats.org/drawingml/2006/table">
            <a:tbl>
              <a:tblPr/>
              <a:tblGrid>
                <a:gridCol w="4052880"/>
                <a:gridCol w="1311120"/>
                <a:gridCol w="1316160"/>
                <a:gridCol w="1312920"/>
              </a:tblGrid>
              <a:tr h="31104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7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607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1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88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6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1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7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5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4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817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596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557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016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011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257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105"/>
          <p:cNvSpPr/>
          <p:nvPr/>
        </p:nvSpPr>
        <p:spPr>
          <a:xfrm>
            <a:off x="7380360" y="90792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7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08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19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8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217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8270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215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8411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13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ультура Краснотуранского 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62"/>
          <p:cNvSpPr/>
          <p:nvPr/>
        </p:nvSpPr>
        <p:spPr>
          <a:xfrm>
            <a:off x="7631280" y="486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60"/>
          <p:cNvSpPr/>
          <p:nvPr/>
        </p:nvSpPr>
        <p:spPr>
          <a:xfrm>
            <a:off x="6156360" y="486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58"/>
          <p:cNvSpPr/>
          <p:nvPr/>
        </p:nvSpPr>
        <p:spPr>
          <a:xfrm>
            <a:off x="4859280" y="4797360"/>
            <a:ext cx="1368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56"/>
          <p:cNvSpPr/>
          <p:nvPr/>
        </p:nvSpPr>
        <p:spPr>
          <a:xfrm>
            <a:off x="250920" y="4941720"/>
            <a:ext cx="45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в развитии  и поддержке  малого и среднего  предпринимательства на территории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69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5195,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8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305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7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66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90083,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35961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64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169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9996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Реформирование и модернизация ЖКХ и повышение энергетической эффективности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305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305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олодежь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8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9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развитию физической культуры, спорта, и туризма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86744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1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36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2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истема социальной защиты населения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23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35961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24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23943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развитию  системы образования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6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27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30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285840" y="57340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3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4"/>
          <p:cNvSpPr/>
          <p:nvPr/>
        </p:nvSpPr>
        <p:spPr>
          <a:xfrm>
            <a:off x="1476360" y="18446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5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36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37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38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40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1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2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43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44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45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48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1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52"/>
          <p:cNvSpPr/>
          <p:nvPr/>
        </p:nvSpPr>
        <p:spPr>
          <a:xfrm>
            <a:off x="285840" y="4797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53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54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12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6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4-2016 год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34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4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7631280" y="21337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027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989,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8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действие в развитии сельского хозяйства Краснотуранского 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7631280" y="4581360"/>
            <a:ext cx="1512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912229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6300720" y="4581360"/>
            <a:ext cx="144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652999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4788000" y="4581360"/>
            <a:ext cx="143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618677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50920" y="450864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7631280" y="378936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2831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6156360" y="378936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2831,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4716360" y="378936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4313,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250920" y="3716280"/>
            <a:ext cx="45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6156360" y="2637000"/>
            <a:ext cx="1511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333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937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6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33"/>
          <p:cNvSpPr/>
          <p:nvPr/>
        </p:nvSpPr>
        <p:spPr>
          <a:xfrm>
            <a:off x="7631280" y="27082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34"/>
          <p:cNvSpPr/>
          <p:nvPr/>
        </p:nvSpPr>
        <p:spPr>
          <a:xfrm>
            <a:off x="4788000" y="263700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53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35"/>
          <p:cNvSpPr/>
          <p:nvPr/>
        </p:nvSpPr>
        <p:spPr>
          <a:xfrm>
            <a:off x="250920" y="2637000"/>
            <a:ext cx="45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е условий для обеспечения доступным и комфортным  жильём граждан Краснотур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8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39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421,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40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079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41"/>
          <p:cNvSpPr/>
          <p:nvPr/>
        </p:nvSpPr>
        <p:spPr>
          <a:xfrm>
            <a:off x="250920" y="163188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оздание условий для  развития транспортной системы в Краснотуранском райо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5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7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8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9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50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51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52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53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4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55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56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57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58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59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60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64"/>
          <p:cNvSpPr/>
          <p:nvPr/>
        </p:nvSpPr>
        <p:spPr>
          <a:xfrm>
            <a:off x="285840" y="3573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65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66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68"/>
          <p:cNvSpPr/>
          <p:nvPr/>
        </p:nvSpPr>
        <p:spPr>
          <a:xfrm>
            <a:off x="285840" y="443700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69"/>
          <p:cNvSpPr/>
          <p:nvPr/>
        </p:nvSpPr>
        <p:spPr>
          <a:xfrm>
            <a:off x="285840" y="2565360"/>
            <a:ext cx="8858160" cy="0"/>
          </a:xfrm>
          <a:prstGeom prst="line">
            <a:avLst/>
          </a:prstGeom>
          <a:ln w="28440">
            <a:solidFill>
              <a:srgbClr val="85b3b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70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203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сновные параметры консолидированного бюджета МО «Краснотуранский район» на 2014 год и плановый период 2015-2016 годов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з учета внутренних оборотов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7164360" y="11970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1"/>
          <p:cNvSpPr/>
          <p:nvPr/>
        </p:nvSpPr>
        <p:spPr>
          <a:xfrm>
            <a:off x="32400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65"/>
          <p:cNvGrpSpPr/>
          <p:nvPr/>
        </p:nvGrpSpPr>
        <p:grpSpPr>
          <a:xfrm>
            <a:off x="324000" y="1197000"/>
            <a:ext cx="2250000" cy="243720"/>
            <a:chOff x="324000" y="1197000"/>
            <a:chExt cx="2250000" cy="243720"/>
          </a:xfrm>
        </p:grpSpPr>
        <p:pic>
          <p:nvPicPr>
            <p:cNvPr id="648" name="Picture 50" descr=""/>
            <p:cNvPicPr/>
            <p:nvPr/>
          </p:nvPicPr>
          <p:blipFill>
            <a:blip r:embed="rId1"/>
            <a:stretch/>
          </p:blipFill>
          <p:spPr>
            <a:xfrm>
              <a:off x="324000" y="124452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51"/>
            <p:cNvSpPr/>
            <p:nvPr/>
          </p:nvSpPr>
          <p:spPr>
            <a:xfrm>
              <a:off x="324000" y="1244520"/>
              <a:ext cx="114120" cy="1144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52"/>
            <p:cNvSpPr/>
            <p:nvPr/>
          </p:nvSpPr>
          <p:spPr>
            <a:xfrm>
              <a:off x="538200" y="1197000"/>
              <a:ext cx="80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До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1" name="Picture 53" descr=""/>
            <p:cNvPicPr/>
            <p:nvPr/>
          </p:nvPicPr>
          <p:blipFill>
            <a:blip r:embed="rId2"/>
            <a:stretch/>
          </p:blipFill>
          <p:spPr>
            <a:xfrm>
              <a:off x="1463760" y="125424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4"/>
            <p:cNvSpPr/>
            <p:nvPr/>
          </p:nvSpPr>
          <p:spPr>
            <a:xfrm>
              <a:off x="1463760" y="1254240"/>
              <a:ext cx="114480" cy="11412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5"/>
            <p:cNvSpPr/>
            <p:nvPr/>
          </p:nvSpPr>
          <p:spPr>
            <a:xfrm>
              <a:off x="1674000" y="1197000"/>
              <a:ext cx="90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Расход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Rectangle 25"/>
          <p:cNvSpPr/>
          <p:nvPr/>
        </p:nvSpPr>
        <p:spPr>
          <a:xfrm>
            <a:off x="6534000" y="2276640"/>
            <a:ext cx="709920" cy="3744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7248600" y="2276640"/>
            <a:ext cx="696960" cy="376524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71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72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73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0"/>
          <p:cNvSpPr/>
          <p:nvPr/>
        </p:nvSpPr>
        <p:spPr>
          <a:xfrm>
            <a:off x="1195560" y="3357720"/>
            <a:ext cx="698400" cy="266364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92"/>
          <p:cNvSpPr/>
          <p:nvPr/>
        </p:nvSpPr>
        <p:spPr>
          <a:xfrm>
            <a:off x="1908000" y="3357720"/>
            <a:ext cx="700200" cy="269856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84"/>
          <p:cNvSpPr/>
          <p:nvPr/>
        </p:nvSpPr>
        <p:spPr>
          <a:xfrm>
            <a:off x="3803760" y="2781360"/>
            <a:ext cx="752400" cy="3240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96"/>
          <p:cNvSpPr/>
          <p:nvPr/>
        </p:nvSpPr>
        <p:spPr>
          <a:xfrm>
            <a:off x="4572000" y="2781360"/>
            <a:ext cx="754200" cy="323352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98"/>
          <p:cNvSpPr/>
          <p:nvPr/>
        </p:nvSpPr>
        <p:spPr>
          <a:xfrm>
            <a:off x="152928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99"/>
                </a:solidFill>
                <a:latin typeface="Arial"/>
              </a:rPr>
              <a:t>2014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99"/>
          <p:cNvSpPr/>
          <p:nvPr/>
        </p:nvSpPr>
        <p:spPr>
          <a:xfrm>
            <a:off x="4199400" y="621360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99"/>
                </a:solidFill>
                <a:latin typeface="Arial"/>
              </a:rPr>
              <a:t>2015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100"/>
          <p:cNvSpPr/>
          <p:nvPr/>
        </p:nvSpPr>
        <p:spPr>
          <a:xfrm>
            <a:off x="6855120" y="62164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99"/>
                </a:solidFill>
                <a:latin typeface="Arial"/>
              </a:rPr>
              <a:t>2016 год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21"/>
          <p:cNvSpPr/>
          <p:nvPr/>
        </p:nvSpPr>
        <p:spPr>
          <a:xfrm>
            <a:off x="1187280" y="292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99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22"/>
          <p:cNvSpPr/>
          <p:nvPr/>
        </p:nvSpPr>
        <p:spPr>
          <a:xfrm>
            <a:off x="1908000" y="292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99,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23"/>
          <p:cNvSpPr/>
          <p:nvPr/>
        </p:nvSpPr>
        <p:spPr>
          <a:xfrm>
            <a:off x="3780000" y="234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3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24"/>
          <p:cNvSpPr/>
          <p:nvPr/>
        </p:nvSpPr>
        <p:spPr>
          <a:xfrm>
            <a:off x="4572000" y="234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31,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25"/>
          <p:cNvSpPr/>
          <p:nvPr/>
        </p:nvSpPr>
        <p:spPr>
          <a:xfrm>
            <a:off x="6588000" y="1916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45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26"/>
          <p:cNvSpPr/>
          <p:nvPr/>
        </p:nvSpPr>
        <p:spPr>
          <a:xfrm>
            <a:off x="7308720" y="1916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45,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МО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«Краснотуранский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район» в 20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cc"/>
                </a:solidFill>
                <a:latin typeface="Arial"/>
              </a:rPr>
              <a:t>4 году</a:t>
            </a:r>
            <a:r>
              <a:rPr b="0" lang="ru-RU" sz="25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(млн. рублей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Line 7"/>
          <p:cNvSpPr/>
          <p:nvPr/>
        </p:nvSpPr>
        <p:spPr>
          <a:xfrm>
            <a:off x="25092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57"/>
          <p:cNvSpPr/>
          <p:nvPr/>
        </p:nvSpPr>
        <p:spPr>
          <a:xfrm>
            <a:off x="250920" y="6066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Arial"/>
              </a:rPr>
              <a:t>Консолидированный бюджет                     760,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60,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Group 61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676" name="Rectangle 35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ежбюджет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ансферты и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аев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cc"/>
                  </a:solidFill>
                  <a:latin typeface="Arial"/>
                </a:rPr>
                <a:t>554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36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б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йонного бюдж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cc"/>
                  </a:solidFill>
                  <a:latin typeface="Arial"/>
                </a:rPr>
                <a:t>121,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7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бственные дохо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cc"/>
                  </a:solidFill>
                  <a:latin typeface="Arial"/>
                </a:rPr>
                <a:t>19,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Районный 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cc"/>
                  </a:solidFill>
                  <a:latin typeface="Arial"/>
                </a:rPr>
                <a:t>680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убвенция 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ередачу полномоч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3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40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убвен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7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41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Дотация из райо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онда финансов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ддерж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49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AutoShape 43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AutoShape 44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46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47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48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49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Бюдж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селе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cc"/>
                  </a:solidFill>
                  <a:latin typeface="Arial"/>
                </a:rPr>
                <a:t>80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51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52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53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AutoShape 54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55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utoShape 56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ые межбюджет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cc"/>
                  </a:solidFill>
                  <a:latin typeface="Arial"/>
                </a:rPr>
                <a:t>3,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59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Line 60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2:15:02Z</dcterms:created>
  <dc:creator>30101</dc:creator>
  <dc:description/>
  <dc:language>en-US</dc:language>
  <cp:lastModifiedBy>хх</cp:lastModifiedBy>
  <dcterms:modified xsi:type="dcterms:W3CDTF">2014-05-13T00:31:05Z</dcterms:modified>
  <cp:revision>200</cp:revision>
  <dc:subject/>
  <dc:title>Параметры и принципы формирования бюджета на 2007 год  Основные направления бюджетной и налоговой политики Красноярского края на 2007 год</dc:title>
</cp:coreProperties>
</file>