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C154-187F-42E0-802B-360322520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3FEF-FEA2-4175-BB33-9A888787B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4D02-51D3-44A5-8C22-8839BE49D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7D3B-7390-43F8-9779-9AE168781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CAF75-413B-4460-AAAC-D25ABD4A5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7EC71-43DF-4D70-8D63-83CBC9596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D68C1-8183-4ED0-B021-202B26C03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C4ACC-AC7A-466C-8C6C-45C75581A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6DAA3-D860-4F3F-9DE6-2E3E419C2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6AB74-239E-41F7-9AE9-EF7B56CC0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2B63B-E691-4172-BF23-660A7E37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41DE-2481-4464-841E-9D3487D39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D59F7-F640-4E3A-8387-E4E8AC51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73459-0AF4-4A15-93EF-DC391EE4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1D367-9AD7-4AA6-85B5-F23919558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E90C8-AB28-44FA-9E48-17F67F837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121EA-6D8F-446A-923C-D1C795BF3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CBC6-BBD2-4752-842B-97C651FBE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3169-13F8-484A-AAFD-BF8FF5FCC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7401-812F-4DCD-BA9F-B6D238065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6AB0-9D59-4CF1-A737-B9DC93678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00F4-32EA-4445-9A13-5D7D92A7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55E8-437A-4737-849A-E5D3405A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63C9-478C-4D77-93DC-AE98B12D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90CED-5320-45FD-9639-0722765B162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C49EF-C8E3-459D-BB8A-0C71F59AD87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pub59407@mail.ru" TargetMode="External"/><Relationship Id="rId2" Type="http://schemas.openxmlformats.org/officeDocument/2006/relationships/hyperlink" Target="mailto:pub59407@mail.ru" TargetMode="External"/><Relationship Id="rId3" Type="http://schemas.openxmlformats.org/officeDocument/2006/relationships/hyperlink" Target="mailto:pub59407@mail.ru" TargetMode="External"/><Relationship Id="rId4" Type="http://schemas.openxmlformats.org/officeDocument/2006/relationships/hyperlink" Target="mailto:pub59407@mail.ru" TargetMode="External"/><Relationship Id="rId5" Type="http://schemas.openxmlformats.org/officeDocument/2006/relationships/hyperlink" Target="mailto:pub59407@mail.ru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1835280" y="2097000"/>
            <a:ext cx="5695920" cy="42847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4617b"/>
                </a:solidFill>
                <a:latin typeface="Calibri"/>
              </a:rPr>
              <a:t>.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Что такое «БЮДЖЕТ ДЛЯ ГРАЖДАН?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 для граждан» - это  документ , обеспечивающий предоставление  бюджета и отчета об его исполнении  в доступной и понятной форме для широкого круга заинтересованных пользователей.</a:t>
            </a:r>
            <a:br>
              <a:rPr sz="2000"/>
            </a:b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2400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1825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ИНФОРМАЦИЯ ОБ ИСПОЛНЕНИИ ОСНОВНЫХ ПАРАМЕТРОВ МЕСТНОГО БЮДЖЕТА ЗА 2022 ГОД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39640" y="1341360"/>
          <a:ext cx="8425080" cy="5388120"/>
        </p:xfrm>
        <a:graphic>
          <a:graphicData uri="http://schemas.openxmlformats.org/drawingml/2006/table">
            <a:tbl>
              <a:tblPr/>
              <a:tblGrid>
                <a:gridCol w="1693800"/>
                <a:gridCol w="1690920"/>
                <a:gridCol w="1584360"/>
                <a:gridCol w="1295280"/>
                <a:gridCol w="1008000"/>
                <a:gridCol w="1152720"/>
              </a:tblGrid>
              <a:tr h="11584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Наименование  ста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Первоначальный бюджет на 2022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Окончательный бюджет на 2022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Отчёт 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2022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%исполнения 1-го прогно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% исполнения окончательного прогно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bd0d9"/>
                    </a:solidFill>
                  </a:tcPr>
                </a:tc>
              </a:tr>
              <a:tr h="276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</a:tr>
              <a:tr h="740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Всего доходов в том числе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80289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1010656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10069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12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99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</a:tr>
              <a:tr h="914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Налоговые и неналоговые до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8004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8204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8422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105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102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Безвозмездные поступ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72285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92861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922744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12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99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</a:tr>
              <a:tr h="742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Всего расх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80289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103434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99423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12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9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</a:tr>
              <a:tr h="914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Дефицит(-), профицит(+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бюдж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-23684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1272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Структура налоговых доходов бюджета Краснотуранского района в 2022 году</a:t>
            </a:r>
            <a:br>
              <a:rPr sz="2800"/>
            </a:br>
            <a:r>
              <a:rPr b="1" lang="ru-RU" sz="1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90,3 % от собственных доходов)</a:t>
            </a:r>
            <a:endParaRPr b="0" lang="en-US" sz="1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02" name="Объект 3" descr=""/>
          <p:cNvPicPr/>
          <p:nvPr/>
        </p:nvPicPr>
        <p:blipFill>
          <a:blip r:embed="rId1"/>
          <a:stretch/>
        </p:blipFill>
        <p:spPr>
          <a:xfrm>
            <a:off x="417600" y="2009880"/>
            <a:ext cx="833112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Структура неналоговых доходов бюджета Краснотуранского района в 2022 году</a:t>
            </a:r>
            <a:br>
              <a:rPr sz="2800"/>
            </a:br>
            <a:r>
              <a:rPr b="1" lang="ru-RU" sz="1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неналоговые доходы  занимают 9,7% в структуре собственных доходов)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04" name="Объект 3" descr=""/>
          <p:cNvPicPr/>
          <p:nvPr/>
        </p:nvPicPr>
        <p:blipFill>
          <a:blip r:embed="rId1"/>
          <a:stretch/>
        </p:blipFill>
        <p:spPr>
          <a:xfrm>
            <a:off x="488880" y="1577880"/>
            <a:ext cx="83311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Структура расходов районного бюджета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06" name="Объект 3" descr=""/>
          <p:cNvPicPr/>
          <p:nvPr/>
        </p:nvPicPr>
        <p:blipFill>
          <a:blip r:embed="rId1"/>
          <a:stretch/>
        </p:blipFill>
        <p:spPr>
          <a:xfrm>
            <a:off x="200160" y="1362240"/>
            <a:ext cx="8691480" cy="53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Анализ исполнения расходов </a:t>
            </a:r>
            <a:br>
              <a:rPr sz="2800"/>
            </a:br>
            <a:r>
              <a:rPr b="1" lang="ru-RU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районного бюджета за 2022 год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08" name="Объект 3" descr=""/>
          <p:cNvPicPr/>
          <p:nvPr/>
        </p:nvPicPr>
        <p:blipFill>
          <a:blip r:embed="rId1"/>
          <a:stretch/>
        </p:blipFill>
        <p:spPr>
          <a:xfrm>
            <a:off x="-50760" y="1268280"/>
            <a:ext cx="8921880" cy="564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1"/>
          <p:cNvSpPr/>
          <p:nvPr/>
        </p:nvSpPr>
        <p:spPr>
          <a:xfrm>
            <a:off x="1608120" y="11592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Телефоны Финансового управления администрации Краснотуранского райо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4"/>
          <p:cNvSpPr/>
          <p:nvPr/>
        </p:nvSpPr>
        <p:spPr>
          <a:xfrm>
            <a:off x="1079640" y="213372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График приема граждан руководителем Финансового управления администрации Краснотуран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5"/>
          <p:cNvSpPr/>
          <p:nvPr/>
        </p:nvSpPr>
        <p:spPr>
          <a:xfrm>
            <a:off x="1685880" y="1052640"/>
            <a:ext cx="590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уководитель - 8(39134)21-2-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юджетный отдел – 8(39134)21-2-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тдел учета и отчетности – 8(39134)22-3-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504800" y="2852640"/>
          <a:ext cx="6061320" cy="789120"/>
        </p:xfrm>
        <a:graphic>
          <a:graphicData uri="http://schemas.openxmlformats.org/drawingml/2006/table">
            <a:tbl>
              <a:tblPr/>
              <a:tblGrid>
                <a:gridCol w="2551320"/>
                <a:gridCol w="1800000"/>
                <a:gridCol w="1710000"/>
              </a:tblGrid>
              <a:tr h="270000">
                <a:tc>
                  <a:txBody>
                    <a:bodyPr lIns="0" rIns="0" tIns="0" bIns="0" anchor="t">
                      <a:noAutofit/>
                    </a:bodyPr>
                    <a:p>
                      <a:pPr marL="57240" algn="ctr">
                        <a:lnSpc>
                          <a:spcPts val="20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7365d"/>
                          </a:solidFill>
                          <a:latin typeface="Times New Roman"/>
                          <a:ea typeface="Times New Roman"/>
                        </a:rPr>
                        <a:t>Дни прие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46160">
                        <a:lnSpc>
                          <a:spcPts val="20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7365d"/>
                          </a:solidFill>
                          <a:latin typeface="Times New Roman"/>
                          <a:ea typeface="Times New Roman"/>
                        </a:rPr>
                        <a:t>Часы прие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19240" algn="ctr">
                        <a:lnSpc>
                          <a:spcPts val="20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7365d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1800" spc="-1" strike="noStrike">
                          <a:solidFill>
                            <a:srgbClr val="17365d"/>
                          </a:solidFill>
                          <a:latin typeface="Times New Roman"/>
                          <a:ea typeface="Times New Roman"/>
                        </a:rPr>
                        <a:t>телеф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0" rIns="0" tIns="0" bIns="0" anchor="t">
                      <a:noAutofit/>
                    </a:bodyPr>
                    <a:p>
                      <a:pPr marL="57240">
                        <a:lnSpc>
                          <a:spcPts val="1573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365d"/>
                          </a:solidFill>
                          <a:latin typeface="Times New Roman"/>
                          <a:ea typeface="Times New Roman"/>
                        </a:rPr>
                        <a:t>Ежедневно ( понедельник – пятниц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30040">
                        <a:lnSpc>
                          <a:spcPts val="20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7365d"/>
                          </a:solidFill>
                          <a:latin typeface="Times New Roman"/>
                          <a:ea typeface="Times New Roman"/>
                        </a:rPr>
                        <a:t>08.00-12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0040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7365d"/>
                          </a:solidFill>
                          <a:latin typeface="Times New Roman"/>
                          <a:ea typeface="Times New Roman"/>
                        </a:rPr>
                        <a:t>13.00-16.</a:t>
                      </a:r>
                      <a:r>
                        <a:rPr b="0" lang="ru-RU" sz="1200" spc="-1" strike="noStrike">
                          <a:solidFill>
                            <a:srgbClr val="17365d"/>
                          </a:solidFill>
                          <a:latin typeface="Times New Roman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17440" algn="ctr">
                        <a:lnSpc>
                          <a:spcPts val="1573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365d"/>
                          </a:solidFill>
                          <a:latin typeface="Times New Roman"/>
                          <a:ea typeface="Times New Roman"/>
                        </a:rPr>
                        <a:t>8(39134)21-2-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Прямоугольник 7"/>
          <p:cNvSpPr/>
          <p:nvPr/>
        </p:nvSpPr>
        <p:spPr>
          <a:xfrm>
            <a:off x="1079640" y="389736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одготовлено Финансовым управлением администрации Краснотуран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8"/>
          <p:cNvSpPr/>
          <p:nvPr/>
        </p:nvSpPr>
        <p:spPr>
          <a:xfrm>
            <a:off x="2340000" y="4816440"/>
            <a:ext cx="4221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600" spc="-1" strike="noStrike" u="sng">
                <a:solidFill>
                  <a:srgbClr val="f49100"/>
                </a:solidFill>
                <a:uFillTx/>
                <a:latin typeface="Arial"/>
                <a:hlinkClick r:id="rId1"/>
              </a:rPr>
              <a:t>pub</a:t>
            </a:r>
            <a:r>
              <a:rPr b="0" lang="ru-RU" sz="1600" spc="-1" strike="noStrike" u="sng">
                <a:solidFill>
                  <a:srgbClr val="f49100"/>
                </a:solidFill>
                <a:uFillTx/>
                <a:latin typeface="Arial"/>
                <a:hlinkClick r:id="rId2"/>
              </a:rPr>
              <a:t>03407@</a:t>
            </a:r>
            <a:r>
              <a:rPr b="0" lang="en-US" sz="1600" spc="-1" strike="noStrike" u="sng">
                <a:solidFill>
                  <a:srgbClr val="f49100"/>
                </a:solidFill>
                <a:uFillTx/>
                <a:latin typeface="Arial"/>
                <a:hlinkClick r:id="rId3"/>
              </a:rPr>
              <a:t>krasmail</a:t>
            </a:r>
            <a:r>
              <a:rPr b="0" lang="ru-RU" sz="1600" spc="-1" strike="noStrike" u="sng">
                <a:solidFill>
                  <a:srgbClr val="f49100"/>
                </a:solidFill>
                <a:uFillTx/>
                <a:latin typeface="Arial"/>
                <a:hlinkClick r:id="rId4"/>
              </a:rPr>
              <a:t>.</a:t>
            </a:r>
            <a:r>
              <a:rPr b="0" lang="en-US" sz="1600" spc="-1" strike="noStrike" u="sng">
                <a:solidFill>
                  <a:srgbClr val="f49100"/>
                </a:solidFill>
                <a:uFillTx/>
                <a:latin typeface="Arial"/>
                <a:hlinkClick r:id="rId5"/>
              </a:rPr>
              <a:t>r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тактная информац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. Краснотуранск, ул. Карла Маркса, 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л.: (39134) 21-2-32, 21-2-35, 22-3-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31T04:02:38Z</dcterms:created>
  <dc:creator>Konsultant</dc:creator>
  <dc:description/>
  <dc:language>en-US</dc:language>
  <cp:lastModifiedBy>User</cp:lastModifiedBy>
  <cp:lastPrinted>2023-05-24T08:15:23Z</cp:lastPrinted>
  <dcterms:modified xsi:type="dcterms:W3CDTF">2023-06-02T03:20:35Z</dcterms:modified>
  <cp:revision>498</cp:revision>
  <dc:subject/>
  <dc:title>Бюджет для граждан Краснотуранского района на 2014 год и плановый период 2015-2016 годов</dc:title>
</cp:coreProperties>
</file>