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3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11C-25C7-47BF-8B2D-324D442D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A7F-88CD-4F98-8DF8-77D1E94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FF4-B84A-4A88-A020-C8C9DD5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579-18D1-4CE1-9CB9-4B88F7F2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C7AE-A26B-4DFA-8408-F3A65746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3659-AC7B-4AB6-BA33-F4BD55C4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6B1F-707D-4E33-95EA-579C2B0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AF2C-B12E-454B-882A-62558835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33A-4320-4492-B94C-EDBACF20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632E-DC95-4634-8ABC-970F2DF3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71FA-3216-4866-9B11-1698035E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D70-FC65-49DF-9D45-B47BB2A8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CDED-262F-46EF-BB0C-A7B7DCB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895B-FA09-41A7-A360-DBDB469F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C98D-EC9C-4EDB-9081-304C7D6D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D267-6347-44D0-91F1-DFAF74F9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9DEE-A680-4981-ABC6-66CABF1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A4DB-0CB9-4CC4-9C54-42E7A656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328F-CFC7-4721-8678-EA8C8AD8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9FF0-59F8-4F26-A9BB-BE5DFB8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8D9A-E654-4160-9E84-15C0141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47FB5-50FD-4F4A-8A5C-4DA607D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B32-9B44-460E-9DE6-13CCC4CA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1E6B-EB6D-48DD-BA3D-C73D73F5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DB39-DF76-4925-B283-45B939B1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8676-572D-4778-9A07-E720477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AAA3-F674-4BCC-8633-DBF85B1D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5757-2E34-4FB7-8C18-CE0B482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A6A7-F57C-480E-B796-7CC6FCDA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2BCA-9ACE-4260-8EF0-0FE0DF5E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E20BB-5DDD-4037-8404-D06EED21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98E8-6A36-4EBA-9FA5-C63371F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985C0-1F07-462C-BF27-334D7A3F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2F4-324C-4E82-98ED-6C55A978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86BE-2630-4D7D-BF92-B4B9F07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9CEA4-2745-46A8-891D-7B0DB3E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FFB3-5A8B-40B8-9615-35ECA859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0E2A-E76C-45AB-AD85-D3B5326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BD9B-FC42-4083-94D0-D54F8AA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7BD0-B2FC-475A-9F1C-1F988ABD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34B70-92AD-46EB-B41A-1BD9A29C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4E5A-18EA-4BE3-9519-B6EA2FB2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AAC1-F290-46AA-B44E-6785BA4E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256-FA84-4970-B811-DA15E3C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E85-FDC7-4CF0-BA99-1ED3DD46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373-0D16-4F26-93B8-6017D7C7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4E5-6690-45CE-9A2E-D38016F4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C0B-CC94-436B-AED5-FE4F4879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28D-01A4-44EA-8E36-BFE86C25C81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190-2962-430F-94AE-2D27F3F9C50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613-3ABA-499D-A30E-38273E23EA7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79DF-F678-422E-971A-AE8E022D36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pub59407@mail.ru" TargetMode="External"/><Relationship Id="rId2" Type="http://schemas.openxmlformats.org/officeDocument/2006/relationships/hyperlink" Target="mailto:pub59407@mail.ru" TargetMode="External"/><Relationship Id="rId3" Type="http://schemas.openxmlformats.org/officeDocument/2006/relationships/hyperlink" Target="mailto:pub59407@mail.ru" TargetMode="External"/><Relationship Id="rId4" Type="http://schemas.openxmlformats.org/officeDocument/2006/relationships/hyperlink" Target="mailto:pub59407@mail.ru" TargetMode="External"/><Relationship Id="rId5" Type="http://schemas.openxmlformats.org/officeDocument/2006/relationships/hyperlink" Target="mailto:pub59407@mail.ru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11" descr="F:\Бюджет для граждан 2014 год\krasturan.gif"/>
          <p:cNvPicPr/>
          <p:nvPr/>
        </p:nvPicPr>
        <p:blipFill>
          <a:blip r:embed="rId1"/>
          <a:stretch/>
        </p:blipFill>
        <p:spPr>
          <a:xfrm>
            <a:off x="2714760" y="2465280"/>
            <a:ext cx="3571920" cy="4383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611280" y="260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Бюджет для гражд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раснотуранского района на 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и плановый период 2018-2019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71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ноз социально-экономического развития Краснотуранского района на 2017 год и на плановый период 2018 и 2019 годов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934640"/>
            <a:ext cx="885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60" indent="342720">
              <a:lnSpc>
                <a:spcPct val="100000"/>
              </a:lnSpc>
              <a:buClr>
                <a:srgbClr val="17365d"/>
              </a:buClr>
              <a:buSzPct val="71000"/>
              <a:buFont typeface="Wingdings" charset="2"/>
              <a:buChar char="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Определяет </a:t>
            </a:r>
            <a:r>
              <a:rPr b="0" lang="en-US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направления и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жидаемые результаты социально- экономического развития Краснотуранского района в среднесрочной перспектив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160" indent="342720">
              <a:lnSpc>
                <a:spcPct val="100000"/>
              </a:lnSpc>
              <a:tabLst>
                <a:tab algn="l" pos="0"/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9360" indent="344520">
              <a:lnSpc>
                <a:spcPct val="100000"/>
              </a:lnSpc>
              <a:buClr>
                <a:srgbClr val="17365d"/>
              </a:buClr>
              <a:buSzPct val="71000"/>
              <a:buFont typeface="Wingdings" charset="2"/>
              <a:buChar char="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en-US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Формирует единую платформу для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разработки муниципальных программ Краснотуранского района, иных документов среднесрочного характе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9360" indent="344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ноз социально-экономического развити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истема количественных и качественных показателей развития экономики является основой для составления районного бюджета</a:t>
            </a:r>
            <a:br>
              <a:rPr sz="16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92160" y="1225440"/>
            <a:ext cx="8929440" cy="55450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ая соединительная линия 5"/>
          <p:cNvSpPr/>
          <p:nvPr/>
        </p:nvSpPr>
        <p:spPr>
          <a:xfrm>
            <a:off x="9021600" y="1413000"/>
            <a:ext cx="0" cy="518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цели бюджетной политики на 2017 – 2019 годы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12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беспечение сбалансированности и устойчивости бюджетной систем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овышение результативности бюджетных расходов, достижение установленных показател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беспечение прозрачности и открытости бюджетного планиров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иоритеты в области налоговой политики направлены на реализацию следующих целе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Совершенствование налогового администрирования, повышение уровня ответственности главных администраторов доходов за качественное прогнозирование доходов бюджета и выполнение в полном объеме утвержденных годовых назначений по доходам районного бюджета и бюджетам поселений Краснотуранского райо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оведение мероприятий по повышению эффективности управления муниципальной собственностью и росту доходов от ее использ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Выявление и пресечение нелегальной выплаты заработной пла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Совершенствование налоговой системы в среднесрочной перспектив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71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налоговой политики Краснотуранского района на 2017 год и на плановый период 2018 и 2019 годов</a:t>
            </a:r>
            <a:br>
              <a:rPr sz="32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Основные параметры консолидированного бюджета МО «Краснотуранский район» на 2017 год и плановый период 2018-2019 годов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ез учета внутренних оборотов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7164360" y="15606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120600" y="1400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65"/>
          <p:cNvGrpSpPr/>
          <p:nvPr/>
        </p:nvGrpSpPr>
        <p:grpSpPr>
          <a:xfrm>
            <a:off x="324000" y="1436760"/>
            <a:ext cx="2235960" cy="243720"/>
            <a:chOff x="324000" y="1436760"/>
            <a:chExt cx="2235960" cy="243720"/>
          </a:xfrm>
        </p:grpSpPr>
        <p:pic>
          <p:nvPicPr>
            <p:cNvPr id="238" name="Picture 50" descr=""/>
            <p:cNvPicPr/>
            <p:nvPr/>
          </p:nvPicPr>
          <p:blipFill>
            <a:blip r:embed="rId1"/>
            <a:stretch/>
          </p:blipFill>
          <p:spPr>
            <a:xfrm>
              <a:off x="324000" y="148428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51"/>
            <p:cNvSpPr/>
            <p:nvPr/>
          </p:nvSpPr>
          <p:spPr>
            <a:xfrm>
              <a:off x="324000" y="1484280"/>
              <a:ext cx="114120" cy="114480"/>
            </a:xfrm>
            <a:prstGeom prst="rect">
              <a:avLst/>
            </a:prstGeom>
            <a:solidFill>
              <a:srgbClr val="04617b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2"/>
            <p:cNvSpPr/>
            <p:nvPr/>
          </p:nvSpPr>
          <p:spPr>
            <a:xfrm>
              <a:off x="507600" y="143676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53" descr=""/>
            <p:cNvPicPr/>
            <p:nvPr/>
          </p:nvPicPr>
          <p:blipFill>
            <a:blip r:embed="rId2"/>
            <a:stretch/>
          </p:blipFill>
          <p:spPr>
            <a:xfrm>
              <a:off x="1463760" y="149400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54"/>
            <p:cNvSpPr/>
            <p:nvPr/>
          </p:nvSpPr>
          <p:spPr>
            <a:xfrm>
              <a:off x="1463760" y="1494000"/>
              <a:ext cx="114480" cy="11412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5"/>
            <p:cNvSpPr/>
            <p:nvPr/>
          </p:nvSpPr>
          <p:spPr>
            <a:xfrm>
              <a:off x="1635840" y="143676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25"/>
          <p:cNvSpPr/>
          <p:nvPr/>
        </p:nvSpPr>
        <p:spPr>
          <a:xfrm>
            <a:off x="6534000" y="3213000"/>
            <a:ext cx="709920" cy="280836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7248600" y="3213000"/>
            <a:ext cx="696960" cy="282888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1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3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1195560" y="3502080"/>
            <a:ext cx="698400" cy="251928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2"/>
          <p:cNvSpPr/>
          <p:nvPr/>
        </p:nvSpPr>
        <p:spPr>
          <a:xfrm>
            <a:off x="1908000" y="3502080"/>
            <a:ext cx="700200" cy="255420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4"/>
          <p:cNvSpPr/>
          <p:nvPr/>
        </p:nvSpPr>
        <p:spPr>
          <a:xfrm>
            <a:off x="3803760" y="3502080"/>
            <a:ext cx="752400" cy="251928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6"/>
          <p:cNvSpPr/>
          <p:nvPr/>
        </p:nvSpPr>
        <p:spPr>
          <a:xfrm>
            <a:off x="4572000" y="3502080"/>
            <a:ext cx="754200" cy="251280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8"/>
          <p:cNvSpPr/>
          <p:nvPr/>
        </p:nvSpPr>
        <p:spPr>
          <a:xfrm>
            <a:off x="1481040" y="621360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7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9"/>
          <p:cNvSpPr/>
          <p:nvPr/>
        </p:nvSpPr>
        <p:spPr>
          <a:xfrm>
            <a:off x="4158360" y="621360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8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0"/>
          <p:cNvSpPr/>
          <p:nvPr/>
        </p:nvSpPr>
        <p:spPr>
          <a:xfrm>
            <a:off x="6815880" y="621648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9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1206360" y="31370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1908000" y="313704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3"/>
          <p:cNvSpPr/>
          <p:nvPr/>
        </p:nvSpPr>
        <p:spPr>
          <a:xfrm flipV="1" rot="10800000">
            <a:off x="3779640" y="319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4"/>
          <p:cNvSpPr/>
          <p:nvPr/>
        </p:nvSpPr>
        <p:spPr>
          <a:xfrm flipV="1" rot="10804800">
            <a:off x="4624200" y="31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5"/>
          <p:cNvSpPr/>
          <p:nvPr/>
        </p:nvSpPr>
        <p:spPr>
          <a:xfrm flipV="1" rot="10800000">
            <a:off x="6588000" y="283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7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6"/>
          <p:cNvSpPr/>
          <p:nvPr/>
        </p:nvSpPr>
        <p:spPr>
          <a:xfrm flipV="1" rot="10800000">
            <a:off x="7308720" y="28501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7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МО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«Краснотуранский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  район» в 20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7 году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(млн. рублей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179280" y="134136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250920" y="5877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Constantia"/>
              </a:rPr>
              <a:t>Консолидированный бюджет                     723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64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1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266" name="Rectangle 35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Межбюдже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трансферты 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краевого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586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6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Соб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районного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42,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7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Собственн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посел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25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8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Районный бюдж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4617b"/>
                  </a:solidFill>
                  <a:latin typeface="Constantia"/>
                </a:rPr>
                <a:t>633,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9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Субвенция 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передачу полномоч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4,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0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Суб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1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Дотация из район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фонда финансов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поддерж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63,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3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4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7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Бюдж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посе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4617b"/>
                  </a:solidFill>
                  <a:latin typeface="Constantia"/>
                </a:rPr>
                <a:t>89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1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2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3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4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5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6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Иные межбюдже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9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0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Единые нормативы отчислений в местные бюджеты </a:t>
            </a:r>
            <a:br>
              <a:rPr sz="2500"/>
            </a:b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в 2017 году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628640"/>
          <a:ext cx="8291520" cy="5106960"/>
        </p:xfrm>
        <a:graphic>
          <a:graphicData uri="http://schemas.openxmlformats.org/drawingml/2006/table">
            <a:tbl>
              <a:tblPr/>
              <a:tblGrid>
                <a:gridCol w="4224240"/>
                <a:gridCol w="1103400"/>
                <a:gridCol w="822240"/>
                <a:gridCol w="182520"/>
                <a:gridCol w="679680"/>
                <a:gridCol w="244440"/>
                <a:gridCol w="1035000"/>
              </a:tblGrid>
              <a:tr h="577800"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16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Line 73"/>
          <p:cNvSpPr/>
          <p:nvPr/>
        </p:nvSpPr>
        <p:spPr>
          <a:xfrm>
            <a:off x="179280" y="1628640"/>
            <a:ext cx="87408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ормирование доходов и расходов поселений на 2017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Объект 3" descr=""/>
          <p:cNvPicPr/>
          <p:nvPr/>
        </p:nvPicPr>
        <p:blipFill>
          <a:blip r:embed="rId1"/>
          <a:stretch/>
        </p:blipFill>
        <p:spPr>
          <a:xfrm>
            <a:off x="406440" y="930240"/>
            <a:ext cx="8331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1985760"/>
            <a:ext cx="8238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сновные параметры районного бюджета МО «Краснотуранский  район» на 2017 год и плановый период 2018-2019 гг.                     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лн. рубле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892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02"/>
          <p:cNvGrpSpPr/>
          <p:nvPr/>
        </p:nvGrpSpPr>
        <p:grpSpPr>
          <a:xfrm>
            <a:off x="384120" y="2043000"/>
            <a:ext cx="2334960" cy="243720"/>
            <a:chOff x="384120" y="2043000"/>
            <a:chExt cx="2334960" cy="243720"/>
          </a:xfrm>
        </p:grpSpPr>
        <p:pic>
          <p:nvPicPr>
            <p:cNvPr id="297" name="Picture 41" descr=""/>
            <p:cNvPicPr/>
            <p:nvPr/>
          </p:nvPicPr>
          <p:blipFill>
            <a:blip r:embed="rId1"/>
            <a:stretch/>
          </p:blipFill>
          <p:spPr>
            <a:xfrm>
              <a:off x="444600" y="209052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2"/>
            <p:cNvSpPr/>
            <p:nvPr/>
          </p:nvSpPr>
          <p:spPr>
            <a:xfrm>
              <a:off x="444600" y="209052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3"/>
            <p:cNvSpPr/>
            <p:nvPr/>
          </p:nvSpPr>
          <p:spPr>
            <a:xfrm>
              <a:off x="384120" y="2043000"/>
              <a:ext cx="110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     </a:t>
              </a: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4" descr=""/>
            <p:cNvPicPr/>
            <p:nvPr/>
          </p:nvPicPr>
          <p:blipFill>
            <a:blip r:embed="rId2"/>
            <a:stretch/>
          </p:blipFill>
          <p:spPr>
            <a:xfrm>
              <a:off x="1613520" y="208080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45"/>
            <p:cNvSpPr/>
            <p:nvPr/>
          </p:nvSpPr>
          <p:spPr>
            <a:xfrm>
              <a:off x="1613520" y="208080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6"/>
            <p:cNvSpPr/>
            <p:nvPr/>
          </p:nvSpPr>
          <p:spPr>
            <a:xfrm>
              <a:off x="1794960" y="204300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27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3" descr=""/>
          <p:cNvPicPr/>
          <p:nvPr/>
        </p:nvPicPr>
        <p:blipFill>
          <a:blip r:embed="rId3"/>
          <a:stretch/>
        </p:blipFill>
        <p:spPr>
          <a:xfrm>
            <a:off x="1187280" y="3579840"/>
            <a:ext cx="947880" cy="20811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5"/>
          <p:cNvSpPr/>
          <p:nvPr/>
        </p:nvSpPr>
        <p:spPr>
          <a:xfrm flipV="1" rot="10678800">
            <a:off x="1157040" y="335232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6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27" descr=""/>
          <p:cNvPicPr/>
          <p:nvPr/>
        </p:nvPicPr>
        <p:blipFill>
          <a:blip r:embed="rId4"/>
          <a:stretch/>
        </p:blipFill>
        <p:spPr>
          <a:xfrm>
            <a:off x="2119320" y="3579840"/>
            <a:ext cx="934920" cy="2090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8"/>
          <p:cNvSpPr/>
          <p:nvPr/>
        </p:nvSpPr>
        <p:spPr>
          <a:xfrm>
            <a:off x="2119320" y="3579840"/>
            <a:ext cx="934920" cy="209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9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0"/>
          <p:cNvSpPr/>
          <p:nvPr/>
        </p:nvSpPr>
        <p:spPr>
          <a:xfrm>
            <a:off x="167904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8" descr=""/>
          <p:cNvPicPr/>
          <p:nvPr/>
        </p:nvPicPr>
        <p:blipFill>
          <a:blip r:embed="rId5"/>
          <a:stretch/>
        </p:blipFill>
        <p:spPr>
          <a:xfrm>
            <a:off x="3621240" y="3860640"/>
            <a:ext cx="907920" cy="18018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9"/>
          <p:cNvSpPr/>
          <p:nvPr/>
        </p:nvSpPr>
        <p:spPr>
          <a:xfrm>
            <a:off x="3621240" y="3860640"/>
            <a:ext cx="936360" cy="18018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0"/>
          <p:cNvSpPr/>
          <p:nvPr/>
        </p:nvSpPr>
        <p:spPr>
          <a:xfrm>
            <a:off x="3789360" y="3487680"/>
            <a:ext cx="157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27,3               627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1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2" descr=""/>
          <p:cNvPicPr/>
          <p:nvPr/>
        </p:nvPicPr>
        <p:blipFill>
          <a:blip r:embed="rId6"/>
          <a:stretch/>
        </p:blipFill>
        <p:spPr>
          <a:xfrm>
            <a:off x="4548240" y="3860640"/>
            <a:ext cx="888840" cy="1808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3"/>
          <p:cNvSpPr/>
          <p:nvPr/>
        </p:nvSpPr>
        <p:spPr>
          <a:xfrm>
            <a:off x="4500720" y="3860640"/>
            <a:ext cx="936360" cy="180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5"/>
          <p:cNvSpPr/>
          <p:nvPr/>
        </p:nvSpPr>
        <p:spPr>
          <a:xfrm>
            <a:off x="408492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8" descr=""/>
          <p:cNvPicPr/>
          <p:nvPr/>
        </p:nvPicPr>
        <p:blipFill>
          <a:blip r:embed="rId7"/>
          <a:stretch/>
        </p:blipFill>
        <p:spPr>
          <a:xfrm>
            <a:off x="6084720" y="3727440"/>
            <a:ext cx="901800" cy="2006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50"/>
          <p:cNvSpPr/>
          <p:nvPr/>
        </p:nvSpPr>
        <p:spPr>
          <a:xfrm>
            <a:off x="6084720" y="3357720"/>
            <a:ext cx="187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2,5                    6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51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52" descr=""/>
          <p:cNvPicPr/>
          <p:nvPr/>
        </p:nvPicPr>
        <p:blipFill>
          <a:blip r:embed="rId8"/>
          <a:stretch/>
        </p:blipFill>
        <p:spPr>
          <a:xfrm>
            <a:off x="7020000" y="3727440"/>
            <a:ext cx="936720" cy="1941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53"/>
          <p:cNvSpPr/>
          <p:nvPr/>
        </p:nvSpPr>
        <p:spPr>
          <a:xfrm>
            <a:off x="7054920" y="3727440"/>
            <a:ext cx="901800" cy="1933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5"/>
          <p:cNvSpPr/>
          <p:nvPr/>
        </p:nvSpPr>
        <p:spPr>
          <a:xfrm>
            <a:off x="661788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7"/>
          <p:cNvSpPr/>
          <p:nvPr/>
        </p:nvSpPr>
        <p:spPr>
          <a:xfrm>
            <a:off x="6064200" y="3727440"/>
            <a:ext cx="95580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8"/>
          <p:cNvSpPr/>
          <p:nvPr/>
        </p:nvSpPr>
        <p:spPr>
          <a:xfrm>
            <a:off x="3635280" y="3860640"/>
            <a:ext cx="865440" cy="180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0"/>
          <p:cNvSpPr/>
          <p:nvPr/>
        </p:nvSpPr>
        <p:spPr>
          <a:xfrm>
            <a:off x="1187280" y="3579840"/>
            <a:ext cx="935280" cy="209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179280" y="14842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Сопоставление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сновных параметров районного бюджета МО «Краснотуранский  район» на 2017 год с другими Муниципальными образованиями                              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лн. рубле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Объект 3" descr=""/>
          <p:cNvPicPr/>
          <p:nvPr/>
        </p:nvPicPr>
        <p:blipFill>
          <a:blip r:embed="rId1"/>
          <a:stretch/>
        </p:blipFill>
        <p:spPr>
          <a:xfrm>
            <a:off x="406440" y="188424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рошюра подготовлена на основании Решения Краснотуранского районного Совета депутатов «О районном бюджете на 2017 год и плановый период 2018-2019 годов». В информации просто и доступно рассказывается о районном бюджете: его основных характеристиках,   статьях  расход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дание рассчитано на широкий круг читателей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ы подготовлены Финансовым управлением администрации Краснотуранского  райо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ь проект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.Н. Сергиенко – И.о. заместителя главы администрации района по экономике - начальник Финансового управления администрации Краснотуранского райо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 ПРЕДОСТАВЛЕНИЯ БЮДЖЕТНЫХ КРЕДИТОВ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на 2017 г. и плановый период 2018-2019г.г.</a:t>
            </a:r>
            <a:br>
              <a:rPr sz="2400"/>
            </a:b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юджетом муниципального образования Краснотуранский район на 2017 год и плановый период 2018-2019г.г. предоставление бюджетных кредитов планиру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г.- 00,0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8г. – 00,0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9г. – 00,0 тыс. рубл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79280" y="21337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 МУНИЦИПАЛЬНЫХ ГАРАНТИЙ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на 2017 г. и плановый период 2018-2019г.г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923920"/>
            <a:ext cx="822960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ить верхний предел по муниципальным гарантиям на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7г.  0,0 руб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8г.  0,0 руб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9г.  0,0 рублей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79280" y="234936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1520" y="11592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ых внутренних заимствований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 на 2017 год и плановый период 2018-2019 г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ыс. рубле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4360" y="2276640"/>
          <a:ext cx="7991280" cy="42573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6960"/>
                <a:gridCol w="1598760"/>
                <a:gridCol w="1598400"/>
              </a:tblGrid>
              <a:tr h="8348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заимс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влечение/ погаш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1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93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объем заимствований, направляемых на покрытие дефицита районного бюдже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Line 6"/>
          <p:cNvSpPr/>
          <p:nvPr/>
        </p:nvSpPr>
        <p:spPr>
          <a:xfrm>
            <a:off x="179280" y="220500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31120" cy="51595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8"/>
          <p:cNvSpPr/>
          <p:nvPr/>
        </p:nvSpPr>
        <p:spPr>
          <a:xfrm>
            <a:off x="611280" y="5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отношение собственных доходов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йонного бюджета и предельного объема муниципального д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Доходы районного бюджета МО «Краснотуранский район»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00200"/>
          <a:ext cx="8218440" cy="4486320"/>
        </p:xfrm>
        <a:graphic>
          <a:graphicData uri="http://schemas.openxmlformats.org/drawingml/2006/table">
            <a:tbl>
              <a:tblPr/>
              <a:tblGrid>
                <a:gridCol w="4167000"/>
                <a:gridCol w="1349640"/>
                <a:gridCol w="1352520"/>
                <a:gridCol w="1349280"/>
              </a:tblGrid>
              <a:tr h="24300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7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2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6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2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5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105"/>
          <p:cNvSpPr/>
          <p:nvPr/>
        </p:nvSpPr>
        <p:spPr>
          <a:xfrm>
            <a:off x="7164360" y="112536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7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100080" y="150480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230040" y="876240"/>
            <a:ext cx="822960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68360" y="44280"/>
          <a:ext cx="8424720" cy="6697800"/>
        </p:xfrm>
        <a:graphic>
          <a:graphicData uri="http://schemas.openxmlformats.org/drawingml/2006/table">
            <a:tbl>
              <a:tblPr/>
              <a:tblGrid>
                <a:gridCol w="3413160"/>
                <a:gridCol w="1454040"/>
                <a:gridCol w="1741680"/>
                <a:gridCol w="1815840"/>
              </a:tblGrid>
              <a:tr h="11732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4617b"/>
                          </a:solidFill>
                          <a:latin typeface="Calibri"/>
                        </a:rPr>
                        <a:t>Распределение расходов районного бюджета на 2017 и плановый период 2018-2019 годов                                           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4617b"/>
                          </a:solidFill>
                          <a:latin typeface="Calibri"/>
                        </a:rPr>
                        <a:t>тыс.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район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71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73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73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безопасность и правоохранительная 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29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28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38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818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6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6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9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7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7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дравоохран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660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64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64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бюджетные  трансферты  обще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28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87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87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68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56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252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04617b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04617b"/>
                </a:solidFill>
                <a:latin typeface="Arial"/>
              </a:rPr>
              <a:t>7-2019 го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dfd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9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7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5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1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13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ультура Краснотуранского 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2"/>
          <p:cNvSpPr/>
          <p:nvPr/>
        </p:nvSpPr>
        <p:spPr>
          <a:xfrm>
            <a:off x="7631280" y="486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0"/>
          <p:cNvSpPr/>
          <p:nvPr/>
        </p:nvSpPr>
        <p:spPr>
          <a:xfrm>
            <a:off x="6156360" y="486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8"/>
          <p:cNvSpPr/>
          <p:nvPr/>
        </p:nvSpPr>
        <p:spPr>
          <a:xfrm>
            <a:off x="4859280" y="4797360"/>
            <a:ext cx="1368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6"/>
          <p:cNvSpPr/>
          <p:nvPr/>
        </p:nvSpPr>
        <p:spPr>
          <a:xfrm>
            <a:off x="250920" y="4941720"/>
            <a:ext cx="45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в развитии  и поддержке  малого и среднего  предпринимательства на территори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9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61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8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7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6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928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4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61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525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еформирование и модернизация ЖКХ и повышение энергетической эффективност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лодежь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развитию физической культуры, спорта, и туризма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стема социальной защиты населе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928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846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развитию  системы образова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285840" y="57340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3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476360" y="18446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6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7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0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1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2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3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4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5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8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0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1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2"/>
          <p:cNvSpPr/>
          <p:nvPr/>
        </p:nvSpPr>
        <p:spPr>
          <a:xfrm>
            <a:off x="285840" y="47973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2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96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04617b"/>
                </a:solidFill>
                <a:latin typeface="Constantia"/>
              </a:rPr>
              <a:t>1</a:t>
            </a: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7-2019 го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596360" y="16891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48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053040" y="17049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48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4613400" y="1704960"/>
            <a:ext cx="143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61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87280" y="1704960"/>
            <a:ext cx="45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в развитии сельского хозяйства Краснотуранского 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7588080" y="4255920"/>
            <a:ext cx="15130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01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6291360" y="4253040"/>
            <a:ext cx="143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01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788000" y="4253040"/>
            <a:ext cx="143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784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50920" y="4221000"/>
            <a:ext cx="450036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7520040" y="329580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814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054840" y="3295800"/>
            <a:ext cx="1439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814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692600" y="329580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948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250920" y="3294000"/>
            <a:ext cx="4500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6156360" y="2637000"/>
            <a:ext cx="151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3"/>
          <p:cNvSpPr/>
          <p:nvPr/>
        </p:nvSpPr>
        <p:spPr>
          <a:xfrm>
            <a:off x="7631280" y="27082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4"/>
          <p:cNvSpPr/>
          <p:nvPr/>
        </p:nvSpPr>
        <p:spPr>
          <a:xfrm>
            <a:off x="4788000" y="263700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5"/>
          <p:cNvSpPr/>
          <p:nvPr/>
        </p:nvSpPr>
        <p:spPr>
          <a:xfrm>
            <a:off x="250920" y="2421000"/>
            <a:ext cx="4500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здание условий для обеспечения доступным и комфортным  жильём граждан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8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9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0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1"/>
          <p:cNvSpPr/>
          <p:nvPr/>
        </p:nvSpPr>
        <p:spPr>
          <a:xfrm>
            <a:off x="295200" y="1631880"/>
            <a:ext cx="450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2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3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4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7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8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1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2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3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4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5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6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7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8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4"/>
          <p:cNvSpPr/>
          <p:nvPr/>
        </p:nvSpPr>
        <p:spPr>
          <a:xfrm>
            <a:off x="306360" y="329400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5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6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8"/>
          <p:cNvSpPr/>
          <p:nvPr/>
        </p:nvSpPr>
        <p:spPr>
          <a:xfrm>
            <a:off x="184320" y="393372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69"/>
          <p:cNvSpPr/>
          <p:nvPr/>
        </p:nvSpPr>
        <p:spPr>
          <a:xfrm>
            <a:off x="295200" y="23493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0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9"/>
          <p:cNvSpPr/>
          <p:nvPr/>
        </p:nvSpPr>
        <p:spPr>
          <a:xfrm>
            <a:off x="306360" y="16318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Информация о планируемом проведении расходов капитального характера в объектах социальной сферы района в 2017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00,0 тыс. рублей – выполнение топографических съемок земельных участков, межевание земель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194,5 тыс. рублей – строительство пристройки к зданию ДЮСШ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10181,4 тыс. рублей – капитальный ремонт автомобильных дорог общего пользования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27,9 тыс. рублей – капитальный ремонт тепловой сети от ТК-11 до ТК-13 по ул. Школьная в с. Кортуз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554,8 тыс. рублей – капитальный ремонт тепловой сети от ТК-189 до ТК-191 по ул. Есенина в с. Краснотуранск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500,0 тыс. рублей – капитальный ремонт тепловой сети от ТК-51 до ТК-54 по ул. Южная в с. Тубинск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10,1 тыс. рублей – прокладка участка водопроводной сети от ВК-315 до проектируемого ВК-298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201080" cy="4608360"/>
          </a:xfrm>
          <a:prstGeom prst="rect">
            <a:avLst/>
          </a:prstGeom>
          <a:ln w="0">
            <a:noFill/>
          </a:ln>
        </p:spPr>
      </p:pic>
      <p:sp>
        <p:nvSpPr>
          <p:cNvPr id="201" name="Объект 2"/>
          <p:cNvSpPr/>
          <p:nvPr/>
        </p:nvSpPr>
        <p:spPr>
          <a:xfrm>
            <a:off x="457200" y="501336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рритория Краснотуранского района – 346193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енность населения на 01.01.2016 – 14383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 населенных пун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ный центр – село Краснотура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ая программа «Содействие развитию системы образования Краснотуранского района»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50920" y="620640"/>
            <a:ext cx="4249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разования Краснотуранского района предоставлена 27 образовательными учреждениями, в т.ч.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бщеобразовательных шк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дошкольных учре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ополнительных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учреждениях обучаются 1741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айона проживают 1447 детей в возрасте от 0 до 7 лет, услугу получают 737 воспитан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т детей дошкольным образованием – 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788000" y="741240"/>
            <a:ext cx="3816360" cy="1847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250920" y="2639880"/>
            <a:ext cx="4141800" cy="1725840"/>
          </a:xfrm>
          <a:prstGeom prst="rect">
            <a:avLst/>
          </a:prstGeom>
          <a:ln w="0">
            <a:noFill/>
          </a:ln>
        </p:spPr>
      </p:pic>
      <p:sp>
        <p:nvSpPr>
          <p:cNvPr id="462" name="TextBox 4"/>
          <p:cNvSpPr/>
          <p:nvPr/>
        </p:nvSpPr>
        <p:spPr>
          <a:xfrm>
            <a:off x="4788000" y="2784600"/>
            <a:ext cx="38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м финансирования муниципальной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г. – 364318,2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г. – 389045,8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. – 380321,3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г. – 358464,5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г. – 359282,0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г. – 359282,0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5"/>
          <p:cNvSpPr/>
          <p:nvPr/>
        </p:nvSpPr>
        <p:spPr>
          <a:xfrm>
            <a:off x="1332000" y="4365720"/>
            <a:ext cx="611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муниципаль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беспечение высокого качества образования, соответствующего потребностям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поддержка детей сирот, детей оставшихся без попечения род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 и оздоровление детей в летн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395280" y="51958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довлетворенности населения качеством образовательных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очередности на зачисление детей в дошкольные образователь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оответствующих требованиям Федеральных государственных образовательных стандартов во всех общеобразовательных учреж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вата не менее 80% детей в возрасте 5-18 лет программами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9"/>
          <p:cNvSpPr/>
          <p:nvPr/>
        </p:nvSpPr>
        <p:spPr>
          <a:xfrm>
            <a:off x="468360" y="1094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ая программа «Система социальной защиты населения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490680" y="1197000"/>
            <a:ext cx="3936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чете в Управлении социальной защиты населения Краснотуранского района состоит 9783 человека, получающих различные виды соц. Помощи (68% от  проживающих на территории Краснотуранского района). Социальные услуги населению предоставляют МБУ КЦСОН и МКУ СО ЦСПСиД. Ежегодно услугами данных учреждений пользуются более 5 тыс. граждан район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C:\Users\User\Desktop\ФОТО ДЛЯ ПРЕЗЕНТАЦИИ\социальная защита.jpg"/>
          <p:cNvPicPr/>
          <p:nvPr/>
        </p:nvPicPr>
        <p:blipFill>
          <a:blip r:embed="rId1"/>
          <a:stretch/>
        </p:blipFill>
        <p:spPr>
          <a:xfrm>
            <a:off x="4859280" y="981000"/>
            <a:ext cx="3168720" cy="19432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2"/>
          <p:cNvSpPr/>
          <p:nvPr/>
        </p:nvSpPr>
        <p:spPr>
          <a:xfrm>
            <a:off x="617400" y="2924280"/>
            <a:ext cx="381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ъем финансирования муниципальной  програм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4 г. – 177396,6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 г. – 81505,0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 г. – 81903,9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. – 80529,2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8 г. – 80529,2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9 г. – 80529,2  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4"/>
          <p:cNvSpPr/>
          <p:nvPr/>
        </p:nvSpPr>
        <p:spPr>
          <a:xfrm>
            <a:off x="4211640" y="2971800"/>
            <a:ext cx="43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овышение качества и доступности предоставления услуг по социальному обслужи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воевременное и  качественное исполнение переданных гос. полномочий в сфере соц. поддержки и соц. обслуживани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C:\Users\User\Desktop\ФОТО ДЛЯ ПРЕЗЕНТАЦИИ\Соцзащита.jpg"/>
          <p:cNvPicPr/>
          <p:nvPr/>
        </p:nvPicPr>
        <p:blipFill>
          <a:blip r:embed="rId2"/>
          <a:stretch/>
        </p:blipFill>
        <p:spPr>
          <a:xfrm>
            <a:off x="324000" y="4540320"/>
            <a:ext cx="2135160" cy="200160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6"/>
          <p:cNvSpPr/>
          <p:nvPr/>
        </p:nvSpPr>
        <p:spPr>
          <a:xfrm>
            <a:off x="2481120" y="4653000"/>
            <a:ext cx="6120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ыполнение переданных гос. Полномочий по предоставлению мер соц. поддержки и соц. обслуживания граждан в соответствии с федеральным и краев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еспечение поддержки и социальной адаптации граждан, попавших в трудную жизненную ситу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статуса соц. Работника и престижа проф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468360" y="189000"/>
            <a:ext cx="835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Муниципальная программа «Реформирование и модернизация жилищно-коммунального хозяйства и повышение энергетической эффективности в Краснотуранского райо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0920" y="110484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о-коммунальное хозяйство является основным поставщиком первоочередных жизненно-важных услуг населению: тепло-водоснабжение, водоотведение, эксплуатация и ремонт жилищного фонда. Уровень износа коммунальной инфраструктуры составляет 7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User\Desktop\ФОТО ДЛЯ ПРЕЗЕНТАЦИИ\котельная.jpg"/>
          <p:cNvPicPr/>
          <p:nvPr/>
        </p:nvPicPr>
        <p:blipFill>
          <a:blip r:embed="rId1"/>
          <a:stretch/>
        </p:blipFill>
        <p:spPr>
          <a:xfrm>
            <a:off x="611280" y="1844640"/>
            <a:ext cx="3024000" cy="167472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3"/>
          <p:cNvSpPr/>
          <p:nvPr/>
        </p:nvSpPr>
        <p:spPr>
          <a:xfrm>
            <a:off x="4140360" y="1857240"/>
            <a:ext cx="4572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15768,3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29875,4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22492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25251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26146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26146,5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468360" y="3519360"/>
            <a:ext cx="5635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еспечение населения района качественными жилищно- коммунальными услугами в условиях развития рыночных отношений в отрасли и ограниченного роста оплаты жилищно-коммунальных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Формирование целостности и эффективной системы управления энергосбережением и повышением энергетической 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9" descr="C:\Users\User\Desktop\ФОТО ДЛЯ ПРЕЗЕНТАЦИИ\жкх.jpeg"/>
          <p:cNvPicPr/>
          <p:nvPr/>
        </p:nvPicPr>
        <p:blipFill>
          <a:blip r:embed="rId2"/>
          <a:stretch/>
        </p:blipFill>
        <p:spPr>
          <a:xfrm>
            <a:off x="6448320" y="3643200"/>
            <a:ext cx="2084400" cy="17305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9"/>
          <p:cNvSpPr/>
          <p:nvPr/>
        </p:nvSpPr>
        <p:spPr>
          <a:xfrm>
            <a:off x="758880" y="4989600"/>
            <a:ext cx="7416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питальный ремонт тепловых и водопроводных сетей (3км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технологического и электросилового оборудования насосной стан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котлов на отопительных котель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п. ремонт водонапорных  баш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резервуара для питьевой 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вка центрального водов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нижение потребления энергетиче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1"/>
          <p:cNvSpPr/>
          <p:nvPr/>
        </p:nvSpPr>
        <p:spPr>
          <a:xfrm>
            <a:off x="250920" y="189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Культура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"/>
          <p:cNvSpPr/>
          <p:nvPr/>
        </p:nvSpPr>
        <p:spPr>
          <a:xfrm>
            <a:off x="3924360" y="557280"/>
            <a:ext cx="497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уги населению Краснотуранского района предоставля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0 библиот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историко-этнографический муз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3 учреждения культурно-досугового ти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детская школа искус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"/>
          <p:cNvSpPr/>
          <p:nvPr/>
        </p:nvSpPr>
        <p:spPr>
          <a:xfrm>
            <a:off x="395280" y="2421000"/>
            <a:ext cx="42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работающих в отрасли – 227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проводится 1077 меро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"/>
          <p:cNvSpPr/>
          <p:nvPr/>
        </p:nvSpPr>
        <p:spPr>
          <a:xfrm>
            <a:off x="684360" y="3213000"/>
            <a:ext cx="3797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33134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36144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38639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34916,8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349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349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5"/>
          <p:cNvSpPr/>
          <p:nvPr/>
        </p:nvSpPr>
        <p:spPr>
          <a:xfrm>
            <a:off x="4324320" y="38419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и культурного и духовного потенциала населе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6"/>
          <p:cNvSpPr/>
          <p:nvPr/>
        </p:nvSpPr>
        <p:spPr>
          <a:xfrm>
            <a:off x="1130400" y="501336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птимизация и модернизация сети муниципальных учреждений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недрение новых информационных продуктов и технолог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распространение и поддержка муниципальных культурных инициати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C:\Users\User\Desktop\ФОТО ДЛЯ ПРЕЗЕНТАЦИИ\культура 1.jpg"/>
          <p:cNvPicPr/>
          <p:nvPr/>
        </p:nvPicPr>
        <p:blipFill>
          <a:blip r:embed="rId1"/>
          <a:stretch/>
        </p:blipFill>
        <p:spPr>
          <a:xfrm>
            <a:off x="1152360" y="692280"/>
            <a:ext cx="2478240" cy="172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C:\Users\User\Desktop\ФОТО ДЛЯ ПРЕЗЕНТАЦИИ\цбс.jpg"/>
          <p:cNvPicPr/>
          <p:nvPr/>
        </p:nvPicPr>
        <p:blipFill>
          <a:blip r:embed="rId2"/>
          <a:stretch/>
        </p:blipFill>
        <p:spPr>
          <a:xfrm>
            <a:off x="5016600" y="1943280"/>
            <a:ext cx="294012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Прямоугольник 1"/>
          <p:cNvSpPr/>
          <p:nvPr/>
        </p:nvSpPr>
        <p:spPr>
          <a:xfrm>
            <a:off x="382680" y="115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развитию физической культуры, спорта и туризма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C:\Users\User\Desktop\ФОТО ДЛЯ ПРЕЗЕНТАЦИИ\туризм 1.jpg"/>
          <p:cNvPicPr/>
          <p:nvPr/>
        </p:nvPicPr>
        <p:blipFill>
          <a:blip r:embed="rId1"/>
          <a:stretch/>
        </p:blipFill>
        <p:spPr>
          <a:xfrm>
            <a:off x="468360" y="1052640"/>
            <a:ext cx="2508120" cy="162864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2"/>
          <p:cNvSpPr/>
          <p:nvPr/>
        </p:nvSpPr>
        <p:spPr>
          <a:xfrm>
            <a:off x="3132000" y="1052640"/>
            <a:ext cx="554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инистрация района участвует в развитии муниципальных рекреационных зон на территории Красноярского водохранилища. Протяженность береговой линии рекреационных зон составляет более 1 км. Общая численность отдыхающих – более 18 тыс. человек ежегодно. Учреждение – МБУ «Центр отдыха «Сосновый бор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"/>
          <p:cNvSpPr/>
          <p:nvPr/>
        </p:nvSpPr>
        <p:spPr>
          <a:xfrm>
            <a:off x="582480" y="2997360"/>
            <a:ext cx="442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4 г. – 25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 г. – 25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8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9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C:\Users\User\Desktop\ФОТО ДЛЯ ПРЕЗЕНТАЦИИ\спорт х.jpg"/>
          <p:cNvPicPr/>
          <p:nvPr/>
        </p:nvPicPr>
        <p:blipFill>
          <a:blip r:embed="rId2"/>
          <a:stretch/>
        </p:blipFill>
        <p:spPr>
          <a:xfrm>
            <a:off x="5003640" y="2868480"/>
            <a:ext cx="3529080" cy="15685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4"/>
          <p:cNvSpPr/>
          <p:nvPr/>
        </p:nvSpPr>
        <p:spPr>
          <a:xfrm>
            <a:off x="755640" y="4221000"/>
            <a:ext cx="73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оздание доступных условий для занятий населения Краснотуранского района различных возрастных, профессиональных и социальных групп физ. культурой и спорт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азвитие муниципального туристского комп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755640" y="5380200"/>
            <a:ext cx="720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доли граждан систематически занимающихся физ. культурой и спортом к общей численности населения района с 18% до 24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общей численности отдыхающих на территории оборудованных зон с 18 до 25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179280" y="11592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Молодежь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"/>
          <p:cNvSpPr/>
          <p:nvPr/>
        </p:nvSpPr>
        <p:spPr>
          <a:xfrm>
            <a:off x="500040" y="692280"/>
            <a:ext cx="835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ерритории района проживают 2580 человек в возрасте от 14 до 30 лет. Функционирует МБУ «Молодежный центр «Жемчужина»». Около 25% молодежи от общего количества молодых граждан Краснотуранского района участвуют в социальных про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Users\User\Desktop\ФОТО ДЛЯ ПРЕЗЕНТАЦИИ\день молодежи.JPG"/>
          <p:cNvPicPr/>
          <p:nvPr/>
        </p:nvPicPr>
        <p:blipFill>
          <a:blip r:embed="rId1"/>
          <a:stretch/>
        </p:blipFill>
        <p:spPr>
          <a:xfrm>
            <a:off x="611280" y="1504800"/>
            <a:ext cx="3062160" cy="17082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3635280" y="1504800"/>
            <a:ext cx="5216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5142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3001,7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4806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4727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727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727,1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4"/>
          <p:cNvSpPr/>
          <p:nvPr/>
        </p:nvSpPr>
        <p:spPr>
          <a:xfrm>
            <a:off x="500040" y="321300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оздание условий для дальнейшего развития  и совершенствования системы патриотического воспитания молодежи Краснотуранского района, вовлечение её в добровольческую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ос. поддержка в решении жилищных проблем молодых семей, нуждающихся в улучшении жилищных услов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азвитие социально-ориентированных некоммерче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C:\Users\User\Desktop\ФОТО ДЛЯ ПРЕЗЕНТАЦИИ\молодые.jpg"/>
          <p:cNvPicPr/>
          <p:nvPr/>
        </p:nvPicPr>
        <p:blipFill>
          <a:blip r:embed="rId2"/>
          <a:stretch/>
        </p:blipFill>
        <p:spPr>
          <a:xfrm>
            <a:off x="5435640" y="3068640"/>
            <a:ext cx="3209760" cy="223200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5"/>
          <p:cNvSpPr/>
          <p:nvPr/>
        </p:nvSpPr>
        <p:spPr>
          <a:xfrm>
            <a:off x="250920" y="5300640"/>
            <a:ext cx="8642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удельного веса молодых граждан, вовлеченных в реализацию общерайонных социально-экономических проектов к общей численности молодежи с 25% до 35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доли молодых граждан, вовлеченных в добровольческую деятельность с 11% до 35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доля молодых граждан, улучшивших жилищные условия за счет получения соц. выплат к общему количеству молодых семей, состоящих на учете, нуждающихся в улучшении жилищных условий – 74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1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здание условий для обеспечения доступным и комфортным жильем граждан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"/>
          <p:cNvSpPr/>
          <p:nvPr/>
        </p:nvSpPr>
        <p:spPr>
          <a:xfrm>
            <a:off x="782640" y="9810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Краснотуранском районе отмечается устойчивый прирост площадей жилищного фонда – ежегодно 1,2 тыс. кв.м. Общая площадь жилфонда – 352 тыс. кв.м. Показатель жилищной обеспеченности – 22,3кв.м. на 1 ж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C:\Users\User\Desktop\ФОТО ДЛЯ ПРЕЗЕНТАЦИИ\Центральная ,.JPG"/>
          <p:cNvPicPr/>
          <p:nvPr/>
        </p:nvPicPr>
        <p:blipFill>
          <a:blip r:embed="rId1"/>
          <a:stretch/>
        </p:blipFill>
        <p:spPr>
          <a:xfrm>
            <a:off x="611280" y="1746360"/>
            <a:ext cx="2881080" cy="1612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3"/>
          <p:cNvSpPr/>
          <p:nvPr/>
        </p:nvSpPr>
        <p:spPr>
          <a:xfrm>
            <a:off x="3492360" y="1758960"/>
            <a:ext cx="513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1290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5324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333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:\Users\User\Desktop\ФОТО ДЛЯ ПРЕЗЕНТАЦИИ\д. Кедровая.JPG"/>
          <p:cNvPicPr/>
          <p:nvPr/>
        </p:nvPicPr>
        <p:blipFill>
          <a:blip r:embed="rId2"/>
          <a:stretch/>
        </p:blipFill>
        <p:spPr>
          <a:xfrm>
            <a:off x="5003640" y="3359160"/>
            <a:ext cx="3384720" cy="17254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4"/>
          <p:cNvSpPr/>
          <p:nvPr/>
        </p:nvSpPr>
        <p:spPr>
          <a:xfrm>
            <a:off x="614520" y="34732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доступности жилья и улучшение жилищных условий граждан, проживающих на территории Краснотуран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5"/>
          <p:cNvSpPr/>
          <p:nvPr/>
        </p:nvSpPr>
        <p:spPr>
          <a:xfrm>
            <a:off x="468360" y="5157720"/>
            <a:ext cx="835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беспечение земельных участков для жилищного строительства топографическими съемками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Актуализация документов территориального планирования и градостроительного зонирования 9 сельских посе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539640" y="284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в развитии   поддержке малого и среднего предпринимательства на территории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539640" y="836640"/>
            <a:ext cx="489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ов малого и среднего предпринимательства на территории Краснотуранского района - 332 ед. в т.ч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47 малых предприя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86 индивидуальных предприним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занятых в сфере малого и среднего бизнеса – 1123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 по предпринимателям малого и среднего бизнеса составил 708 млн. 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User\Desktop\ФОТО ДЛЯ ПРЕЗЕНТАЦИИ\8O.JPG"/>
          <p:cNvPicPr/>
          <p:nvPr/>
        </p:nvPicPr>
        <p:blipFill>
          <a:blip r:embed="rId1"/>
          <a:stretch/>
        </p:blipFill>
        <p:spPr>
          <a:xfrm>
            <a:off x="5435640" y="907920"/>
            <a:ext cx="3384360" cy="1657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C:\Users\User\Desktop\ФОТО ДЛЯ ПРЕЗЕНТАЦИИ\P1010020.JPG"/>
          <p:cNvPicPr/>
          <p:nvPr/>
        </p:nvPicPr>
        <p:blipFill>
          <a:blip r:embed="rId2"/>
          <a:stretch/>
        </p:blipFill>
        <p:spPr>
          <a:xfrm>
            <a:off x="673200" y="2908440"/>
            <a:ext cx="2674800" cy="17175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3"/>
          <p:cNvSpPr/>
          <p:nvPr/>
        </p:nvSpPr>
        <p:spPr>
          <a:xfrm>
            <a:off x="3348000" y="2908440"/>
            <a:ext cx="49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3905,7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4420,6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1340,2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590,0  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590,0  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590,0   тыс. руб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287280" y="4667400"/>
            <a:ext cx="87854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развития и устойчивого роста малого и среднего предпринимательства в Краснотуран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5"/>
          <p:cNvSpPr/>
          <p:nvPr/>
        </p:nvSpPr>
        <p:spPr>
          <a:xfrm>
            <a:off x="468360" y="5313240"/>
            <a:ext cx="86043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убъектов малого и среднего предпринимательства, получивших муниципальную поддержку – 10 единиц ежегод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озданных рабочих мест в секторе малого и среднего предпринимательства за период реализации программы – 19 еди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охраненных рабочих мест в секторе малого и среднего предпринимательства – 18 еди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ъем привлеченных внебюджетных инвестиций в секторе малого и среднего предпринимательства – 8,3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250920" y="11592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в развитии сельского хозяйства Краснотуранского райо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042920" y="843120"/>
            <a:ext cx="453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Краснотуранского района в реестр АПК включены 56 товаропроизв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3 акционерных общ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7 обществ с ограниченной ответственност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5 с/х кооператив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30 фермерских хозяй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гос. с\х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C:\Users\User\Desktop\ФОТО ДЛЯ ПРЕЗЕНТАЦИИ\DSC_1826.JPG"/>
          <p:cNvPicPr/>
          <p:nvPr/>
        </p:nvPicPr>
        <p:blipFill>
          <a:blip r:embed="rId1"/>
          <a:stretch/>
        </p:blipFill>
        <p:spPr>
          <a:xfrm>
            <a:off x="5580000" y="843120"/>
            <a:ext cx="3144960" cy="287316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539640" y="2637000"/>
            <a:ext cx="518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8541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8492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15507,6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5613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488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487,7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4538520" y="39337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сельских территорий, рост занятости и уровня жизни сельск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C:\Users\User\Desktop\ФОТО ДЛЯ ПРЕЗЕНТАЦИИ\а 034.jpg"/>
          <p:cNvPicPr/>
          <p:nvPr/>
        </p:nvPicPr>
        <p:blipFill>
          <a:blip r:embed="rId2"/>
          <a:stretch/>
        </p:blipFill>
        <p:spPr>
          <a:xfrm>
            <a:off x="539640" y="4221000"/>
            <a:ext cx="3562560" cy="237492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5"/>
          <p:cNvSpPr/>
          <p:nvPr/>
        </p:nvSpPr>
        <p:spPr>
          <a:xfrm>
            <a:off x="4379760" y="4869000"/>
            <a:ext cx="457200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 молодых семей и молодых специалистов,      улучшивших  жилищные условия – до 35 человек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вод жилья гражданам, проживающим в сельской местности до 2235 кв.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озмещение части затрат на уплату % по кредитам гражданам, ведущим ЛПХ до 793,7 тыс. ру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ведение мероприятий по отлову и содержанию безнадзорных животных до 3005,0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"/>
          <p:cNvSpPr/>
          <p:nvPr/>
        </p:nvSpPr>
        <p:spPr>
          <a:xfrm>
            <a:off x="468360" y="115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Управление муниципальными финансами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"/>
          <p:cNvSpPr/>
          <p:nvPr/>
        </p:nvSpPr>
        <p:spPr>
          <a:xfrm>
            <a:off x="358920" y="798480"/>
            <a:ext cx="856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джетная система Краснотуранского района включает в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йонный бюдж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9 сельских посе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лномоченный орган в сфере управления финансами – Финансовое управление Администраци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58640" y="1992240"/>
            <a:ext cx="394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66369,8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66726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69489,2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69488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68147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68147,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C:\Users\User\Desktop\ФОТО ДЛЯ ПРЕЗЕНТАЦИИ\бюджет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43280" cy="17478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4"/>
          <p:cNvSpPr/>
          <p:nvPr/>
        </p:nvSpPr>
        <p:spPr>
          <a:xfrm>
            <a:off x="468360" y="3602160"/>
            <a:ext cx="835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ение долгосрочной сбалансированности и устойчивости бюджетной системы, повышение качества и прозрачности управления муниципальными финанс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184320" y="4395960"/>
            <a:ext cx="892800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минимального размера бюджетной обеспеченности – 9,9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ст объема налоговых и неналоговых доходов местных бюджетов в общем объеме доходов местных бюдж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в местных бюджетах просроченной кредиторской задолженности по выплате заработной платы с начислениями работникам бюджетной сферы и по исполнению обязательств перед гражд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выплат из районного бюджета сумм, связанных с несвоевременным исполнением долговых обязатель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доли расходов районного бюджета, формируемых в рамках муниципальных програм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е составление проекта районного бюджета и отчета об исполнении районного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исполнения расходных обязательств рай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чественное планирование доходов районного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квалификации муниципальных служащих, работающих в финансовом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хема 3" descr=""/>
          <p:cNvPicPr/>
          <p:nvPr/>
        </p:nvPicPr>
        <p:blipFill>
          <a:blip r:embed="rId1"/>
          <a:stretch/>
        </p:blipFill>
        <p:spPr>
          <a:xfrm>
            <a:off x="560520" y="500040"/>
            <a:ext cx="808344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1608120" y="115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лефоны Финансового управления администрации Краснотуран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4"/>
          <p:cNvSpPr/>
          <p:nvPr/>
        </p:nvSpPr>
        <p:spPr>
          <a:xfrm>
            <a:off x="1079640" y="21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афик приема граждан руководителем Финансового управления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1685880" y="1052640"/>
            <a:ext cx="59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ководитель - 8(39134)21-2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бюджетного планирования – 8(39134)21-2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финансового контроля и отчетности – 8(39134)22-3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04800" y="2852640"/>
          <a:ext cx="6061320" cy="789120"/>
        </p:xfrm>
        <a:graphic>
          <a:graphicData uri="http://schemas.openxmlformats.org/drawingml/2006/table">
            <a:tbl>
              <a:tblPr/>
              <a:tblGrid>
                <a:gridCol w="2551320"/>
                <a:gridCol w="1800000"/>
                <a:gridCol w="1710000"/>
              </a:tblGrid>
              <a:tr h="270000">
                <a:tc>
                  <a:txBody>
                    <a:bodyPr lIns="0" rIns="0" tIns="0" bIns="0" anchor="t">
                      <a:noAutofit/>
                    </a:bodyPr>
                    <a:p>
                      <a:pPr marL="57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Дни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Часы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телеф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marL="57240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Ежедневно ( понедельник – пятниц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0040">
                        <a:lnSpc>
                          <a:spcPts val="20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8.00-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13.00-16.</a:t>
                      </a: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7440" algn="ctr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8(39134)21-2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Прямоугольник 7"/>
          <p:cNvSpPr/>
          <p:nvPr/>
        </p:nvSpPr>
        <p:spPr>
          <a:xfrm>
            <a:off x="1079640" y="3897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лено Финансовым управлением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8"/>
          <p:cNvSpPr/>
          <p:nvPr/>
        </p:nvSpPr>
        <p:spPr>
          <a:xfrm>
            <a:off x="2340000" y="4816440"/>
            <a:ext cx="42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pub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03407@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krasmail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ная информ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Краснотуранск, ул. Карла Маркса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: (39134) 21-2-32, 21-2-35, 22-3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52760" y="1989000"/>
            <a:ext cx="5838480" cy="4392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Бюджет для граждан» основные параметры решения Краснотуранского районного Совета о районном бюджете в доступной и понятной форме для широкого круга заинтересованных пользовате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едставленной информации отражены параметры районного бюджета на предстоящие три года: 2017, 2018 и 2019 годы. Здесь представлены основные бюджетные показатели: доходы, расходы, их направления и объемы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32400" indent="-2649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– это поступающие в бюджет денежные сре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spcBef>
                <a:spcPts val="1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выплачиваемые из бюджета денежные сре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превышение расходов бюджета над его дохода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цит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превышение доходов бюджета над его расхода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нсированность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соответствие объема предусмотренных бюджетом расходов объему доходов бюджет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ламентируемая законодательством Российской Федерации деятельность органов государственной власти, органов местного самоуправления и иных участников бюджетного процесса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юджетная роспис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кумент, который составляется и ведется: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- главным распорядителем бюджетных средств в целях исполнения бюджета по расходам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главным администратором источников финансирования дефицита бюджета – в целях исполнения бюджета в части источников финансирования дефицита бюджет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-126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Aharoni"/>
              </a:rPr>
              <a:t>Межбюджетные трансфер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4800" y="1807920"/>
            <a:ext cx="2347920" cy="138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безвозмездной и безвозвратной основе без установления направлений и (или) условий их исполь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95760" y="1881000"/>
            <a:ext cx="213516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целях софинансирования расходных обязательств, возникающих при выполнении полномочий органов местного самоуправления по вопросам местного значения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5157360"/>
            <a:ext cx="4327560" cy="1484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целях финансового обеспечения расходных обязательств муниципальных образований, возникающих при выполнении государственных полномочий Российской федерации, субъектов Российской Федерации, переданных для осуществления органам местного самоуправления в установленном порядке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508360" y="5157360"/>
            <a:ext cx="3422520" cy="145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случаях и порядке, предусмотренных законами субъекта Российской Федерации и принимаемыми в соответствии с ними иными нормативными правовыми актами органов государственной власти субъектов Российской Федерации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Скругленный прямоугольник 6"/>
          <p:cNvSpPr/>
          <p:nvPr/>
        </p:nvSpPr>
        <p:spPr>
          <a:xfrm>
            <a:off x="465120" y="1160640"/>
            <a:ext cx="26226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t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р, пожертвова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7"/>
          <p:cNvSpPr/>
          <p:nvPr/>
        </p:nvSpPr>
        <p:spPr>
          <a:xfrm>
            <a:off x="5946840" y="11635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С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щь, поддерж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трелка вверх 8"/>
          <p:cNvSpPr/>
          <p:nvPr/>
        </p:nvSpPr>
        <p:spPr>
          <a:xfrm rot="19369800">
            <a:off x="2908080" y="1969560"/>
            <a:ext cx="358560" cy="45900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"/>
          <p:cNvSpPr/>
          <p:nvPr/>
        </p:nvSpPr>
        <p:spPr>
          <a:xfrm>
            <a:off x="2859120" y="2527200"/>
            <a:ext cx="335448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, предоставляемые одним бюджетом бюджетной системы Российской Федерации другому бюджету бюджетной системы Российской Федерации ( статься 6 Бюджетного кодекса Российской Федерации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верх 10"/>
          <p:cNvSpPr/>
          <p:nvPr/>
        </p:nvSpPr>
        <p:spPr>
          <a:xfrm rot="13623600">
            <a:off x="3067560" y="410076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верх 11"/>
          <p:cNvSpPr/>
          <p:nvPr/>
        </p:nvSpPr>
        <p:spPr>
          <a:xfrm rot="2470200">
            <a:off x="5664240" y="197172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верх 12"/>
          <p:cNvSpPr/>
          <p:nvPr/>
        </p:nvSpPr>
        <p:spPr>
          <a:xfrm rot="7954200">
            <a:off x="5647320" y="412344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3"/>
          <p:cNvSpPr/>
          <p:nvPr/>
        </p:nvSpPr>
        <p:spPr>
          <a:xfrm>
            <a:off x="376200" y="4437000"/>
            <a:ext cx="2583000" cy="67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venire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ь на помощь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4"/>
          <p:cNvSpPr/>
          <p:nvPr/>
        </p:nvSpPr>
        <p:spPr>
          <a:xfrm>
            <a:off x="6116760" y="4468680"/>
            <a:ext cx="2692440" cy="67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17928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сновные этапы бюджет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ставление и рассмотрение проекта бюджета, утверждение бюджета – сложный и многоуровневый процесс. Составление, рассмотрение и утверждение бюджета происходит ежегодн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ение проекта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епосредственное составление проекта районного бюджета осуществляет финансовое управление администрации Краснотуранского района на основании Положения о порядке и сроках разработки решения Краснотуранского района о бюджете  на очередной финансовый год и плановый период, утвержденного постановлением Администрации Краснотуранского района от 01.11.2016г. № 543-п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смотрение проекта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роект районного бюджета рассматривается и одобряется Комиссией по вопросам  социально-экономического развития Краснотуранского района и по бюджетным проектировкам на очередной финансовый год и плановый период для внесения его Главой Краснотуранского района в районный Совет депутатов не позднее 15 ноября текущего финансового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проекту районного бюджета проводятся публичные слушания. Краснотуранский районный Совет рассматривает проект районного бюдже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Утверждение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Районный бюджет утверждается Краснотуранским районным Советом депутатов в форме решения районного Совета депутатов на очередной сесс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районном  бюджете на 2017 год и плановый период 2018-2019 годов» подготовлено  в соответствии  с вступившими  в силу изменениями  в Бюджетный кодекс Российской Федерации от 03.02.2014 года, принципами, сформулированными  в Бюджетном послании Президента Российской Федерации о бюджетной политике в 2017-2019 годах; основными направлениями  бюджетной  и налоговой политики Краснотуранского района  на  2017 год и плановый период 2018-2019 годов, основными параметрами прогноза социально-экономического развития Краснотуранского района на 2017 год и плановый период 2018-2019 годов, а также федеральным и краевым  бюджетным и  налоговым  законодательств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сформирован на основе утвержденных Администрацией Краснотуранского района 10 муниципальных програм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2:38Z</dcterms:created>
  <dc:creator>Konsultant</dc:creator>
  <dc:description/>
  <dc:language>en-US</dc:language>
  <cp:lastModifiedBy>User</cp:lastModifiedBy>
  <cp:lastPrinted>2017-03-27T06:40:26Z</cp:lastPrinted>
  <dcterms:modified xsi:type="dcterms:W3CDTF">2017-03-27T07:59:29Z</dcterms:modified>
  <cp:revision>107</cp:revision>
  <dc:subject/>
  <dc:title>Бюджет для граждан Краснотуранского района на 2014 год и плановый период 2015-2016 годов</dc:title>
</cp:coreProperties>
</file>